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2.jpeg" ContentType="image/jpeg"/>
  <Override PartName="/ppt/media/image34.png" ContentType="image/png"/>
  <Override PartName="/ppt/media/image12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7D2-D12C-486F-9D3F-DBB8499B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EE8-2D8B-4FDC-A94D-8B0B5D1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36E-ED06-4180-94B7-935B7E6F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788-5B6F-415C-A93D-4E97260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11C-B32E-429F-91CD-4E6D3AA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987-C5A8-4260-B8B6-E25F649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DD1-1CB0-4787-ADEC-30D8C4D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AAA-6AE1-478C-88C9-6116B851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E77-6D46-4421-9351-AE1D768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1C7-5650-4455-AB97-D3A51B40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D18-5AF6-4A28-84BD-D966D28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64C-126C-47AF-A524-C1F36E3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57A-4E46-49B6-B5BE-9B84530B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685800"/>
            <a:ext cx="76201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ВОЛШЕБНЫЙ 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838080"/>
            <a:ext cx="27054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МИР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4038480"/>
            <a:ext cx="51148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БИСЕРА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314720" cy="1666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038480" y="3352680"/>
            <a:ext cx="464832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ьмем леску длиной примерно 1,5 м. с двумя иголками на концах и выполним цепочку в крести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ина цепочки должна соответствовать размеру ширины пояска и состоять из четного числа пар бисеринок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бисер(яйцо2)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3048120" cy="3371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43400" y="1905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-эта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33720" y="380880"/>
            <a:ext cx="416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плетенное яйцо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Техника выпол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8006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риал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готовка размером с крупное куриное яйцо, бисер №9 - 15 гр. розового, 7 гр. малинового, по 5 гр. белого и "золотого"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705720" cy="4495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880" y="4495680"/>
            <a:ext cx="845820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8400">
            <a:off x="762120" y="8377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ерь необходимо оплести макушечки. Первый ряд подплетаем вдоль кромки "пояска". Все последующие ряды делаем меньше предыдущего. Уменьшение делайте , как показано на схем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685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09680" y="152280"/>
            <a:ext cx="41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хема оплетения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57360" y="1752480"/>
            <a:ext cx="6029280" cy="237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УСПЕХОВ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dk1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3733920" cy="267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666880" y="990720"/>
            <a:ext cx="34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нструмент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4876920"/>
            <a:ext cx="27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материал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765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исер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2286000"/>
            <a:ext cx="1219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уб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365760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уси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2819520"/>
            <a:ext cx="1371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еклярус</a:t>
            </a:r>
            <a:endParaRPr b="1" i="1" lang="en-US" sz="20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2668800">
            <a:off x="6678360" y="1589040"/>
            <a:ext cx="1184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ит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368800">
            <a:off x="6668640" y="222084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л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2248800">
            <a:off x="6400440" y="2895120"/>
            <a:ext cx="154152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Фурнитур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2309400">
            <a:off x="6553080" y="3657600"/>
            <a:ext cx="14479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жниц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1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2666880" cy="2041560"/>
          </a:xfrm>
          <a:prstGeom prst="rect">
            <a:avLst/>
          </a:prstGeom>
          <a:ln w="0">
            <a:noFill/>
          </a:ln>
        </p:spPr>
      </p:pic>
      <p:pic>
        <p:nvPicPr>
          <p:cNvPr id="66" name="бисер(шнур-зима)" descr=""/>
          <p:cNvPicPr/>
          <p:nvPr/>
        </p:nvPicPr>
        <p:blipFill>
          <a:blip r:embed="rId3"/>
          <a:stretch/>
        </p:blipFill>
        <p:spPr>
          <a:xfrm>
            <a:off x="3200400" y="388620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бисер(колье)" descr=""/>
          <p:cNvPicPr/>
          <p:nvPr/>
        </p:nvPicPr>
        <p:blipFill>
          <a:blip r:embed="rId4"/>
          <a:stretch/>
        </p:blipFill>
        <p:spPr>
          <a:xfrm>
            <a:off x="3200400" y="114300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бисер(браслет)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бисер%20(роза)" descr=""/>
          <p:cNvPicPr/>
          <p:nvPr/>
        </p:nvPicPr>
        <p:blipFill>
          <a:blip r:embed="rId6"/>
          <a:stretch/>
        </p:blipFill>
        <p:spPr>
          <a:xfrm>
            <a:off x="1522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3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666880" y="30492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Галерея работ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Колье «Роз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352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Колье «Янтарно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27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Браслет «Янтарны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Колье и брас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Шнур «Зим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6172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Колье и серь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14600" y="152280"/>
            <a:ext cx="406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асхальные яйц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бисер(лилия)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5081760" cy="5765760"/>
          </a:xfrm>
          <a:prstGeom prst="rect">
            <a:avLst/>
          </a:prstGeom>
          <a:ln w="0">
            <a:noFill/>
          </a:ln>
        </p:spPr>
      </p:pic>
      <p:pic>
        <p:nvPicPr>
          <p:cNvPr id="88" name="бисер(яйцо2)" descr=""/>
          <p:cNvPicPr/>
          <p:nvPr/>
        </p:nvPicPr>
        <p:blipFill>
          <a:blip r:embed="rId3"/>
          <a:stretch/>
        </p:blipFill>
        <p:spPr>
          <a:xfrm>
            <a:off x="1981080" y="762120"/>
            <a:ext cx="50292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бисер(яйцо4)" descr=""/>
          <p:cNvPicPr/>
          <p:nvPr/>
        </p:nvPicPr>
        <p:blipFill>
          <a:blip r:embed="rId4"/>
          <a:stretch/>
        </p:blipFill>
        <p:spPr>
          <a:xfrm>
            <a:off x="1981080" y="762120"/>
            <a:ext cx="5029200" cy="5790960"/>
          </a:xfrm>
          <a:prstGeom prst="rect">
            <a:avLst/>
          </a:prstGeom>
          <a:ln w="0">
            <a:noFill/>
          </a:ln>
        </p:spPr>
      </p:pic>
      <p:pic>
        <p:nvPicPr>
          <p:cNvPr id="90" name="бисер(яйцо5)" descr=""/>
          <p:cNvPicPr/>
          <p:nvPr/>
        </p:nvPicPr>
        <p:blipFill>
          <a:blip r:embed="rId5"/>
          <a:stretch/>
        </p:blipFill>
        <p:spPr>
          <a:xfrm>
            <a:off x="1981080" y="762120"/>
            <a:ext cx="5029200" cy="5841720"/>
          </a:xfrm>
          <a:prstGeom prst="rect">
            <a:avLst/>
          </a:prstGeom>
          <a:ln w="0">
            <a:noFill/>
          </a:ln>
        </p:spPr>
      </p:pic>
      <p:pic>
        <p:nvPicPr>
          <p:cNvPr id="91" name="бисер(яйцо-кролик)" descr=""/>
          <p:cNvPicPr/>
          <p:nvPr/>
        </p:nvPicPr>
        <p:blipFill>
          <a:blip r:embed="rId6"/>
          <a:stretch/>
        </p:blipFill>
        <p:spPr>
          <a:xfrm>
            <a:off x="1981080" y="762120"/>
            <a:ext cx="5029200" cy="5792760"/>
          </a:xfrm>
          <a:prstGeom prst="rect">
            <a:avLst/>
          </a:prstGeom>
          <a:ln w="0">
            <a:noFill/>
          </a:ln>
        </p:spPr>
      </p:pic>
      <p:pic>
        <p:nvPicPr>
          <p:cNvPr id="92" name="бисер(яйцо-лето)" descr=""/>
          <p:cNvPicPr/>
          <p:nvPr/>
        </p:nvPicPr>
        <p:blipFill>
          <a:blip r:embed="rId7"/>
          <a:stretch/>
        </p:blipFill>
        <p:spPr>
          <a:xfrm>
            <a:off x="1981080" y="762120"/>
            <a:ext cx="5029200" cy="5817960"/>
          </a:xfrm>
          <a:prstGeom prst="rect">
            <a:avLst/>
          </a:prstGeom>
          <a:ln w="0">
            <a:noFill/>
          </a:ln>
        </p:spPr>
      </p:pic>
      <p:pic>
        <p:nvPicPr>
          <p:cNvPr id="93" name="бисер(яйцо-ромашка)" descr=""/>
          <p:cNvPicPr/>
          <p:nvPr/>
        </p:nvPicPr>
        <p:blipFill>
          <a:blip r:embed="rId8"/>
          <a:stretch/>
        </p:blipFill>
        <p:spPr>
          <a:xfrm>
            <a:off x="2030400" y="762120"/>
            <a:ext cx="4979880" cy="5841720"/>
          </a:xfrm>
          <a:prstGeom prst="rect">
            <a:avLst/>
          </a:prstGeom>
          <a:ln w="0">
            <a:noFill/>
          </a:ln>
        </p:spPr>
      </p:pic>
      <p:pic>
        <p:nvPicPr>
          <p:cNvPr id="94" name="бисер(яйцо-цветы)" descr=""/>
          <p:cNvPicPr/>
          <p:nvPr/>
        </p:nvPicPr>
        <p:blipFill>
          <a:blip r:embed="rId9"/>
          <a:stretch/>
        </p:blipFill>
        <p:spPr>
          <a:xfrm>
            <a:off x="1981080" y="762120"/>
            <a:ext cx="5029200" cy="5800680"/>
          </a:xfrm>
          <a:prstGeom prst="rect">
            <a:avLst/>
          </a:prstGeom>
          <a:ln w="0">
            <a:noFill/>
          </a:ln>
        </p:spPr>
      </p:pic>
      <p:pic>
        <p:nvPicPr>
          <p:cNvPr id="95" name="бисер(ёлочка)" descr=""/>
          <p:cNvPicPr/>
          <p:nvPr/>
        </p:nvPicPr>
        <p:blipFill>
          <a:blip r:embed="rId10"/>
          <a:stretch/>
        </p:blipFill>
        <p:spPr>
          <a:xfrm>
            <a:off x="2030400" y="762120"/>
            <a:ext cx="4979880" cy="58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бисер(работы)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477120" cy="518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286000" y="304920"/>
            <a:ext cx="426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Вышивка бисером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бисер(работы)2" descr=""/>
          <p:cNvPicPr/>
          <p:nvPr/>
        </p:nvPicPr>
        <p:blipFill>
          <a:blip r:embed="rId3"/>
          <a:stretch/>
        </p:blipFill>
        <p:spPr>
          <a:xfrm>
            <a:off x="1295280" y="1066680"/>
            <a:ext cx="6400800" cy="5105520"/>
          </a:xfrm>
          <a:prstGeom prst="rect">
            <a:avLst/>
          </a:prstGeom>
          <a:ln w="0">
            <a:noFill/>
          </a:ln>
        </p:spPr>
      </p:pic>
      <p:pic>
        <p:nvPicPr>
          <p:cNvPr id="99" name="бисер(обложка)" descr=""/>
          <p:cNvPicPr/>
          <p:nvPr/>
        </p:nvPicPr>
        <p:blipFill>
          <a:blip r:embed="rId4"/>
          <a:stretch/>
        </p:blipFill>
        <p:spPr>
          <a:xfrm>
            <a:off x="1295280" y="1066680"/>
            <a:ext cx="640080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бисер(работы)1" descr=""/>
          <p:cNvPicPr/>
          <p:nvPr/>
        </p:nvPicPr>
        <p:blipFill>
          <a:blip r:embed="rId5"/>
          <a:stretch/>
        </p:blipFill>
        <p:spPr>
          <a:xfrm>
            <a:off x="1295280" y="10666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96252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396216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724280" y="4038480"/>
            <a:ext cx="3962520" cy="144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609480"/>
            <a:ext cx="502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остейшие цепочк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упыры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3526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упырышки ромб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791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Кривуль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791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Зме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240" y="1764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31400" y="98280"/>
            <a:ext cx="0" cy="685800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11240" y="682632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560" y="84240"/>
            <a:ext cx="0" cy="685800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114300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1133280" cy="271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09680" y="838080"/>
            <a:ext cx="1295640" cy="26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86200" y="4419720"/>
            <a:ext cx="1666800" cy="1895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638680" y="914400"/>
            <a:ext cx="114300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391520" y="914400"/>
            <a:ext cx="1066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629400" y="4191120"/>
            <a:ext cx="1066680" cy="1838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523880" y="4191120"/>
            <a:ext cx="106704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581280" y="152280"/>
            <a:ext cx="219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одвеск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40" y="3960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99720" y="111240"/>
            <a:ext cx="0" cy="685800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7960" y="6819840"/>
            <a:ext cx="9144000" cy="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1680" y="-209520"/>
            <a:ext cx="0" cy="6858000"/>
          </a:xfrm>
          <a:prstGeom prst="line">
            <a:avLst/>
          </a:prstGeom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ис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24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ис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172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320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705720" y="16002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533520" y="42670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781680" y="4267080"/>
            <a:ext cx="180972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14600" y="380880"/>
            <a:ext cx="373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ямое плоское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71800" y="1219320"/>
            <a:ext cx="278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(мозаичное)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00400" y="2209680"/>
            <a:ext cx="2295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летение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5029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400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и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рис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7032" t="27086" r="62501" b="32293"/>
          <a:stretch/>
        </p:blipFill>
        <p:spPr>
          <a:xfrm>
            <a:off x="5029200" y="2819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35937" t="36221" r="35937" b="34464"/>
          <a:stretch/>
        </p:blipFill>
        <p:spPr>
          <a:xfrm>
            <a:off x="762120" y="2895480"/>
            <a:ext cx="2743200" cy="2144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362320" y="228600"/>
            <a:ext cx="38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ямое плоское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124080" y="914400"/>
            <a:ext cx="24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летение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76720" y="1752480"/>
            <a:ext cx="1847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"сетка"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и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и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7:09:00Z</dcterms:created>
  <dc:creator>Лариса</dc:creator>
  <dc:description/>
  <dc:language>en-US</dc:language>
  <cp:lastModifiedBy>Лариса</cp:lastModifiedBy>
  <dcterms:modified xsi:type="dcterms:W3CDTF">2001-08-28T05:21:06Z</dcterms:modified>
  <cp:revision>4</cp:revision>
  <dc:subject/>
  <dc:title>Заголовок слайда отсутствует</dc:title>
</cp:coreProperties>
</file>