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F71-593E-4170-B7DA-17450AC6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D57-E668-4726-A996-81003CF2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2DB-FF9E-4201-A0C4-3669B714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216-E963-4C60-8537-9F51048B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FD2-7239-4531-89CA-17047D2E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F58-B99F-4834-8BFC-D67368E1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15D-5328-438A-92A6-0F430C53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893-48F9-4089-B00F-54CAB83F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EA7-AA56-4687-A0F8-6337EA24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45E-374A-4CF0-9D74-497F822D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51B-1145-49CE-A7AD-1D092821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C5F-0877-4D18-90BD-2E5ED23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0BC5-D2F0-45A7-98AC-31BF0153D2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1542960"/>
            <a:ext cx="80406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&amp;Vcy;&amp;ocy;&amp;zcy;&amp;dcy;&amp;ucy;&amp;shcy;&amp;ncy;&amp;ycy;&amp;jcy; &amp;zcy;&amp;mcy;&amp;iecy;&amp;jcy; &amp;Dcy;&amp;iecy;&amp;ncy;&amp;softcy; &amp;icy; &amp;Ncy;&amp;ocy;&amp;chcy;&amp;softcy; "/>
          <p:cNvPicPr/>
          <p:nvPr/>
        </p:nvPicPr>
        <p:blipFill>
          <a:blip r:embed="rId1"/>
          <a:stretch/>
        </p:blipFill>
        <p:spPr>
          <a:xfrm>
            <a:off x="1285920" y="214200"/>
            <a:ext cx="642924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amp;Dcy;&amp;iecy;&amp;ncy;&amp;softcy; &amp;icy; &amp;ncy;&amp;ocy;&amp;chcy;&amp;softcy;"/>
          <p:cNvPicPr/>
          <p:nvPr/>
        </p:nvPicPr>
        <p:blipFill>
          <a:blip r:embed="rId1"/>
          <a:stretch/>
        </p:blipFill>
        <p:spPr>
          <a:xfrm>
            <a:off x="714240" y="3571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amp;Dcy;&amp;iecy;&amp;ncy;&amp;softcy; &amp;icy; &amp;ncy;&amp;ocy;&amp;chcy;&amp;softcy;"/>
          <p:cNvPicPr/>
          <p:nvPr/>
        </p:nvPicPr>
        <p:blipFill>
          <a:blip r:embed="rId1"/>
          <a:stretch/>
        </p:blipFill>
        <p:spPr>
          <a:xfrm>
            <a:off x="571680" y="50004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&amp;Dcy;&amp;iecy;&amp;ncy;&amp;softcy; &amp;icy; &amp;ncy;&amp;ocy;&amp;chcy;&amp;softcy;"/>
          <p:cNvPicPr/>
          <p:nvPr/>
        </p:nvPicPr>
        <p:blipFill>
          <a:blip r:embed="rId1"/>
          <a:stretch/>
        </p:blipFill>
        <p:spPr>
          <a:xfrm>
            <a:off x="785880" y="357120"/>
            <a:ext cx="78105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&amp;Vcy;&amp;iecy;&amp;kcy;&amp;tcy;&amp;ocy;&amp;rcy;&amp;ncy;&amp;acy;&amp;yacy; &amp;icy;&amp;lcy;&amp;lcy;&amp;yucy;&amp;scy;&amp;tcy;&amp;rcy;&amp;acy;&amp;tscy;&amp;icy;&amp;yacy; - &amp;Dcy;&amp;iecy;&amp;ncy;&amp;softcy; &amp;icy; &amp;Ncy;&amp;ocy;&amp;chcy;&amp;softcy;"/>
          <p:cNvPicPr/>
          <p:nvPr/>
        </p:nvPicPr>
        <p:blipFill>
          <a:blip r:embed="rId1"/>
          <a:stretch/>
        </p:blipFill>
        <p:spPr>
          <a:xfrm>
            <a:off x="500040" y="642960"/>
            <a:ext cx="7728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stihi.ru/pics/2010/06/08/8601.jpg"/>
          <p:cNvPicPr/>
          <p:nvPr/>
        </p:nvPicPr>
        <p:blipFill>
          <a:blip r:embed="rId1"/>
          <a:srcRect l="0" t="0" r="0" b="26628"/>
          <a:stretch/>
        </p:blipFill>
        <p:spPr>
          <a:xfrm>
            <a:off x="1857240" y="285840"/>
            <a:ext cx="5801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&amp;Pcy;&amp;Tcy;&amp;Icy;&amp;TScy;&amp;Ycy;. &amp;Dcy;&amp;IEcy;&amp;Ncy;&amp;SOFTcy; &amp;icy; &amp;Ncy;&amp;Ocy;&amp;CHcy;&amp;SOFTcy;."/>
          <p:cNvPicPr/>
          <p:nvPr/>
        </p:nvPicPr>
        <p:blipFill>
          <a:blip r:embed="rId1"/>
          <a:stretch/>
        </p:blipFill>
        <p:spPr>
          <a:xfrm>
            <a:off x="2214720" y="142920"/>
            <a:ext cx="485748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artgide.com/uploads/posts/cliparts/c75feff16d7235cb9e3f643f9260ba3b.jpg"/>
          <p:cNvPicPr/>
          <p:nvPr/>
        </p:nvPicPr>
        <p:blipFill>
          <a:blip r:embed="rId1"/>
          <a:stretch/>
        </p:blipFill>
        <p:spPr>
          <a:xfrm>
            <a:off x="1571760" y="214200"/>
            <a:ext cx="62863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025.radikal.ru/1105/53/e9e992ca84a1.jpg"/>
          <p:cNvPicPr/>
          <p:nvPr/>
        </p:nvPicPr>
        <p:blipFill>
          <a:blip r:embed="rId1"/>
          <a:stretch/>
        </p:blipFill>
        <p:spPr>
          <a:xfrm>
            <a:off x="1857240" y="142920"/>
            <a:ext cx="6154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kinofilms.tv/images/films/18/17799/pict/3.jpg"/>
          <p:cNvPicPr/>
          <p:nvPr/>
        </p:nvPicPr>
        <p:blipFill>
          <a:blip r:embed="rId1"/>
          <a:stretch/>
        </p:blipFill>
        <p:spPr>
          <a:xfrm>
            <a:off x="642960" y="285840"/>
            <a:ext cx="79056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&amp;Ocy;&amp;bcy;&amp;ocy;&amp;icy;, &amp;kcy;&amp;acy;&amp;rcy;&amp;tcy;&amp;icy;&amp;ncy;&amp;kcy;&amp;icy; &amp;Fcy;&amp;ecy;&amp;ncy;&amp;tcy;&amp;iecy;&amp;zcy;&amp;icy; : &amp;Dcy;&amp;iecy;&amp;ncy;&amp;softcy; &amp;icy; &amp;Ncy;&amp;ocy;&amp;chcy;&amp;softcy;  184907"/>
          <p:cNvPicPr/>
          <p:nvPr/>
        </p:nvPicPr>
        <p:blipFill>
          <a:blip r:embed="rId1"/>
          <a:stretch/>
        </p:blipFill>
        <p:spPr>
          <a:xfrm>
            <a:off x="857160" y="428760"/>
            <a:ext cx="739296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amp;Dcy;&amp;iecy;&amp;ncy;&amp;softcy; &amp;icy; &amp;ncy;&amp;ocy;&amp;chcy;&amp;softcy; &amp;vcy; &amp;ocy;&amp;dcy;&amp;ncy;&amp;ocy;&amp;mcy; &amp;kcy;&amp;acy;&amp;dcy;&amp;rcy;&amp;iecy;: &amp;ucy;&amp;dcy;&amp;icy;&amp;vcy;&amp;icy;&amp;tcy;&amp;iecy;&amp;lcy;&amp;softcy;&amp;ncy;&amp;ycy;&amp;iecy; &amp;fcy;&amp;ocy;&amp;tcy;&amp;ocy;&amp;gcy;&amp;rcy;&amp;acy;&amp;fcy;&amp;icy;&amp;icy;"/>
          <p:cNvPicPr/>
          <p:nvPr/>
        </p:nvPicPr>
        <p:blipFill>
          <a:blip r:embed="rId1"/>
          <a:stretch/>
        </p:blipFill>
        <p:spPr>
          <a:xfrm>
            <a:off x="214200" y="142920"/>
            <a:ext cx="3951360" cy="5500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&amp;Dcy;&amp;iecy;&amp;ncy;&amp;softcy; &amp;icy; &amp;ncy;&amp;ocy;&amp;chcy;&amp;softcy; &amp;vcy; &amp;ocy;&amp;dcy;&amp;ncy;&amp;ocy;&amp;mcy; &amp;kcy;&amp;acy;&amp;dcy;&amp;rcy;&amp;iecy;: &amp;ucy;&amp;dcy;&amp;icy;&amp;vcy;&amp;icy;&amp;tcy;&amp;iecy;&amp;lcy;&amp;softcy;&amp;ncy;&amp;ycy;&amp;iecy; &amp;fcy;&amp;ocy;&amp;tcy;&amp;ocy;&amp;gcy;&amp;rcy;&amp;acy;&amp;fcy;&amp;icy;&amp;icy;"/>
          <p:cNvPicPr/>
          <p:nvPr/>
        </p:nvPicPr>
        <p:blipFill>
          <a:blip r:embed="rId2"/>
          <a:stretch/>
        </p:blipFill>
        <p:spPr>
          <a:xfrm>
            <a:off x="4714920" y="785880"/>
            <a:ext cx="4076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5:16Z</dcterms:created>
  <dc:creator>qqq</dc:creator>
  <dc:description/>
  <dc:language>en-US</dc:language>
  <cp:lastModifiedBy>qqq</cp:lastModifiedBy>
  <dcterms:modified xsi:type="dcterms:W3CDTF">2011-11-14T14:37:06Z</dcterms:modified>
  <cp:revision>3</cp:revision>
  <dc:subject/>
  <dc:title>Слайд 1</dc:title>
</cp:coreProperties>
</file>