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A6C-5D2D-40A6-9708-BBA0FE2D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FE73-CE2D-4484-AFB4-3F0CFE9F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AFC-206E-43BA-9C45-5C883A17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0845-033A-4FE2-9805-8B54DAB9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DF49-5411-4B48-9AAF-17F9F62D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FF18-0EBC-4194-9F23-39462388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EAA4-6FC5-4AEC-8C31-91617E4C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7124-FAFE-4811-A5F2-4814FE88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5425-8FE2-42D3-86F8-E821F86F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57C7-A7F8-4C18-98F7-F688560B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D99B-8C89-426C-9369-17E3E9C2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C344-C247-4297-886B-16D3F71F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242B-B3D7-45FB-BFF2-4883AC41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C62B-DA75-4C5A-8D7E-017DBE33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6AB0-7465-494E-9C66-30D6E1F1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50C3-C8ED-4E71-ABD6-DBD291D5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70A5-77D2-4CEB-97D9-E4D798E4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4CF3E-A26F-4A76-A06D-0FD39543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26EEC-5A2F-4AB3-BE0B-ED85821F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B1C6B-AE33-4AD5-82D7-AE0A6DB7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26FD2-3364-4172-B0FA-A6F6C009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FB91E-08BB-4E81-AE31-E69DC351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6F1-A5BC-435B-8E9C-732FCD44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FAB64-A677-42A0-A5D0-FA7EC8C5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A7CB7-CF58-433E-AF1A-E0252CA5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67F5F-29DA-44E9-9B22-5410DFAF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F498A-D424-4910-8D89-9FCC261E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5DC76-E6E3-4FE7-8EE6-1C799779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381AD-6299-4AC5-A433-31351733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49D98-2779-4ACB-A7A1-1B0FA5AD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97EE1-7A7D-4039-9738-C9A965A1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E3A1C-8D87-45BF-A045-064DD9D5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613EF-FE25-460B-BD00-92E0BA60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30A-FE15-4CA3-B66F-CC7ED792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1EE24-D5BB-415F-B374-DEFC8B3B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01B3A-9C0C-42B6-BF14-9A53B6BD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517C2-7976-491A-B92E-7EE4A055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6C7DF-4CC4-4793-8AFC-0B38F5D4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D083E-5F5F-4492-996F-F8AD8D02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7E6D2-7660-41C4-925E-B6484A72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064C2-89FB-4A24-A6FF-56303F05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E0F39-5B67-4FAC-81C1-384C951A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027C8-1BD2-4D47-8BF1-B3DD8E0D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FE4FF-0419-4398-B4A8-92D73C1C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43F-2A4F-48E2-A194-6D0E62AB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F996A-2346-4752-A2C3-5201C5A7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BAB56-012F-472A-BBE5-E5B0DC8F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177B4-C912-4F03-900A-49116506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3FC3A-D756-4F51-912B-B695D772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4063B-B83D-4C49-94DA-4D29F8C5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7C3BB-2D7A-4CD7-85C8-3457EDCB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4EF40-E052-469A-B28B-2A271334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ABD84-2BE3-4E7E-BE4C-36CD70EE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E5BA6-AFE8-4DFF-AE6D-CE52CEAD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AB3A7-651B-42F1-A853-2358F0FE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60B9-CED3-4E6C-A9AF-B13B8D14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E4EF9-D7DB-4710-98C3-C0E7924C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5B1-5E1A-411B-9AC8-8F16EE28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C7B-F99B-4ACE-B759-4B71084E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49D-6A31-4CE3-B065-64A19FEB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8B27-029D-4F8C-B43E-E38DE9FF4EB7}" type="slidenum">
              <a:rPr b="0" lang="ru-RU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D2D3-C4FD-4E07-81AA-1BBE2B5123CC}" type="slidenum">
              <a:rPr b="0" lang="ru-RU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1886-42DD-4FC3-B859-F088BD2DCA81}" type="slidenum">
              <a:rPr b="0" lang="ru-RU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C34D-08C5-4EAF-ADF1-0FDAA5B559C7}" type="slidenum">
              <a:rPr b="0" lang="ru-RU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C572-F79C-4B45-A550-243913FE93A5}" type="slidenum">
              <a:rPr b="0" lang="ru-RU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1870200" y="1214280"/>
            <a:ext cx="5594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8 февраля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ень российской нау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1772640" y="3286080"/>
            <a:ext cx="581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Тайны созданья, загадки прир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Людей волновали, манили всег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Разум и воля сподвигли нар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Исследовать космос, ваять го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1940400" y="857160"/>
            <a:ext cx="57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Мудрые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ысказывания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П.Л. Кап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375120" y="1928880"/>
            <a:ext cx="8593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Наука должна быть веселая, увлекательная и проста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Таковыми же должны быть и учены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Счастливым можно научиться быть в любых обстоятельств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Несчастный только тот, кто вступает в сделку со своей совесть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Не горюй и не печалься. Жизнь разрешает самые сложные проблем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если ей дать достаточно врем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2239200" y="571680"/>
            <a:ext cx="47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Загадки…загадки…загадки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2" descr="http://im3-tub-ru.yandex.net/i?id=228890984-31-72&amp;n=21"/>
          <p:cNvPicPr/>
          <p:nvPr/>
        </p:nvPicPr>
        <p:blipFill>
          <a:blip r:embed="rId1"/>
          <a:stretch/>
        </p:blipFill>
        <p:spPr>
          <a:xfrm>
            <a:off x="642960" y="3000240"/>
            <a:ext cx="2171520" cy="1428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http://im3-tub-ru.yandex.net/i?id=401544493-53-72&amp;n=21"/>
          <p:cNvPicPr/>
          <p:nvPr/>
        </p:nvPicPr>
        <p:blipFill>
          <a:blip r:embed="rId2"/>
          <a:stretch/>
        </p:blipFill>
        <p:spPr>
          <a:xfrm>
            <a:off x="500040" y="1357200"/>
            <a:ext cx="2543040" cy="1428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http://im5-tub-ru.yandex.net/i?id=87261374-33-72&amp;n=21"/>
          <p:cNvPicPr/>
          <p:nvPr/>
        </p:nvPicPr>
        <p:blipFill>
          <a:blip r:embed="rId3"/>
          <a:stretch/>
        </p:blipFill>
        <p:spPr>
          <a:xfrm>
            <a:off x="6429240" y="3000240"/>
            <a:ext cx="1876680" cy="1546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http://im2-tub-ru.yandex.net/i?id=15413751-60-72&amp;n=21"/>
          <p:cNvPicPr/>
          <p:nvPr/>
        </p:nvPicPr>
        <p:blipFill>
          <a:blip r:embed="rId4"/>
          <a:stretch/>
        </p:blipFill>
        <p:spPr>
          <a:xfrm>
            <a:off x="6215040" y="1285920"/>
            <a:ext cx="2324160" cy="1428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http://im5-tub-ru.yandex.net/i?id=175673393-16-72&amp;n=21"/>
          <p:cNvPicPr/>
          <p:nvPr/>
        </p:nvPicPr>
        <p:blipFill>
          <a:blip r:embed="rId5"/>
          <a:stretch/>
        </p:blipFill>
        <p:spPr>
          <a:xfrm>
            <a:off x="3500280" y="4786200"/>
            <a:ext cx="2000520" cy="1428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http://im6-tub-ru.yandex.net/i?id=206154389-21-72&amp;n=21"/>
          <p:cNvPicPr/>
          <p:nvPr/>
        </p:nvPicPr>
        <p:blipFill>
          <a:blip r:embed="rId6"/>
          <a:stretch/>
        </p:blipFill>
        <p:spPr>
          <a:xfrm>
            <a:off x="3429000" y="3071880"/>
            <a:ext cx="2162160" cy="14288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http://im6-tub-ru.yandex.net/i?id=363154111-05-72&amp;n=21"/>
          <p:cNvPicPr/>
          <p:nvPr/>
        </p:nvPicPr>
        <p:blipFill>
          <a:blip r:embed="rId7"/>
          <a:stretch/>
        </p:blipFill>
        <p:spPr>
          <a:xfrm>
            <a:off x="3429000" y="1428840"/>
            <a:ext cx="2390760" cy="1428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http://im3-tub-ru.yandex.net/i?id=382177647-61-72&amp;n=21"/>
          <p:cNvPicPr/>
          <p:nvPr/>
        </p:nvPicPr>
        <p:blipFill>
          <a:blip r:embed="rId8"/>
          <a:stretch/>
        </p:blipFill>
        <p:spPr>
          <a:xfrm>
            <a:off x="6429240" y="4786200"/>
            <a:ext cx="1866960" cy="14288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8" descr="http://im8-tub-ru.yandex.net/i?id=68077059-50-72&amp;n=21"/>
          <p:cNvPicPr/>
          <p:nvPr/>
        </p:nvPicPr>
        <p:blipFill>
          <a:blip r:embed="rId9"/>
          <a:stretch/>
        </p:blipFill>
        <p:spPr>
          <a:xfrm>
            <a:off x="857160" y="4786200"/>
            <a:ext cx="179064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im2-tub-ru.yandex.net/i?id=375885356-58-72&amp;n=21"/>
          <p:cNvPicPr/>
          <p:nvPr/>
        </p:nvPicPr>
        <p:blipFill>
          <a:blip r:embed="rId1"/>
          <a:stretch/>
        </p:blipFill>
        <p:spPr>
          <a:xfrm>
            <a:off x="428760" y="2071800"/>
            <a:ext cx="2000160" cy="1428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im5-tub-ru.yandex.net/i?id=137191993-13-72&amp;n=21"/>
          <p:cNvPicPr/>
          <p:nvPr/>
        </p:nvPicPr>
        <p:blipFill>
          <a:blip r:embed="rId2"/>
          <a:stretch/>
        </p:blipFill>
        <p:spPr>
          <a:xfrm>
            <a:off x="2143080" y="1071720"/>
            <a:ext cx="2333520" cy="1428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http://im4-tub-ru.yandex.net/i?id=181914094-42-72&amp;n=21"/>
          <p:cNvPicPr/>
          <p:nvPr/>
        </p:nvPicPr>
        <p:blipFill>
          <a:blip r:embed="rId3"/>
          <a:stretch/>
        </p:blipFill>
        <p:spPr>
          <a:xfrm>
            <a:off x="1928880" y="3357720"/>
            <a:ext cx="2076480" cy="1428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http://im3-tub-ru.yandex.net/i?id=502013648-43-72&amp;n=21"/>
          <p:cNvPicPr/>
          <p:nvPr/>
        </p:nvPicPr>
        <p:blipFill>
          <a:blip r:embed="rId4"/>
          <a:srcRect l="0" t="0" r="0" b="14286"/>
          <a:stretch/>
        </p:blipFill>
        <p:spPr>
          <a:xfrm>
            <a:off x="6786720" y="2357280"/>
            <a:ext cx="1603080" cy="1285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http://im3-tub-ru.yandex.net/i?id=314361782-62-72&amp;n=21"/>
          <p:cNvPicPr/>
          <p:nvPr/>
        </p:nvPicPr>
        <p:blipFill>
          <a:blip r:embed="rId5"/>
          <a:stretch/>
        </p:blipFill>
        <p:spPr>
          <a:xfrm>
            <a:off x="3500280" y="4714920"/>
            <a:ext cx="1086120" cy="1428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http://im5-tub-ru.yandex.net/i?id=76855655-47-72&amp;n=21"/>
          <p:cNvPicPr/>
          <p:nvPr/>
        </p:nvPicPr>
        <p:blipFill>
          <a:blip r:embed="rId6"/>
          <a:stretch/>
        </p:blipFill>
        <p:spPr>
          <a:xfrm>
            <a:off x="5500800" y="10717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http://im0-tub-ru.yandex.net/i?id=184066644-04-72&amp;n=21"/>
          <p:cNvPicPr/>
          <p:nvPr/>
        </p:nvPicPr>
        <p:blipFill>
          <a:blip r:embed="rId7"/>
          <a:stretch/>
        </p:blipFill>
        <p:spPr>
          <a:xfrm>
            <a:off x="642960" y="4714920"/>
            <a:ext cx="1714320" cy="142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6" descr="http://im5-tub-ru.yandex.net/i?id=351292986-13-72&amp;n=21"/>
          <p:cNvPicPr/>
          <p:nvPr/>
        </p:nvPicPr>
        <p:blipFill>
          <a:blip r:embed="rId8"/>
          <a:stretch/>
        </p:blipFill>
        <p:spPr>
          <a:xfrm>
            <a:off x="5000760" y="3500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8" descr="http://im5-tub-ru.yandex.net/i?id=89487375-12-72&amp;n=21"/>
          <p:cNvPicPr/>
          <p:nvPr/>
        </p:nvPicPr>
        <p:blipFill>
          <a:blip r:embed="rId9"/>
          <a:stretch/>
        </p:blipFill>
        <p:spPr>
          <a:xfrm>
            <a:off x="6572160" y="4786200"/>
            <a:ext cx="1914480" cy="1428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0" descr="http://im2-tub-ru.yandex.net/i?id=243605121-32-72&amp;n=21"/>
          <p:cNvPicPr/>
          <p:nvPr/>
        </p:nvPicPr>
        <p:blipFill>
          <a:blip r:embed="rId10"/>
          <a:stretch/>
        </p:blipFill>
        <p:spPr>
          <a:xfrm>
            <a:off x="7572240" y="371484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2" descr="http://im2-tub-ru.yandex.net/i?id=243605121-32-72&amp;n=21"/>
          <p:cNvPicPr/>
          <p:nvPr/>
        </p:nvPicPr>
        <p:blipFill>
          <a:blip r:embed="rId11"/>
          <a:stretch/>
        </p:blipFill>
        <p:spPr>
          <a:xfrm>
            <a:off x="4357800" y="2071800"/>
            <a:ext cx="1076040" cy="1428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4" descr="http://im2-tub-ru.yandex.net/i?id=243605121-32-72&amp;n=21"/>
          <p:cNvPicPr/>
          <p:nvPr/>
        </p:nvPicPr>
        <p:blipFill>
          <a:blip r:embed="rId12"/>
          <a:stretch/>
        </p:blipFill>
        <p:spPr>
          <a:xfrm>
            <a:off x="2357280" y="5000760"/>
            <a:ext cx="1076400" cy="1428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http://im2-tub-ru.yandex.net/i?id=243605121-32-72&amp;n=21"/>
          <p:cNvPicPr/>
          <p:nvPr/>
        </p:nvPicPr>
        <p:blipFill>
          <a:blip r:embed="rId13"/>
          <a:stretch/>
        </p:blipFill>
        <p:spPr>
          <a:xfrm>
            <a:off x="571680" y="571680"/>
            <a:ext cx="1076040" cy="14284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Documents and Settings\Нина\Мои документы\Downloads\i.jpg"/>
          <p:cNvPicPr/>
          <p:nvPr/>
        </p:nvPicPr>
        <p:blipFill>
          <a:blip r:embed="rId1"/>
          <a:stretch/>
        </p:blipFill>
        <p:spPr>
          <a:xfrm>
            <a:off x="928800" y="571680"/>
            <a:ext cx="2641320" cy="3414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http://im8-tub-ru.yandex.net/i?id=311104517-04-72&amp;n=21"/>
          <p:cNvPicPr/>
          <p:nvPr/>
        </p:nvPicPr>
        <p:blipFill>
          <a:blip r:embed="rId2"/>
          <a:stretch/>
        </p:blipFill>
        <p:spPr>
          <a:xfrm>
            <a:off x="4929120" y="3643200"/>
            <a:ext cx="3071880" cy="23036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3"/>
          <p:cNvSpPr/>
          <p:nvPr/>
        </p:nvSpPr>
        <p:spPr>
          <a:xfrm>
            <a:off x="1148400" y="4286160"/>
            <a:ext cx="22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Times New Roman"/>
              </a:rPr>
              <a:t>Менделее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Times New Roman"/>
              </a:rPr>
              <a:t>Дмитрий Иванови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Times New Roman"/>
              </a:rPr>
              <a:t>(1834 – 19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2716920" y="1143000"/>
            <a:ext cx="718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9432b"/>
                </a:solidFill>
                <a:latin typeface="Monotype Corsiva"/>
              </a:rPr>
              <a:t>«Его знание самое полное. Оно происход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9432b"/>
                </a:solidFill>
                <a:latin typeface="Monotype Corsiva"/>
              </a:rPr>
              <a:t>от гениальности, у простых людей та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9432b"/>
                </a:solidFill>
                <a:latin typeface="Monotype Corsiva"/>
              </a:rPr>
              <a:t>не бывает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9432b"/>
                </a:solidFill>
                <a:latin typeface="Monotype Corsiva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a9432b"/>
                </a:solidFill>
                <a:latin typeface="Monotype Corsiva"/>
              </a:rPr>
              <a:t>А.Бл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3"/>
          <p:cNvSpPr/>
          <p:nvPr/>
        </p:nvSpPr>
        <p:spPr>
          <a:xfrm>
            <a:off x="2359800" y="785880"/>
            <a:ext cx="479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.И.Менделеев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оздатель периодического зак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1076400" y="5572080"/>
            <a:ext cx="696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1 марта 1869 года – День рождения периодического зак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6" descr="http://copypast.ru/uploads/posts/thumbs/1263296814_48447353_1252318669_tab_mendeleeva.jpg"/>
          <p:cNvPicPr/>
          <p:nvPr/>
        </p:nvPicPr>
        <p:blipFill>
          <a:blip r:embed="rId1"/>
          <a:stretch/>
        </p:blipFill>
        <p:spPr>
          <a:xfrm>
            <a:off x="2071800" y="1785960"/>
            <a:ext cx="530532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http://im0-tub-ru.yandex.net/i?id=343033335-48-72&amp;n=21"/>
          <p:cNvPicPr/>
          <p:nvPr/>
        </p:nvPicPr>
        <p:blipFill>
          <a:blip r:embed="rId1"/>
          <a:stretch/>
        </p:blipFill>
        <p:spPr>
          <a:xfrm>
            <a:off x="928800" y="128592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http://im5-tub-ru.yandex.net/i?id=60119794-68-72&amp;n=21"/>
          <p:cNvPicPr/>
          <p:nvPr/>
        </p:nvPicPr>
        <p:blipFill>
          <a:blip r:embed="rId2"/>
          <a:stretch/>
        </p:blipFill>
        <p:spPr>
          <a:xfrm>
            <a:off x="4000680" y="4714920"/>
            <a:ext cx="4456080" cy="1500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http://im7-tub-ru.yandex.net/i?id=1436171-56-72&amp;n=21"/>
          <p:cNvPicPr/>
          <p:nvPr/>
        </p:nvPicPr>
        <p:blipFill>
          <a:blip r:embed="rId3"/>
          <a:stretch/>
        </p:blipFill>
        <p:spPr>
          <a:xfrm>
            <a:off x="1143000" y="4214880"/>
            <a:ext cx="2392200" cy="2050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http://im2-tub-ru.yandex.net/i?id=246546504-64-72&amp;n=21"/>
          <p:cNvPicPr/>
          <p:nvPr/>
        </p:nvPicPr>
        <p:blipFill>
          <a:blip r:embed="rId4"/>
          <a:stretch/>
        </p:blipFill>
        <p:spPr>
          <a:xfrm>
            <a:off x="5357880" y="1285920"/>
            <a:ext cx="2570040" cy="28335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6"/>
          <p:cNvSpPr/>
          <p:nvPr/>
        </p:nvSpPr>
        <p:spPr>
          <a:xfrm>
            <a:off x="446040" y="357120"/>
            <a:ext cx="83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.И.Менделеев – автор 500 нау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 химии, физике, технике и промышленности, экономи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http://im2-tub-ru.yandex.net/i?id=297061827-43-72&amp;n=21"/>
          <p:cNvPicPr/>
          <p:nvPr/>
        </p:nvPicPr>
        <p:blipFill>
          <a:blip r:embed="rId1"/>
          <a:stretch/>
        </p:blipFill>
        <p:spPr>
          <a:xfrm>
            <a:off x="2428920" y="2357280"/>
            <a:ext cx="1714320" cy="2276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http://im5-tub-ru.yandex.net/i?id=102780810-12-72&amp;n=21"/>
          <p:cNvPicPr/>
          <p:nvPr/>
        </p:nvPicPr>
        <p:blipFill>
          <a:blip r:embed="rId2"/>
          <a:stretch/>
        </p:blipFill>
        <p:spPr>
          <a:xfrm>
            <a:off x="6929280" y="642960"/>
            <a:ext cx="1722600" cy="22860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3"/>
          <p:cNvSpPr/>
          <p:nvPr/>
        </p:nvSpPr>
        <p:spPr>
          <a:xfrm>
            <a:off x="1150560" y="642960"/>
            <a:ext cx="279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амят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Д.И.Менделеев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2552400" y="5000760"/>
            <a:ext cx="678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«Трудился. Вот и стал гение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             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Менделеев Д.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http://www.peterburg.biz/images/stories/mendeleev_s.jpg"/>
          <p:cNvPicPr/>
          <p:nvPr/>
        </p:nvPicPr>
        <p:blipFill>
          <a:blip r:embed="rId3"/>
          <a:stretch/>
        </p:blipFill>
        <p:spPr>
          <a:xfrm>
            <a:off x="4357800" y="1571760"/>
            <a:ext cx="2381040" cy="1790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Monument to Mendeleev in Tobolsk.jpg"/>
          <p:cNvPicPr/>
          <p:nvPr/>
        </p:nvPicPr>
        <p:blipFill>
          <a:blip r:embed="rId4"/>
          <a:stretch/>
        </p:blipFill>
        <p:spPr>
          <a:xfrm>
            <a:off x="357120" y="2643120"/>
            <a:ext cx="1905120" cy="33624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7"/>
          <p:cNvSpPr/>
          <p:nvPr/>
        </p:nvSpPr>
        <p:spPr>
          <a:xfrm>
            <a:off x="629280" y="607212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г. Тобольс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2279880" y="46432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4494600" y="35002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7278120" y="30718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г. Моск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http://im6-tub-ru.yandex.net/i?id=158162670-48-72&amp;n=21"/>
          <p:cNvPicPr/>
          <p:nvPr/>
        </p:nvPicPr>
        <p:blipFill>
          <a:blip r:embed="rId1"/>
          <a:stretch/>
        </p:blipFill>
        <p:spPr>
          <a:xfrm>
            <a:off x="3357720" y="2538360"/>
            <a:ext cx="2428560" cy="29876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2"/>
          <p:cNvSpPr/>
          <p:nvPr/>
        </p:nvSpPr>
        <p:spPr>
          <a:xfrm>
            <a:off x="2286000" y="1000080"/>
            <a:ext cx="49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ётр Леонидович Кап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(1894-198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3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http://im6-tub-ru.yandex.net/i?id=341797053-20-72&amp;n=21"/>
          <p:cNvPicPr/>
          <p:nvPr/>
        </p:nvPicPr>
        <p:blipFill>
          <a:blip r:embed="rId1"/>
          <a:stretch/>
        </p:blipFill>
        <p:spPr>
          <a:xfrm>
            <a:off x="579600" y="1928880"/>
            <a:ext cx="3377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2"/>
          <p:cNvSpPr/>
          <p:nvPr/>
        </p:nvSpPr>
        <p:spPr>
          <a:xfrm>
            <a:off x="2451600" y="71424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еликий физик и инжен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4292280" y="1785960"/>
            <a:ext cx="4574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Лауреат Нобелевской прем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Дважды лауреат Сталинской прем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Дважды Герой Социалистического тру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Действительный член Лондонск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Королевского обще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гражден большой золотой медал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имени М. В. Ломонос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http://im6-tub-ru.yandex.net/i?id=363129167-39-72&amp;n=21"/>
          <p:cNvPicPr/>
          <p:nvPr/>
        </p:nvPicPr>
        <p:blipFill>
          <a:blip r:embed="rId1"/>
          <a:stretch/>
        </p:blipFill>
        <p:spPr>
          <a:xfrm>
            <a:off x="4857840" y="4014720"/>
            <a:ext cx="2786040" cy="1944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http://im0-tub-ru.yandex.net/i?id=133059568-35-72&amp;n=21"/>
          <p:cNvPicPr/>
          <p:nvPr/>
        </p:nvPicPr>
        <p:blipFill>
          <a:blip r:embed="rId2"/>
          <a:stretch/>
        </p:blipFill>
        <p:spPr>
          <a:xfrm>
            <a:off x="4786200" y="642960"/>
            <a:ext cx="2905200" cy="217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http://crazy-2.narod.ru/kronshtadt/12.jpg"/>
          <p:cNvPicPr/>
          <p:nvPr/>
        </p:nvPicPr>
        <p:blipFill>
          <a:blip r:embed="rId3"/>
          <a:stretch/>
        </p:blipFill>
        <p:spPr>
          <a:xfrm>
            <a:off x="714240" y="571680"/>
            <a:ext cx="3070440" cy="40716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5"/>
          <p:cNvSpPr/>
          <p:nvPr/>
        </p:nvSpPr>
        <p:spPr>
          <a:xfrm>
            <a:off x="4866120" y="3000240"/>
            <a:ext cx="28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Школа 4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Здесь учился П.Л. Кап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1009800" y="4857840"/>
            <a:ext cx="25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Памятник П.Л.Капиц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в Кронштад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1:28:57Z</dcterms:created>
  <dc:creator>User</dc:creator>
  <dc:description/>
  <dc:language>en-US</dc:language>
  <cp:lastModifiedBy>Нина Патина</cp:lastModifiedBy>
  <dcterms:modified xsi:type="dcterms:W3CDTF">2013-02-24T23:01:01Z</dcterms:modified>
  <cp:revision>42</cp:revision>
  <dc:subject/>
  <dc:title>Слайд 1</dc:title>
</cp:coreProperties>
</file>