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4829-2D25-45C6-9C60-A082F680C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5D51-2D63-4F48-819C-8B039BF6C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64E3-1398-4EF7-9227-9266486A2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B471-47CF-45E2-B5E6-CE5F08FBE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1562-E6D5-4DA2-8598-1B9387A9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CF18-8DAB-4F20-99EA-126953E33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A7CB-C26E-4C1B-94E9-C73DEE2B9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BC2A-1546-42AC-B856-9EE2C15A6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C07F-7893-4110-8380-E396A50F0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582A-67FA-457B-A32F-185B9594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D30E-A0AC-4F5B-A6A9-6600AB25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09FF-9AE4-416E-B3A2-F9AC0007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FBD75-920A-401C-A96F-1FFD315328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-55440" y="1725480"/>
            <a:ext cx="9254880" cy="198756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4929120" y="5857920"/>
            <a:ext cx="400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а учитель нач. классов Кирилина О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www.natureinstitute.org/pub/ic/ic14/images/trees_4.jpg"/>
          <p:cNvPicPr/>
          <p:nvPr/>
        </p:nvPicPr>
        <p:blipFill>
          <a:blip r:embed="rId1"/>
          <a:stretch/>
        </p:blipFill>
        <p:spPr>
          <a:xfrm>
            <a:off x="928800" y="285840"/>
            <a:ext cx="6543720" cy="58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eatmo.ru/pictures/1303599361.jpg"/>
          <p:cNvPicPr/>
          <p:nvPr/>
        </p:nvPicPr>
        <p:blipFill>
          <a:blip r:embed="rId1"/>
          <a:stretch/>
        </p:blipFill>
        <p:spPr>
          <a:xfrm>
            <a:off x="1500120" y="214200"/>
            <a:ext cx="6072120" cy="648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images.free-extras.com/pics/c/cartoon_tree-574.jpg"/>
          <p:cNvPicPr/>
          <p:nvPr/>
        </p:nvPicPr>
        <p:blipFill>
          <a:blip r:embed="rId1"/>
          <a:stretch/>
        </p:blipFill>
        <p:spPr>
          <a:xfrm>
            <a:off x="1928880" y="571680"/>
            <a:ext cx="450036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&amp;Pcy;&amp;ocy;&amp;scy;&amp;rcy;&amp;iecy;&amp;dcy;&amp;icy; &amp;scy;&amp;acy;&amp;vcy;&amp;acy;&amp;ncy;&amp;ncy;&amp;ycy; &amp;icy;&amp;zcy;&amp;rcy;&amp;iecy;&amp;dcy;&amp;kcy;&amp;acy; &amp;vcy;&amp;scy;&amp;tcy;&amp;rcy;&amp;iecy;&amp;chcy;&amp;acy;&amp;yucy;&amp;tcy;&amp;scy;&amp;yacy; &amp;ncy;&amp;iecy;&amp;bcy;&amp;ocy;&amp;lcy;&amp;softcy;&amp;shcy;&amp;icy;&amp;iecy; &amp;dcy;&amp;iecy;&amp;rcy;&amp;iecy;&amp;vcy;&amp;softcy;&amp;yacy;, &amp;vcy;&amp;ocy;&amp;zcy;&amp;vcy;&amp;ycy;&amp;shcy;&amp;acy;&amp;yucy;&amp;shchcy;&amp;icy;&amp;iecy;&amp;scy;&amp;yacy; &amp;ncy;&amp;acy;&amp;dcy; &amp;kcy;&amp;ucy;&amp;scy;&amp;tcy;&amp;acy;&amp;rcy;&amp;ncy;&amp;icy;&amp;kcy;&amp;acy;&amp;mcy;&amp;icy;"/>
          <p:cNvPicPr/>
          <p:nvPr/>
        </p:nvPicPr>
        <p:blipFill>
          <a:blip r:embed="rId1"/>
          <a:stretch/>
        </p:blipFill>
        <p:spPr>
          <a:xfrm>
            <a:off x="571680" y="357120"/>
            <a:ext cx="781020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://www.drawmaster.ru/uploads/posts/2010-08/DrawMaster.ru_6-kak-risovat-derevya.jpg"/>
          <p:cNvPicPr/>
          <p:nvPr/>
        </p:nvPicPr>
        <p:blipFill>
          <a:blip r:embed="rId1"/>
          <a:stretch/>
        </p:blipFill>
        <p:spPr>
          <a:xfrm>
            <a:off x="1428840" y="214200"/>
            <a:ext cx="5929200" cy="63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photoshopplus.ru/wp-content/uploads/2010/11/Creepy-Tree-Brushes.jpg"/>
          <p:cNvPicPr/>
          <p:nvPr/>
        </p:nvPicPr>
        <p:blipFill>
          <a:blip r:embed="rId1"/>
          <a:srcRect l="5086" t="8739" r="45343" b="0"/>
          <a:stretch/>
        </p:blipFill>
        <p:spPr>
          <a:xfrm>
            <a:off x="1785960" y="285840"/>
            <a:ext cx="464328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http://www.detskiy-mir.net/images/fotoprikols/3363_big.jpg"/>
          <p:cNvPicPr/>
          <p:nvPr/>
        </p:nvPicPr>
        <p:blipFill>
          <a:blip r:embed="rId1"/>
          <a:stretch/>
        </p:blipFill>
        <p:spPr>
          <a:xfrm>
            <a:off x="1714680" y="214200"/>
            <a:ext cx="5572080" cy="646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sciencemagic.ru/wp-content/uploads/2011/05/trees-web.jpg"/>
          <p:cNvPicPr/>
          <p:nvPr/>
        </p:nvPicPr>
        <p:blipFill>
          <a:blip r:embed="rId1"/>
          <a:stretch/>
        </p:blipFill>
        <p:spPr>
          <a:xfrm>
            <a:off x="642960" y="642960"/>
            <a:ext cx="80866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img0.liveinternet.ru/images/attach/c/1//58/229/58229365_41101749_1236980202_5tree.jpg"/>
          <p:cNvPicPr/>
          <p:nvPr/>
        </p:nvPicPr>
        <p:blipFill>
          <a:blip r:embed="rId1"/>
          <a:stretch/>
        </p:blipFill>
        <p:spPr>
          <a:xfrm>
            <a:off x="642960" y="500040"/>
            <a:ext cx="831204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&amp;Fcy;&amp;ocy;&amp;tcy;&amp;ocy;&amp;rcy;&amp;acy;&amp;zcy;&amp;dcy;&amp;iecy;&amp;lcy; :: &amp;Dcy;&amp;iecy;&amp;rcy;&amp;iecy;&amp;vcy;&amp;softcy;&amp;yacy; &amp;fcy;&amp;ocy;&amp;tcy;&amp;ocy; 0"/>
          <p:cNvPicPr/>
          <p:nvPr/>
        </p:nvPicPr>
        <p:blipFill>
          <a:blip r:embed="rId1"/>
          <a:stretch/>
        </p:blipFill>
        <p:spPr>
          <a:xfrm>
            <a:off x="1000080" y="0"/>
            <a:ext cx="6715080" cy="67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&amp;Fcy;&amp;ocy;&amp;tcy;&amp;ocy;&amp;rcy;&amp;acy;&amp;zcy;&amp;dcy;&amp;iecy;&amp;lcy; :: &amp;Dcy;&amp;iecy;&amp;rcy;&amp;iecy;&amp;vcy;&amp;softcy;&amp;yacy; &amp;fcy;&amp;ocy;&amp;tcy;&amp;ocy; 5"/>
          <p:cNvPicPr/>
          <p:nvPr/>
        </p:nvPicPr>
        <p:blipFill>
          <a:blip r:embed="rId1"/>
          <a:stretch/>
        </p:blipFill>
        <p:spPr>
          <a:xfrm>
            <a:off x="1071720" y="357120"/>
            <a:ext cx="650052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demiart.ru/forum/uploads1/post-70921-1206640997.jpg"/>
          <p:cNvPicPr/>
          <p:nvPr/>
        </p:nvPicPr>
        <p:blipFill>
          <a:blip r:embed="rId1"/>
          <a:stretch/>
        </p:blipFill>
        <p:spPr>
          <a:xfrm>
            <a:off x="428760" y="571680"/>
            <a:ext cx="4189320" cy="5572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http://demiart.ru/forum/uploads1/post-70921-1206640999.jpg"/>
          <p:cNvPicPr/>
          <p:nvPr/>
        </p:nvPicPr>
        <p:blipFill>
          <a:blip r:embed="rId2"/>
          <a:stretch/>
        </p:blipFill>
        <p:spPr>
          <a:xfrm>
            <a:off x="4786200" y="1857240"/>
            <a:ext cx="3714840" cy="49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www.natureinstitute.org/pub/ic/ic14/images/trees_2.jpg"/>
          <p:cNvPicPr/>
          <p:nvPr/>
        </p:nvPicPr>
        <p:blipFill>
          <a:blip r:embed="rId1"/>
          <a:stretch/>
        </p:blipFill>
        <p:spPr>
          <a:xfrm>
            <a:off x="2071800" y="214200"/>
            <a:ext cx="450036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0T14:49:36Z</dcterms:created>
  <dc:creator>qqq</dc:creator>
  <dc:description/>
  <dc:language>en-US</dc:language>
  <cp:lastModifiedBy>qqq</cp:lastModifiedBy>
  <dcterms:modified xsi:type="dcterms:W3CDTF">2013-10-06T15:55:20Z</dcterms:modified>
  <cp:revision>9</cp:revision>
  <dc:subject/>
  <dc:title>Слайд 1</dc:title>
</cp:coreProperties>
</file>