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46EF-86E9-4BF4-A9E8-0CD1DC6C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AAE-6B59-4A69-9284-161C183B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9370-F71B-4E19-8381-5ABAD2D6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C3E-D321-4216-BD44-37C2A7A9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EC08-0020-4F90-8F17-C5ED32F7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B319-D332-46B3-A717-ADADE149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7AFE-AD0B-4964-B772-DD5BECBA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DAD3-F743-4236-833A-A5790C94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D7C5-DD53-45C0-9C79-45537E76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DC5D-8D38-4E3F-BCAF-208E5209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8BD1-5AE6-45EB-9DF2-7057B6F7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F98B-9054-4B28-90C4-D38B0C3E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998F-4F8D-45F1-A0FD-F79B6171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A18F-B5D9-45C0-BF51-FAC83943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1E41-8A06-48C4-BEBF-F83D4855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31D4-EF57-4944-8947-289EAD4B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BF24-58B3-4BB8-9537-6A7AC42A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F71B-696C-403C-B1DD-E201251A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AD8-8736-482E-8D7E-DACCE917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E4D-ADB5-47C5-B3D7-2C16C13B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1209-3CB8-4B50-A4BF-C698C37C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5432-26B8-468E-9AFA-71AC8226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6BD0-EEA2-4D3F-80B5-22FE37CE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364-945C-44E8-A9DF-26837817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162A-D485-46B5-92EC-4D2DE73349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5E0A-03E4-4B76-8CE5-D25CBEA89E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Проект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ащихся  5 класса МБОУ «СОШ№24» г.Чебоксары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00ff"/>
                </a:solidFill>
                <a:latin typeface="Times New Roman"/>
              </a:rPr>
              <a:t>    </a:t>
            </a:r>
            <a:r>
              <a:rPr b="0" i="1" lang="ru-RU" sz="4400" spc="-1" strike="noStrike">
                <a:solidFill>
                  <a:srgbClr val="ff0066"/>
                </a:solidFill>
                <a:latin typeface="Times New Roman"/>
              </a:rPr>
              <a:t>Наши домашние питомцы и русская фразе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73800" y="1917720"/>
            <a:ext cx="21524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Мы выяснили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Человек часто приписывал животным многие грехи, вплоть до связи с нечистой силой, приписывали  и свои, человеческие качества, чаще всего плохие. А потом животное оставалось символом, носителем такого качества. Больше всего не повезло козл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лавяне считали козла представителем нечистой силы, чему во многом способствовали рога и особый запах, идущий от него. И вот козла стали специально держать на конюшне, чтобы отпугивать нечистую силу от коней, чтобы домовой не мог по ночам загонять лошадей. Поэтому появился фразеологизм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ff"/>
                </a:solidFill>
                <a:latin typeface="Times New Roman"/>
              </a:rPr>
              <a:t>служить за козла на конюшне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, т.е. «бездельничать»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 в других выражениях козел и коза выглядят не очень хорошо: от козла нет никакой пользы, он бездельник, его нельзя пускать в огор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0000"/>
                </a:solidFill>
                <a:uFillTx/>
                <a:latin typeface="Times New Roman"/>
              </a:rPr>
              <a:t>Осел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сла в львиной шкуре по крику узнаеш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Эзоп «Осел и лисица»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 говорят о невежде, ничтожном человеке, который пытается скрыть свою убогую сущность, но чем-нибудь обязательно выда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Упрям как осе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ямый человек, которого не возможно переубеди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алаамова ослиц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окорный, молчаливый человек, который неожиданно  для окружающих выразил свое мнение или протес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Буриданов осе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Крайне нерешительный человек, колеблющийся в выборе между двумя равносильными желания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Конь, лошадь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Устал как лошадь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чень сильн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Укатали сивку крутые гор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Старый конь борозды не испорти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Конь еще не валялс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-Так говорят, когда ничего не сделан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Не в коня кор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-Так говорят о чем-либо таком, что тот, для кого делается, не способен понять, оцени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Троянский конь. Дары данайце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– В переносном смысле – дары, поднесенные с предательским, коварным умыслом, таящие в себе опасность или гибель для тех, кому они предназначен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Оседлать своего коньк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.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ть говорить, рассуждать, распространяться на излюбленную тем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На вороных прокатить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.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осказательно-иронически – провалить кандидата на каких-либо выборах, не избрать ег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На вороных не объедешь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Не перехитришь, не проведешь, не обманеш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Темная лошадк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известны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640480" y="1768320"/>
            <a:ext cx="26683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Мы узнал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сторией слов конь и лошадь занимались многие языковеды. Они установили, что конь – древнее, общеславянское слово. Оно употребляется обычно в тех случаях, когда говорится о верховой, нерабочей лошади, о лошади быстрой, сильной, горячей. Конь, лошадь – великие трудяги, игравшие в крестьянском хозяйстве очень важную роль. Они и символизируют это качество во фразеолог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о эти животные представлены еще словами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ерин, кобыла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жеребч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ни входят в другой ряд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Врет как сивый мерин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ссовестно, беззастенчиво, беспредель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Глуп как сивый мерин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Очень, до крайности глуп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Сон сивой кобыл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Пришей кобыле хвос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- Это выражение характеризует ненужного, лишнего человека, примазавшегося к кому-то или чему-т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Мышиный жеребчи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–Молодящийся стар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0000"/>
                </a:solidFill>
                <a:uFillTx/>
                <a:latin typeface="Times New Roman"/>
              </a:rPr>
              <a:t>Свинь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d60093"/>
                </a:solidFill>
                <a:latin typeface="Times New Roman"/>
              </a:rPr>
              <a:t>И уж самое недоброжелательное отношение выражено во фразеологии к свинье. Такое недоброжелательное отношение к свинье идет из Библии, откуда пришло выражение </a:t>
            </a:r>
            <a:r>
              <a:rPr b="1" i="1" lang="ru-RU" sz="1200" spc="-1" strike="noStrike">
                <a:solidFill>
                  <a:srgbClr val="d60093"/>
                </a:solidFill>
                <a:latin typeface="Times New Roman"/>
              </a:rPr>
              <a:t>метать бисер перед свиньями</a:t>
            </a:r>
            <a:r>
              <a:rPr b="0" i="1" lang="ru-RU" sz="1200" spc="-1" strike="noStrike">
                <a:solidFill>
                  <a:srgbClr val="d60093"/>
                </a:solidFill>
                <a:latin typeface="Times New Roman"/>
              </a:rPr>
              <a:t>. Видимо, это и привело к такому же отрицательному значению слова свинья во фразеологии многих народов Европы. Только у немцев свинья выступает еще и символом благополучия и уда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3573360"/>
            <a:ext cx="559908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</a:rPr>
              <a:t>Метать бисер перед свиньям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Напрасно доказывать кому-то то, что он не сможет или не захочет поня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</a:rPr>
              <a:t>Свинья грязь найд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</a:rPr>
              <a:t>Поступать как свинь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</a:rPr>
              <a:t>Ко всем свиньям посла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</a:rPr>
              <a:t>(вымазаться) как свинь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</a:rPr>
              <a:t>Узнать, на чем свинья хвост носит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Хорошо понимать какое-то зл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</a:rPr>
              <a:t>Подкладывать свинь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– Подстраивать втихомолку какую-нибудь неприятнос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443640" y="620640"/>
            <a:ext cx="20257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990000"/>
                </a:solidFill>
                <a:uFillTx/>
                <a:latin typeface="Times New Roman"/>
              </a:rPr>
              <a:t>Баран и овца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Times New Roman"/>
              </a:rPr>
              <a:t>В русской фразеологии тупость и умственная ограниченность представлены </a:t>
            </a:r>
            <a:r>
              <a:rPr b="0" i="1" lang="ru-RU" sz="2000" spc="-1" strike="noStrike" u="sng">
                <a:solidFill>
                  <a:srgbClr val="ff0066"/>
                </a:solidFill>
                <a:uFillTx/>
                <a:latin typeface="Times New Roman"/>
              </a:rPr>
              <a:t>бараном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ак баран на новые ворота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Недоуменно, туп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Гнуть в бараний рог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ужда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Барашек в бумажке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ят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408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Овца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– </a:t>
            </a:r>
            <a:r>
              <a:rPr b="0" i="1" lang="ru-RU" sz="2400" spc="-1" strike="noStrike">
                <a:solidFill>
                  <a:srgbClr val="ff0066"/>
                </a:solidFill>
                <a:latin typeface="Times New Roman"/>
              </a:rPr>
              <a:t>олицетворение кротости, покорности, беззащитност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Заблудшая овца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к, сбившийся с правильного жизненного пу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корная овеч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ердце бьется как овечий хвост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сильн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 поганой овцы хоть шерсти кло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ть какая-то польз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5153040"/>
            <a:ext cx="172872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990000"/>
                </a:solidFill>
                <a:uFillTx/>
                <a:latin typeface="Times New Roman"/>
              </a:rPr>
              <a:t>Бык и коров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зять быка за рог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начинать действовать с самого главн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Здоров как бы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ашет как во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казка про белого быч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Бесконечное повторение одного и того же и того же самого начала, возвращение к одному и тому ж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5408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66"/>
                </a:solidFill>
                <a:latin typeface="Times New Roman"/>
              </a:rPr>
              <a:t>И даже главная кормилица русского крестьянина – корова – не избежала насмешливых выражений. Корова в них выступает как существо непривлекательное, несуразно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Дойная кор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Источник материальных благ, которым пользуются беззастенчиво, в личных интереса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ак корова языком слизала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Бесследно исчез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ак  корове седло (идет)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чуть, нискольк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ак корова на льду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уклюж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Чья бы корова мычала, а наша молчала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Times New Roman"/>
              </a:rPr>
              <a:t>Мы пришли к выводу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. В русском языке немало многозначных слов – названий  животных, у которых имеется переносное значение оценочного характера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Среди многочисленных устойчивых сочетаний больше всего тех, которые связаны с характеристикой человека. Они указываю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- на внешний вид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- на внутреннее состояние человека, проявляющееся в его  внешнем виде: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ходит как сонная мух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на поведение человека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: врет как сивый мерин, разбирается как свинья в апельсин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2. Фразеологизмы могут возникать из послови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3. Многие фразеологизмы появились благодаря русским писателям.  Особенно много сделал в этом отношении И.А.Крылов: сильнее кошки зверя нет,   слон и моська, как белка в колесе,  чтоб гусей не раздразнить, кукушка хвалит петуха, синица моря не зажгла, орлам случается и ниже кур спускатьс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4.Не всегда фразеологизмы, имеющие в своем составе название животного, с ним связано: В ежовых рукавицах – В большой строгости у кого-либо. Часто человек сам приписывал те или иные качества животны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Таблиц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5800" y="1981080"/>
          <a:ext cx="7772400" cy="43405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Звер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Символизирую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ло, сварливость, недоброжела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а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нимый, обиж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з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означащий, бесполез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вежда, упрямство, неряшлив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долюб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Использованные ресурс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амова Е.А. Крылатые слова . - М.: Детская литература,19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ликметс К.П.,  Метса А.А. Поговорим, поспорим. -Л.: Просвещение, 19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латов М. Крылатые слова. - М.: Просвещение, 19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воздарев Ю.А. Рассказы о русской фразеологии.- М.: Просвещение,19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геев В.Н. Новые значения старых слов.-  М.: Просвещение,19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разеологический словарь русского языка. -М.: Русский язык, 19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Мы хотим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снить,  названия каких домашних животных чаще встречаются во фразеологизм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нать, какие черты характера человека символизируют наши любим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cc"/>
                </a:solidFill>
                <a:latin typeface="Times New Roman"/>
              </a:rPr>
              <a:t>Наша задача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Выяснить, знают ли учащиеся моего класса фразеологизмы о домашних живот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Узнать, что символизируют названия некоторых домашних животных в русских фразеологизм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Выяснить, всегда ли название  животного во фразеологизме с ним связа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Составить таблицу по те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Подготовить раздел о домашних животных в тематическом словаре «Братья наши меньшие в русской фразеологи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Что мы сделали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Мы  изучили учебную литератур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Провели опрос учащихся клас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Выяснили, что 35 % учащихся нашего класса знают от 5 до 8 фразеологизмов, 20 % -девять –десять фразеологизмов,  45%  - до четырех фразеологизмов, имеющих в своем составе название  домашнего животного. Однако в своей речи стараются использовать эти фразеологизмы только 10 % учащих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050920" y="1790640"/>
          <a:ext cx="5000760" cy="41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790640"/>
                    <a:ext cx="5000760" cy="41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Times New Roman"/>
              </a:rPr>
              <a:t>Какие же домашние животные вошли  во фразеологизмы?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5543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u="sng">
                <a:solidFill>
                  <a:srgbClr val="ff0066"/>
                </a:solidFill>
                <a:uFillTx/>
                <a:latin typeface="Times New Roman"/>
              </a:rPr>
              <a:t>     </a:t>
            </a:r>
            <a:r>
              <a:rPr b="1" i="1" lang="ru-RU" sz="1400" spc="-1" strike="noStrike" u="sng">
                <a:solidFill>
                  <a:srgbClr val="ff0066"/>
                </a:solidFill>
                <a:uFillTx/>
                <a:latin typeface="Times New Roman"/>
              </a:rPr>
              <a:t>Кош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Как кошка с собако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В постоянной вражд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Черная кошка пробежал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Произошла ссор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Знает кошка, чье мясо съел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нает, в чем провинилс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Кошки на душе скребут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му-либо грустно, тоскливо, беспокойно, тревожн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Отольются кошке Мышкины слезк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А Васька слушает да ес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(Из басни Крылова «Кот и повар»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то выражение употребляют, когда хотят сказать, что один говорит, убеждает, тратит понапрасну слова, а другой не обращает на это никакого внимания, не считается с говорящим и продолжает делать свое дел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Сильнее кошки зверя нет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(Крылов «Мышь и Крыса»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к иронически говорят о страхе перед человеком, который кажется значительным и сильным только тому, кто слабее ег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Кот наплакал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Очень мал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Купить кота в мешк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обретать что-либо, не видя, не зная заранее ничего о качестве приобретаемог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Без кота мышкам маслен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Тянуть кота за хвост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дно, медленно говори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Играть в кошки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– Кот в мешк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Нечто неизвестно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мышк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Хитрить, лукави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Кошачий концер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659640" y="2276640"/>
            <a:ext cx="2233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6666"/>
                </a:solidFill>
                <a:uFillTx/>
                <a:latin typeface="Times New Roman"/>
              </a:rPr>
              <a:t>Собак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63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Собачья вер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Собачья предан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Собаке собачья смер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ак собак нерезаных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– Очень мно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обаке под хвос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выбросить). - Впустую, даром, зря, напрасно расходова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о всем чертям собачьи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– Прочь, долой, во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Нужен как собаке пятая ног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– Нисколько, ничу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юбить как собака палку</a:t>
            </a: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Гонять собак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– Бездельнича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обачий холод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– Очень холод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Ай, Моська! Знать она сильна, что лает на слон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!(Из басни Крылова «Слон и Моська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осказательно – об угрозах или вздорной похвальбе ничтожного хвасту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обачья жи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обаке собачья смер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Ни одна собак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– Абсолютно никт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Вешать собак на шею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- Наговаривать, клеветать на кого-либо, необоснованно обвинять в чем-либ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аждая собак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– Всякий, каждый, люб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ак собака уста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– Очень сильно, до край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обаку съел.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риобрел большой опы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обачья радость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– Колбаса самого низкого кач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Вот где зарыта собак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! – именно в этом истинная причина, суть д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ражение употребляется при выяснении разгадки, смысла какого-нибуд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а еще и жадная, неуживчив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обака на сен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- Не пользуется сам чем-либо и другим не дает пользовать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На кой пе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Пес меня возь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Пес его зна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Пес с тобой – черт с тоб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Пес тебя побери – черт тебя побер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335124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Мы узнали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от и кошка  не очень хорошо охарактеризованы в русской фразеологии. С одной стороны, они наиболее загадочны из домашних животных и никак не поддаются полному одомашниванию. Недаром известен образ кошки, которая гуляла сама по себ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 англичан кот и кошка символизируют злого, сварливого, недоброжелательного и хищного человека. И у наших выражений можно обнаружить эти каче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 русской фразеологии кошка еще представляет неряшливую, изможденную, ведущую себя странно женщин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ранная кош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408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обака в этих выражениях сохраняет свой библейский образ гонимого и обиженного суще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обака воспринималась когда-то «представителем» нечистой сил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ужно заметить, что не все народы так отнеслись к собаке в своей фразеологии. В киргизской фразеологии , например, собака в основном характеризуется положительно. И это объясняется тем, что собака была и  есть для киргиза-скотовода, пастуха верным помощником и друг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33cc"/>
                </a:solidFill>
                <a:uFillTx/>
                <a:latin typeface="Times New Roman"/>
              </a:rPr>
              <a:t>Козел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Козел отпущения</a:t>
            </a:r>
            <a:r>
              <a:rPr b="0" lang="ru-RU" sz="1400" spc="-1" strike="noStrike">
                <a:solidFill>
                  <a:srgbClr val="99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 называют человека, на которого постоянно сваливают чужую вину. Это выражение появилось потому, что раз в году евреи приносили жертву. Она должна была снять с людей грехи за год. Выбирали козла. На него все касающиеся «возлагали руки».Это означало, что они перенесли на козла свои грехи. Затем козла отпущения отпускали в пустыню. Так и до сих пор человека, страдающего за чужие грехи, называют козлом отпущ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Как сидорову козу (лупить)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Жестоко, беспощад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На козе не подъедешь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перехитришь, к кому-то невозможно найти подхо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К козе на имени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– Послать к «черту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Пускать козла в огород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лать кому-либо доступ туда, где он может быть особенно вреде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Отставной козы барабанщик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осказательно-ироническое – малозначащий человек, занимавший незначительное служебное или общественное положение и потерявший ег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Как от козла молока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– 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нь мал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Ни шерсти ни молок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чего, никакой польз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Драть козл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– «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омко кричать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ашний</cp:lastModifiedBy>
  <dcterms:modified xsi:type="dcterms:W3CDTF">2013-10-06T10:07:58Z</dcterms:modified>
  <cp:revision>10</cp:revision>
  <dc:subject/>
  <dc:title>PowerPoint Presentation</dc:title>
</cp:coreProperties>
</file>