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248-1C8D-4C65-AB10-16F7B584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6E5-5702-42C3-8274-CDA4267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A3F-958B-4255-B99C-48FFFEBA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C29-4710-4F07-A1A9-9B490A3F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CA4-017A-4590-8478-1FEBC3A4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DF4-428E-45EE-A0C3-16BACF33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AA9-B246-491E-B8D9-553F3C35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05C-C3AE-40F2-B4E9-F3918D9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171-C23E-43B2-BBB2-9C23B7B2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E3A-C61B-4E18-B156-602B9D1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FDC-7D4D-4E2A-BAAF-0DE26448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A24-C8F8-41A5-8D0E-917251B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697-5DD1-45DF-B079-1C70F3541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« Германия: на пути к единству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ономическое развитие Герм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523880"/>
            <a:ext cx="8534520" cy="1600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причины подтолкн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объединению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86360" y="3124080"/>
            <a:ext cx="7905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809880"/>
            <a:ext cx="8686800" cy="83844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образованных слоях населения ви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ысль об объединени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800600"/>
            <a:ext cx="8686800" cy="838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иливались внутренние противореч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конфли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791320"/>
            <a:ext cx="8686800" cy="838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ст либеральных и демократов-радик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22800" y="440280"/>
            <a:ext cx="7898400" cy="994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ономическое развитие Герм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133720"/>
            <a:ext cx="8534160" cy="213336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bbe0e3"/>
              </a:gs>
            </a:gsLst>
            <a:lin ang="5400000"/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, на ваш взгляд, относились к ид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ституционного 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ские госуда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760" y="5181480"/>
            <a:ext cx="8610480" cy="9144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bbe0e3"/>
              </a:gs>
            </a:gsLst>
            <a:lin ang="5400000"/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ем об этом в учебнике на стр.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4267080"/>
            <a:ext cx="94284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50000">
                <a:srgbClr val="99ff33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067280" y="2276640"/>
            <a:ext cx="2017440" cy="172872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3419280" y="2349360"/>
            <a:ext cx="647640" cy="16560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solidFill>
            <a:srgbClr val="66ffff"/>
          </a:solidFill>
          <a:ln w="76320">
            <a:solidFill>
              <a:srgbClr val="d6009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8 марта 1848 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– восстание в Берл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1258560" y="2276640"/>
            <a:ext cx="3025800" cy="5760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24000" y="2997360"/>
            <a:ext cx="1655640" cy="718920"/>
          </a:xfrm>
          <a:prstGeom prst="rect">
            <a:avLst/>
          </a:prstGeom>
          <a:solidFill>
            <a:srgbClr val="ffff99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3059280" y="2276640"/>
            <a:ext cx="1008000" cy="64764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556000" y="2997360"/>
            <a:ext cx="2592360" cy="718920"/>
          </a:xfrm>
          <a:prstGeom prst="rect">
            <a:avLst/>
          </a:prstGeom>
          <a:solidFill>
            <a:srgbClr val="ffff99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6227640" y="2997360"/>
            <a:ext cx="1656000" cy="718920"/>
          </a:xfrm>
          <a:prstGeom prst="rect">
            <a:avLst/>
          </a:prstGeom>
          <a:solidFill>
            <a:srgbClr val="ffff99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УД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067280" y="2276640"/>
            <a:ext cx="3168720" cy="50472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5292720" y="4149720"/>
            <a:ext cx="1655640" cy="719280"/>
          </a:xfrm>
          <a:prstGeom prst="rect">
            <a:avLst/>
          </a:prstGeom>
          <a:solidFill>
            <a:srgbClr val="ffff99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2340000" y="4149720"/>
            <a:ext cx="1942920" cy="719280"/>
          </a:xfrm>
          <a:prstGeom prst="rect">
            <a:avLst/>
          </a:prstGeom>
          <a:solidFill>
            <a:srgbClr val="ffff99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РГ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556000" y="5157720"/>
            <a:ext cx="3960720" cy="503280"/>
          </a:xfrm>
          <a:prstGeom prst="rect">
            <a:avLst/>
          </a:prstGeom>
          <a:solidFill>
            <a:srgbClr val="99ff66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БЕДА ВОСС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11280" y="5950080"/>
            <a:ext cx="8137440" cy="647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время революции развернулась актив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.Маркса и Ф.Энгельса – выпуск «Новой Рейнской газ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28600"/>
            <a:ext cx="8915400" cy="1143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волюция в Берл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мая 1848 г. – начал свою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принял имперскую конституцию , основанную на образцах Декларации независимости и французской Декларации прав человека и граждан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были дарованы ряд свобод граждан: личности, вероисповедания, свобода собраний, равенство перед зак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были ликвидированы все сословные привил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был создан двухпалатный 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 в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84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году он был разогн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ранкфуртский парл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700280"/>
            <a:ext cx="3095640" cy="865080"/>
          </a:xfrm>
          <a:prstGeom prst="rect">
            <a:avLst/>
          </a:prstGeom>
          <a:solidFill>
            <a:srgbClr val="cc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идрих Вильгель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708360" y="2133720"/>
            <a:ext cx="79236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643280" y="1700280"/>
            <a:ext cx="3095640" cy="865080"/>
          </a:xfrm>
          <a:prstGeom prst="rect">
            <a:avLst/>
          </a:prstGeom>
          <a:solidFill>
            <a:srgbClr val="cc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4500720" y="2565360"/>
            <a:ext cx="1584000" cy="432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268360" y="3068640"/>
            <a:ext cx="4465800" cy="7207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а правительств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цлер Отто фон Бисма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627280" y="4076640"/>
            <a:ext cx="3456000" cy="647640"/>
          </a:xfrm>
          <a:prstGeom prst="rect">
            <a:avLst/>
          </a:prstGeom>
          <a:solidFill>
            <a:srgbClr val="99ff33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ивники 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м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611280" y="5013360"/>
            <a:ext cx="1728720" cy="503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611280" y="5589720"/>
            <a:ext cx="1728720" cy="503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С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11280" y="6165720"/>
            <a:ext cx="1728720" cy="503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84360" y="5084640"/>
            <a:ext cx="1081080" cy="4320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2484360" y="5661000"/>
            <a:ext cx="2087640" cy="432000"/>
          </a:xfrm>
          <a:prstGeom prst="pi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2484360" y="6237360"/>
            <a:ext cx="1081080" cy="43164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3635280" y="5013360"/>
            <a:ext cx="1728720" cy="576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4859280" y="5516640"/>
            <a:ext cx="1728720" cy="576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3708360" y="6093000"/>
            <a:ext cx="1728720" cy="57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6804000" y="4076640"/>
            <a:ext cx="2087640" cy="2521080"/>
          </a:xfrm>
          <a:prstGeom prst="rect">
            <a:avLst/>
          </a:prstGeom>
          <a:solidFill>
            <a:srgbClr val="ccff99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М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ЖЕЛЕ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ОВЬ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900000" y="4869000"/>
            <a:ext cx="1150920" cy="647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 flipH="1">
            <a:off x="826920" y="4869000"/>
            <a:ext cx="1152720" cy="7207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826920" y="5589720"/>
            <a:ext cx="1224000" cy="57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899640" y="5516640"/>
            <a:ext cx="1150920" cy="649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915400" cy="1143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чало объединения Герм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тр.126    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ильный всегда пра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августе 1866 г. 22 немецких государства подписали договор с Пруссией о создании Северогерманского сою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 члены имели монархическое устройство, свои династии, правительства, армии, законы и судебные поря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 главе союза стоя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езиде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должность которого всегда назначался прусский кор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верогерманский союз имел свою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конституцию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арламент и Союзный совет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оявший из министров и представителей всех государств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8915400" cy="1143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Северогерманского сою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араграф 16, вопросы. за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накомиться с экономическим и политическим развитием Герма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яснить  значение возникновения Северогерманского союза и Франкфуртского парламен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рмански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кономическое развитие Герм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ерлин, март 184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ранкфуртский парл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льгельм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вые шаги « железного канцле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ование Северогерманского сою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решению Венского конгресса вместо Священной Римской империи германской нации был создан Германский союз, в который входили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5 суверенных монархий и 4 вольных города                  ( Гамбург, Любек, Бремен и Франкфурт-на-Ма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CongressVienna.jpg"/>
          <p:cNvPicPr/>
          <p:nvPr/>
        </p:nvPicPr>
        <p:blipFill>
          <a:blip r:embed="rId2"/>
          <a:stretch/>
        </p:blipFill>
        <p:spPr>
          <a:xfrm>
            <a:off x="152280" y="2289240"/>
            <a:ext cx="4572000" cy="309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рманский 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14200" y="1143000"/>
            <a:ext cx="2232000" cy="936720"/>
          </a:xfrm>
          <a:prstGeom prst="rect">
            <a:avLst/>
          </a:prstGeom>
          <a:solidFill>
            <a:srgbClr val="ffff99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г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2500200" y="1571760"/>
            <a:ext cx="50508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000240" y="1143000"/>
            <a:ext cx="2952720" cy="936720"/>
          </a:xfrm>
          <a:prstGeom prst="rect">
            <a:avLst/>
          </a:prstGeom>
          <a:solidFill>
            <a:srgbClr val="ffff99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39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6000840" y="1643040"/>
            <a:ext cx="50472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643800" y="1143000"/>
            <a:ext cx="2232000" cy="936720"/>
          </a:xfrm>
          <a:prstGeom prst="rect">
            <a:avLst/>
          </a:prstGeom>
          <a:solidFill>
            <a:srgbClr val="ffff99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м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143240" y="2428920"/>
            <a:ext cx="4714920" cy="407196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стал про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ъедин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сударст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Рисунок10"/>
          <p:cNvPicPr/>
          <p:nvPr/>
        </p:nvPicPr>
        <p:blipFill>
          <a:blip r:embed="rId3"/>
          <a:stretch/>
        </p:blipFill>
        <p:spPr>
          <a:xfrm>
            <a:off x="214200" y="2214720"/>
            <a:ext cx="3672000" cy="449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2362320"/>
            <a:ext cx="472428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ьнейшими чл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и Австрия и Прусс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торые соперни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жду собой 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ство в ед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манском сою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2280"/>
            <a:ext cx="7924680" cy="838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рманский 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28200" y="399960"/>
            <a:ext cx="8115480" cy="102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ономическое развитие Герм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00600" y="15238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В первой половине 19 века Германия оставалась аграрной стр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Многие города несли на себе отпечаток Средневек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Но, реформы, проведённые Наполеоном I принесли свои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7246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95280" y="1557360"/>
            <a:ext cx="3168720" cy="719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564000" y="1916280"/>
            <a:ext cx="129528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932360" y="1557360"/>
            <a:ext cx="3745080" cy="719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ГРАРН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H="1">
            <a:off x="1476360" y="2276640"/>
            <a:ext cx="5184720" cy="50472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95280" y="2924280"/>
            <a:ext cx="2519280" cy="1152360"/>
          </a:xfrm>
          <a:prstGeom prst="rect">
            <a:avLst/>
          </a:prstGeom>
          <a:solidFill>
            <a:srgbClr val="ffff66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ЮНКЕР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ОМЕЩИЧЬ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547640" y="4149720"/>
            <a:ext cx="0" cy="50472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24000" y="4724280"/>
            <a:ext cx="2590560" cy="10796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БАТРАК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ЗЕМ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6659640" y="2276640"/>
            <a:ext cx="144360" cy="50472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4932360" y="2852640"/>
            <a:ext cx="3024360" cy="1152720"/>
          </a:xfrm>
          <a:prstGeom prst="rect">
            <a:avLst/>
          </a:prstGeom>
          <a:solidFill>
            <a:srgbClr val="ffff66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Т ГРОСБАУЭ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ЗАЖИ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ЕСТЬЯ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3203280" y="4076640"/>
            <a:ext cx="3313080" cy="8650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3851280" y="4941720"/>
            <a:ext cx="4897440" cy="648000"/>
          </a:xfrm>
          <a:prstGeom prst="rect">
            <a:avLst/>
          </a:prstGeom>
          <a:solidFill>
            <a:srgbClr val="66ffff"/>
          </a:solidFill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ОЕ РАЗВИТОЕ ГЕРМА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О – ПРУ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6300720" y="5661000"/>
            <a:ext cx="0" cy="3603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3780000" y="6021360"/>
            <a:ext cx="4897440" cy="647640"/>
          </a:xfrm>
          <a:prstGeom prst="rect">
            <a:avLst/>
          </a:prstGeom>
          <a:solidFill>
            <a:srgbClr val="66ffff"/>
          </a:solidFill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АЯ ЦЕЛЬ – 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8600"/>
            <a:ext cx="8915400" cy="1143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ономическое развитие Герм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1834 г.- создание Немецкого таможенного сою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ничтожены шлагба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ыли сняты препятствия для свободной перевозки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 кое-где ещё сохранялись шлагба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915400" cy="1143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ономическое развитие Герм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30-40 годы в немецких государствах активно развивается фабричное производство, выросла богатая торгово-промышленная буржуазия, увеличилась численность наёмных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ономическое развитие Герм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F:\железные дороги.jpg"/>
          <p:cNvPicPr/>
          <p:nvPr/>
        </p:nvPicPr>
        <p:blipFill>
          <a:blip r:embed="rId2"/>
          <a:stretch/>
        </p:blipFill>
        <p:spPr>
          <a:xfrm>
            <a:off x="152280" y="2209680"/>
            <a:ext cx="44197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а</cp:lastModifiedBy>
  <dcterms:modified xsi:type="dcterms:W3CDTF">2013-10-06T14:04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