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7FD-A54B-43D6-91A1-798C8099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F6-22CB-446F-B3F3-5953DCF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20E-E306-43CA-976E-75F8F917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A68-1E48-41DD-8E40-D3A70A74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6794-2926-400B-B9DA-4EC20B6B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95F-3D15-423F-A178-A4A58B00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088-58A8-4E65-B372-C108DB7F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277-F46B-4400-B755-9273D9B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9620-8520-4EA1-A557-4611400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E50-E39F-4036-AA2B-FEEE3F7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4E74-ADD7-4ACE-ADDE-6DB7506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6AB-A678-4EC2-A0EA-28B7E34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CC2C-199B-4623-BFB1-30DACDC3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E16E-F62C-4DB9-82CB-E5447EDE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9A70-7518-4AC2-B12B-F73DF24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1FF1-D6DD-4D2D-A79F-12233B80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4B3-22B1-4C1C-A9B7-26C9EDBB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EE4-F77B-4179-A7CB-7EC7D1F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910-5FC3-4186-9D85-F82826F6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0A9-96D9-4306-A4CE-6550116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8BD-4015-4F53-BCB3-ED889871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29A-89C0-4792-AB16-5355D9A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318-F66D-4DFE-8DCF-F630C2A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C36-28E0-48F5-88DB-BF3DDC0D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CE0F-E5ED-4D24-A614-E2F93EE7609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1739-FEAB-4300-B7F5-A468424BB1B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Как считают месяц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Цветочные час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4392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81560" y="3676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еханические час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2087640" cy="1900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084720" y="1557360"/>
            <a:ext cx="2376720" cy="1873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3564000" y="3573360"/>
            <a:ext cx="2301840" cy="2906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300720" y="3716280"/>
            <a:ext cx="23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Электронные час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675160" cy="280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2521080" cy="2500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26654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Кварцевые час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Атомные час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600720" cy="5113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456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менения Лу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6883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Какие часы изобрел человек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олнечные час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313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Определяют время по изменению длины тени от гномона и ее движению по циферблат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Простейшие солнечные часы показывают солнечное время, а не местное. Пользоваться ими можно только днем и при наличии Солнц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В настоящее время солнечные часы по прямому назначению практически не используются, и  уступили место различным видам других час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3280" y="162828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4032360" cy="2505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Водяные часы (клепсидра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У римлян были в большом ходу водяные часы самого простого устройства, так, например, ими определялась длина речей ораторов в суде. Промежуток времени измерялся количеством воды, вытекавшей капля за каплей из малого отверстия, сделанного на дне сосуда.  Из-за видимого свойства клепсидры появилось высказывание:"Время истекло"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105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Огневые час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380960"/>
            <a:ext cx="8064720" cy="5477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ервые огневые часы были придуманы китайским императором Фо Хи примерно 30.000 лет назад, чтобы с их помощью измерять дневное и ночное время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Песочные час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24000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699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4:13:55Z</dcterms:created>
  <dc:creator>АЛИНА</dc:creator>
  <dc:description/>
  <dc:language>en-US</dc:language>
  <cp:lastModifiedBy>АЛИНА</cp:lastModifiedBy>
  <dcterms:modified xsi:type="dcterms:W3CDTF">2013-09-08T15:44:22Z</dcterms:modified>
  <cp:revision>2</cp:revision>
  <dc:subject/>
  <dc:title>Слайд 1</dc:title>
</cp:coreProperties>
</file>