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CA3-3F6A-4153-8AE4-3E470B2F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F12-D14B-44F3-8496-F78A99B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65E-22A6-46E0-904B-85A3C7A4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248-029A-4625-8B25-24613019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56F-B756-4D24-A6E6-C710040D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1FB-6804-4956-9CD0-815B704A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C13-7123-4CEF-B205-AF1F1497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0AF-CE5D-4D06-84C9-ACD7E13F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7C6-EF50-48C9-84D2-C013072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28C-F6F3-44CA-A421-7474A0B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AFF-0BC8-4704-AF5F-9A3BF087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6B5-1047-4B2A-A6AD-9DFDF74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0074-09B3-4EF9-9F67-BA605AE5BE6A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99520" cy="2219400"/>
          </a:xfrm>
          <a:prstGeom prst="rect">
            <a:avLst/>
          </a:prstGeom>
          <a:ln w="0">
            <a:noFill/>
          </a:ln>
        </p:spPr>
      </p:pic>
      <p:pic>
        <p:nvPicPr>
          <p:cNvPr id="42" name="Схема 3" descr=""/>
          <p:cNvPicPr/>
          <p:nvPr/>
        </p:nvPicPr>
        <p:blipFill>
          <a:blip r:embed="rId2"/>
          <a:stretch/>
        </p:blipFill>
        <p:spPr>
          <a:xfrm>
            <a:off x="1457280" y="2328840"/>
            <a:ext cx="6132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676440" y="-66600"/>
            <a:ext cx="8016840" cy="834840"/>
          </a:xfrm>
          <a:prstGeom prst="rect">
            <a:avLst/>
          </a:prstGeom>
          <a:ln w="0">
            <a:noFill/>
          </a:ln>
        </p:spPr>
      </p:pic>
      <p:pic>
        <p:nvPicPr>
          <p:cNvPr id="44" name="Схема 2" descr=""/>
          <p:cNvPicPr/>
          <p:nvPr/>
        </p:nvPicPr>
        <p:blipFill>
          <a:blip r:embed="rId2"/>
          <a:stretch/>
        </p:blipFill>
        <p:spPr>
          <a:xfrm>
            <a:off x="304920" y="463680"/>
            <a:ext cx="8607240" cy="59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2a2003"/>
              </a:solidFill>
              <a:latin typeface="Constantia"/>
            </a:endParaRPr>
          </a:p>
        </p:txBody>
      </p:sp>
      <p:grpSp>
        <p:nvGrpSpPr>
          <p:cNvPr id="46" name="Группа 2"/>
          <p:cNvGrpSpPr/>
          <p:nvPr/>
        </p:nvGrpSpPr>
        <p:grpSpPr>
          <a:xfrm>
            <a:off x="250920" y="549360"/>
            <a:ext cx="8642160" cy="5327640"/>
            <a:chOff x="250920" y="549360"/>
            <a:chExt cx="8642160" cy="5327640"/>
          </a:xfrm>
        </p:grpSpPr>
        <p:sp>
          <p:nvSpPr>
            <p:cNvPr id="47" name="Прямоугольник 3"/>
            <p:cNvSpPr/>
            <p:nvPr/>
          </p:nvSpPr>
          <p:spPr>
            <a:xfrm>
              <a:off x="250920" y="549360"/>
              <a:ext cx="8642160" cy="5327640"/>
            </a:xfrm>
            <a:prstGeom prst="rect">
              <a:avLst/>
            </a:prstGeom>
            <a:solidFill>
              <a:srgbClr val="f3cd60"/>
            </a:solidFill>
            <a:ln w="25560">
              <a:solidFill>
                <a:srgbClr val="69500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рямоугольник 4"/>
            <p:cNvSpPr/>
            <p:nvPr/>
          </p:nvSpPr>
          <p:spPr>
            <a:xfrm>
              <a:off x="250920" y="549360"/>
              <a:ext cx="864216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92520" bIns="92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2400" spc="-1" strike="noStrike">
                  <a:solidFill>
                    <a:srgbClr val="2a2003"/>
                  </a:solidFill>
                  <a:latin typeface="Constantia"/>
                </a:rPr>
                <a:t>Шестой этап (заключительный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2400" spc="-1" strike="noStrike">
                  <a:solidFill>
                    <a:srgbClr val="2a2003"/>
                  </a:solidFill>
                  <a:latin typeface="Constantia"/>
                </a:rPr>
                <a:t>Заключительным  этапом явилось  проведение итогового мероприятия с детьми. После этого  продумали  и организовали  процесс обсуждения результатов проживания с детьми события недели. Здесь использовали наши традиционные мероприятия: беседу «Подведение итогов недели», заполнение «Календаря жизни группы», оформление фотостенда «Наши достижения» или альбома «Наши славные дела». При этом важно подчеркнуть роль каждого ребенка в   подготовке и проведении  мероприятий.   А фиксация результатов освоения детьми образовательных задач поможет педагогу спроектировать дальнейшую образовательную  деятельность.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37960" y="328680"/>
            <a:ext cx="8564760" cy="253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Раиль\Desktop\тат333.jpg"/>
          <p:cNvPicPr/>
          <p:nvPr/>
        </p:nvPicPr>
        <p:blipFill>
          <a:blip r:embed="rId2"/>
          <a:stretch/>
        </p:blipFill>
        <p:spPr>
          <a:xfrm>
            <a:off x="2124000" y="2060640"/>
            <a:ext cx="54374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хема 2" descr=""/>
          <p:cNvPicPr/>
          <p:nvPr/>
        </p:nvPicPr>
        <p:blipFill>
          <a:blip r:embed="rId1"/>
          <a:stretch/>
        </p:blipFill>
        <p:spPr>
          <a:xfrm>
            <a:off x="1036800" y="781200"/>
            <a:ext cx="73389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2"/>
          <p:cNvSpPr/>
          <p:nvPr/>
        </p:nvSpPr>
        <p:spPr>
          <a:xfrm>
            <a:off x="1619280" y="836640"/>
            <a:ext cx="6192720" cy="5472000"/>
          </a:xfrm>
          <a:prstGeom prst="roundRect">
            <a:avLst>
              <a:gd name="adj" fmla="val 16667"/>
            </a:avLst>
          </a:prstGeom>
          <a:solidFill>
            <a:srgbClr val="f3cd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444444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Calibri"/>
                <a:ea typeface="Times New Roman"/>
              </a:rPr>
              <a:t>Федеральные государственные требования к структуре основной общей образовательной программы дошкольного образования [Утверждены приказом Министерства образования и науки Российской Федерации 23 ноября 2009 г., № 655].</a:t>
            </a:r>
            <a:r>
              <a:rPr b="0" lang="ru-RU" sz="1100" spc="-1" strike="noStrike">
                <a:solidFill>
                  <a:srgbClr val="444444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Calibri"/>
                <a:ea typeface="Times New Roman"/>
              </a:rPr>
              <a:t>«Дошкольное воспитание» №5 2010г. О. Скоролупова, Н. Федина «О комплексно-тематическом принципе построения образовательного процесса в дошкольном образов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Calibri"/>
                <a:ea typeface="Times New Roman"/>
              </a:rPr>
              <a:t>О. А. Скоролупова «Занятия с детьми старшего дошкольного возраста». – М.: «Издательство Скрипторий 2003»,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Calibri"/>
                <a:ea typeface="Times New Roman"/>
              </a:rPr>
              <a:t>Н. Н. Копытова «Организация методической работы старшего воспитателя с педагогическим коллективом ДОУ» СПб Детство-пресс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Calibri"/>
                <a:ea typeface="Times New Roman"/>
              </a:rPr>
              <a:t>«Проектный метод в деятельности дошкольного учреждения» авт.-сост.  Л. С. Киселева, Т. А. Данилина, Т. С. Ладога, М. Б. Зуйкова.- М.: Аркти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lol54.ru/uploads/posts/2011-05/thumbs/1304587248_1302414974_131773_1600_120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539640" y="2565360"/>
            <a:ext cx="82915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2a2003"/>
                </a:solidFill>
                <a:latin typeface="Constantia"/>
              </a:rPr>
              <a:t>Спасибо за внимание!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слан</cp:lastModifiedBy>
  <dcterms:modified xsi:type="dcterms:W3CDTF">2006-08-12T02:56:55Z</dcterms:modified>
  <cp:revision>148</cp:revision>
  <dc:subject/>
  <dc:title>О комплексно-тематическом принципе построения образовательного процесса в логике ФГТ</dc:title>
</cp:coreProperties>
</file>