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D257-15D3-42BA-BB95-592D1A0B0A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87A2-ADA7-4B5F-BB98-873D0DBC2F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расписания для дополнительных сроков/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41B9-41F3-4246-8068-0624A04F97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расписания для дополнительных сроков/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6325-5D10-4B66-8444-9FBFE115B8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расписания для дополнительных сроков/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0BB0-571B-479D-A40A-A8F514AA63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расписания для дополнительных сроков/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6E2B-F749-419B-A0DE-245ED543A9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расписания для дополнительных сроков/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C454-7EB8-4819-8384-34C18019D5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расписания для дополнительных сроков/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D013-8B93-44E7-B12D-6D046FACD2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расписания для дополнительных сроков/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09B7-7CC7-49B7-BAA5-46514292D9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расписания для дополнительных сроков/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8E45-0BDD-4B70-8C5F-1C98D34EE2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расписания для дополнительных сроков/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364B-468B-401A-AD31-D793BB3440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расписания для дополнительных сроков/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094D-80D3-4634-953E-7AC64DB266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ые сведенияо курсе, а также книги (пособия) и материалы, необходимые для занятия/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58B8-BCF7-432E-AF23-E22E58CD3C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расписания для дополнительных сроков/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922B-5C1E-4FB6-AEC5-3C2C7BF36D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расписания для дополнительных сроков/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F3A4-B296-47AA-B850-50FBDA762C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расписания для дополнительных сроков/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1088-F8CF-4B58-9295-2FDC069FE3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расписания для дополнительных сроков/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FD03-3649-4AB1-8AC3-1458706B3E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ые сведенияо курсе, а также книги (пособия) и материалы, необходимые для занятия/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94E5-2549-4B9D-9753-A66C2945F6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расписания для дополнительных сроков/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7D80-09E0-4298-A090-BF126965C3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расписания для дополнительных сроков/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044B-FC94-4503-9022-0146BC1548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расписания для дополнительных сроков/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8DF8-2EBF-47A4-963B-6E4D0B0E5C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расписания для дополнительных сроков/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751A-810D-451D-AA38-94F76B9F35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расписания для дополнительных сроков/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4137-1461-4A56-BF28-2E7FC2709D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расписания для дополнительных сроков/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F1BC-519D-485B-A7A4-412C46DAAC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7E68-8F6F-4378-9037-AD69EE12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1977-7BCC-4E9F-89AC-3D6D2792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A9B86-053D-49AB-BBD1-422EC6F8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828B7-D23E-4514-9AAC-F589024C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BC68E-FB6B-463C-9375-CFFCE4C1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D12BF-FEAE-4145-AC38-616C74AC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8A2B2-CDE7-4514-B90E-F4380D0B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1F849-2453-4195-ADF5-A9B8AED9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DF2A7-4BE2-4A67-B4FA-0F1FBD76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29411-D7C8-4F5E-B44D-72FBA407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E5505-6A87-4CC8-A170-97539707A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7F99B4-07C1-4058-A0B8-540EDBD8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C235-72A2-4EAA-A31B-842ABCFA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C8F56D-4F1C-435E-8665-1D1EB79B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19E515-71B6-449D-9D55-815EBA04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C493BE-DB23-477A-BFEC-60DA611A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B2E4BF-AEC9-487A-8CD4-EFD700FA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FF1BBD-354A-46B4-82DB-F1ED6883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2E92C3-E07C-47D7-A827-43BC2FCB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6C41FD-C186-4186-8F0A-CC1722BA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4A29B9-271A-4840-96EB-F7FFD50C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7B7828-7519-47A8-ADA4-E75F312E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288060-3A38-402F-9904-CC477E677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BCE6-D50F-45D9-B66B-381961B9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D6178E-FE37-41CD-8766-F5D95294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E1BAF-6AC7-47D9-9434-F295E2E4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41946-5A52-4E43-B72F-AE020BEF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0977C-9AC9-44BF-BD2E-8D8367A2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E8165-B639-4684-BCB5-B6409542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D17B9-1EC6-4001-9166-B9ACDB2E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3BB8A-289C-4C06-8B41-982AC8A7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F88DA-2AAF-4F74-B40B-16039811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2D278-3EDA-42C3-B6F9-6DFECE56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82B39-1935-4E83-998C-84B8FB7B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F802-4522-46A6-9AFA-290151AC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18ADF-C89D-4D47-A6A6-1E0BD182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A0A5E-01DF-4E68-A821-A1BC89E2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53B4A-C204-4071-B8BF-6770A0C1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183B-0D5D-4AA2-A369-B14935B0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B3AF-9E80-476B-B753-544D4CFF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5512-0CBF-4602-A41A-91475818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1779-4883-4C60-A5B1-56C5188E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4007-8023-4480-8066-EC83574B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0A7E-8BE8-44AC-827F-9328A79A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E77A-1861-4C54-B575-3FA8456A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1E49-09DB-4A7E-8096-55B5789D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8FDA-FC4E-4802-9FE3-66C185E2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810B-A77A-424F-ADE3-66A86257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7EC1-A5CA-436F-BB6B-C748763E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64F7-2DFD-4BBE-A455-A008AD0F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3D22D-D338-4456-BEC8-10EB5400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D61D3-3872-4432-B5AF-F1ABEAC7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F1725-9318-4001-8E76-9C41DEE3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76AB4-52B1-4B39-A385-C1889BC3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4A356-B91F-4F67-A5E3-52BC39A6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D413-8107-4E5A-A286-D1E6497D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3E7C4-857E-4014-81CC-FA224F29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5A959-E770-48D4-81D3-0E8134F1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6ADE8-9205-44D5-83A3-2B8C837B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8981E-1412-4F0A-AEE1-8A9B1734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EA387-C9FE-4681-97AE-4E802A27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1F572-B304-4D98-B52E-F5436F2C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189A8-9D54-4D3D-8BDF-1789CF9D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17FBFF-270D-470B-97A9-34F54F53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09F740-6219-429A-8EAD-05D94665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001DED-3CC1-4570-A94D-DAD26481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9534-22D1-40D0-9C3A-FF928CA0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DA13B5-6156-4D31-8FFE-4FCED84C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DF6E57-B73B-47D4-8D8A-24E90576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9CB5BA-7F9D-49F8-AA7A-27B15B8D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81CC45-D4FC-49DC-813E-374CD04F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EB0F09-6F48-463F-A85D-1FF8FE79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2486A2-9F6C-410E-8B37-BC355CB6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62017D-50C1-41B2-8DE4-C9CD0BBB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7032F7-EB8E-404A-8DA7-4DA50F4E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665879-D47B-43A1-8D81-C7B8E532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E76C36-6903-43C9-87F1-9EA3ECCC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DC6F-CFA4-4046-A5A9-74B0CC2B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432075-E333-4F78-95B1-4F54E07F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953D89-F7D4-4A49-A383-4DA4FC37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D15B7D-1D33-4D91-BD19-5D132FB2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61623D-5071-4AD6-9EA6-03681EE2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F83870-34D5-432F-B270-EBE741E8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075617-32B7-4CC9-AE84-CA7506AE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C413EF-DD25-4BB2-B2EA-8B013B10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84CED8-A4A9-4DD4-8004-3C1AF5E5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B4BB96-0E76-4B8A-A058-3502D92C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A4FF7D-F840-4A1C-926F-F79C87AE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1D38-8AC4-46E5-A18F-8A334001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C776B2-D195-40D3-AECC-F41D5B6A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2BC1E3-8304-4B25-AD7D-E13A5265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F9C644-E64E-416B-8FF8-FD81B24A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E217B7-0AAE-4AEF-ABE5-A7C0F344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4719F3-674A-4448-8963-43D9EE60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866C28-2765-4F86-A29E-0F1D9FA4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F2C58D-FF0D-4D81-B7D5-ADAC13BF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499F06-C984-4FE4-A7E6-363C8C22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5232D5-0513-44DF-A499-5D17F67A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3958A6-5FF6-4E5C-8171-15679ACD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FF70-DD01-462D-B6FF-E51F77D3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797BF3-7E60-4066-A02D-2A21A884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D7C7DA-5353-4492-879D-0A2252B1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F1D69A-0165-4AEF-832C-BB598C60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8F8AC-D28E-4AFC-B922-67CF2CF5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E75AF-3B42-4CCC-AD95-F2C59C8E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27788-4C62-4C41-9AC9-C3068D37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2BC84-1C4D-41C4-B3BA-57D42818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5131C-D710-4FFF-B83E-73913E43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BEA82-2C02-456D-B911-CCB42962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FA6D9-DD9C-4DB6-8563-394C7448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0E0D-A65A-4189-8DBC-E4CD5743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2D302-7E81-413A-B887-3C69BB15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2B465-C926-4E62-A13A-8A1B9C52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E2063-E526-447C-B5AC-CDFB9C52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771CE-081D-45EE-A989-4B8201A5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4E418-6C87-476E-86D9-94379474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0F86E-2ED4-4131-83E8-B3DE27EE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9459A-98D2-4F7E-AE7E-293F424D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60619-851C-4935-86E2-E3EB826C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8355F-FA3F-4A3F-B0CE-307685D5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B5947-9091-4E2E-ADCB-2D0C2B39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90C0-6050-4272-9BA2-F1F98100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3BBEA-749D-4DB7-8B70-20691C5D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19912-47EB-4AD1-A1DF-177A83C0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126FC-EB7C-446D-8D97-A47FEFFE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36F45-B28E-45B5-A8F3-F3865DE0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2FD64-E391-4EE4-A410-109D49C7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CB935-82A4-4ADA-A8C9-A451220D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444AD-074D-460E-ACD2-8AA67A93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A7F43-06A6-4B65-ADED-54CBCCF0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17471-78D7-49A4-B1E5-D7D9F657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9E8C8-2FFE-4607-B4AD-44B09EC3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B187-6149-4C6F-85C3-0B60165BC29B}" type="datetime">
              <a:rPr b="0" lang="ru-RU" sz="1400" spc="-1" strike="noStrike">
                <a:solidFill>
                  <a:srgbClr val="4f271c"/>
                </a:solidFill>
                <a:latin typeface="Times New Roman"/>
              </a:rPr>
              <a:t>31.07.26</a:t>
            </a:fld>
            <a:r>
              <a:rPr b="0" lang="ru-RU" sz="1400" spc="-1" strike="noStrike">
                <a:solidFill>
                  <a:srgbClr val="4f271c"/>
                </a:solidFill>
                <a:latin typeface="Times New Roman"/>
              </a:rPr>
              <a:t> </a:t>
            </a:r>
            <a:fld id="{393B950F-1B29-49C3-910C-CC4E4AAB763D}" type="datetime10">
              <a:rPr b="0" lang="ru-RU" sz="1400" spc="-1" strike="noStrike">
                <a:solidFill>
                  <a:srgbClr val="4f271c"/>
                </a:solidFill>
                <a:latin typeface="Times New Roman"/>
              </a:rPr>
              <a:t>11:3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531E-C1BD-48E0-8566-1731C42F34F3}" type="slidenum">
              <a:rPr b="1" lang="ru-RU" sz="1200" spc="-1" strike="noStrike">
                <a:solidFill>
                  <a:srgbClr val="4f27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C365-29CA-474A-B5C7-E6B955A7C516}" type="datetime">
              <a:rPr b="0" lang="ru-RU" sz="1400" spc="-1" strike="noStrike">
                <a:solidFill>
                  <a:srgbClr val="4f271c"/>
                </a:solidFill>
                <a:latin typeface="Times New Roman"/>
              </a:rPr>
              <a:t>31.07.26</a:t>
            </a:fld>
            <a:r>
              <a:rPr b="0" lang="ru-RU" sz="1400" spc="-1" strike="noStrike">
                <a:solidFill>
                  <a:srgbClr val="4f271c"/>
                </a:solidFill>
                <a:latin typeface="Times New Roman"/>
              </a:rPr>
              <a:t> </a:t>
            </a:r>
            <a:fld id="{FB3D5163-BA5F-424B-8ADD-A8B0D431F1F4}" type="datetime10">
              <a:rPr b="0" lang="ru-RU" sz="1400" spc="-1" strike="noStrike">
                <a:solidFill>
                  <a:srgbClr val="4f271c"/>
                </a:solidFill>
                <a:latin typeface="Times New Roman"/>
              </a:rPr>
              <a:t>11:3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BDDD-F370-4C99-8412-5A6A29649F2B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C2CA-5DC7-44EA-A58D-942F30554993}" type="datetime">
              <a:rPr b="0" lang="ru-RU" sz="1400" spc="-1" strike="noStrike">
                <a:solidFill>
                  <a:srgbClr val="4f271c"/>
                </a:solidFill>
                <a:latin typeface="Times New Roman"/>
              </a:rPr>
              <a:t>31.07.26</a:t>
            </a:fld>
            <a:r>
              <a:rPr b="0" lang="ru-RU" sz="1400" spc="-1" strike="noStrike">
                <a:solidFill>
                  <a:srgbClr val="4f271c"/>
                </a:solidFill>
                <a:latin typeface="Times New Roman"/>
              </a:rPr>
              <a:t> </a:t>
            </a:r>
            <a:fld id="{58CBBFE9-7960-446F-BAA4-ED90A2EB860A}" type="datetime10">
              <a:rPr b="0" lang="ru-RU" sz="1400" spc="-1" strike="noStrike">
                <a:solidFill>
                  <a:srgbClr val="4f271c"/>
                </a:solidFill>
                <a:latin typeface="Times New Roman"/>
              </a:rPr>
              <a:t>11:3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6988-FA59-4A84-B733-E34D696E313B}" type="slidenum">
              <a:rPr b="1" lang="ru-RU" sz="1200" spc="-1" strike="noStrike">
                <a:solidFill>
                  <a:srgbClr val="4f27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CD7E-6721-4FDD-983A-50712B3B0899}" type="datetime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E18739FD-10AF-43FE-96CF-2846A5F627C7}" type="datetime10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1:39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198B-BA9B-420D-82C9-6FEE61CD2EE7}" type="slidenum">
              <a:rPr b="1" lang="ru-RU" sz="1400" spc="-1" strike="noStrike">
                <a:solidFill>
                  <a:srgbClr val="4f27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72CB-11DE-438A-9DBA-8E5D278AE41F}" type="datetime">
              <a:rPr b="0" lang="ru-RU" sz="1400" spc="-1" strike="noStrike">
                <a:solidFill>
                  <a:srgbClr val="4f271c"/>
                </a:solidFill>
                <a:latin typeface="Times New Roman"/>
              </a:rPr>
              <a:t>31.07.26</a:t>
            </a:fld>
            <a:r>
              <a:rPr b="0" lang="ru-RU" sz="1400" spc="-1" strike="noStrike">
                <a:solidFill>
                  <a:srgbClr val="4f271c"/>
                </a:solidFill>
                <a:latin typeface="Times New Roman"/>
              </a:rPr>
              <a:t> </a:t>
            </a:r>
            <a:fld id="{A40C785F-A242-4203-B3ED-7EBE61D31A1E}" type="datetime10">
              <a:rPr b="0" lang="ru-RU" sz="1400" spc="-1" strike="noStrike">
                <a:solidFill>
                  <a:srgbClr val="4f271c"/>
                </a:solidFill>
                <a:latin typeface="Times New Roman"/>
              </a:rPr>
              <a:t>11:3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8C72-D3D9-4A18-9FA4-BF2C574D97D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A008-F7DC-4DA9-9ABE-7E408D8B1002}" type="datetime">
              <a:rPr b="0" lang="ru-RU" sz="1400" spc="-1" strike="noStrike">
                <a:solidFill>
                  <a:srgbClr val="4f271c"/>
                </a:solidFill>
                <a:latin typeface="Times New Roman"/>
              </a:rPr>
              <a:t>31.07.26</a:t>
            </a:fld>
            <a:r>
              <a:rPr b="0" lang="ru-RU" sz="1400" spc="-1" strike="noStrike">
                <a:solidFill>
                  <a:srgbClr val="4f271c"/>
                </a:solidFill>
                <a:latin typeface="Times New Roman"/>
              </a:rPr>
              <a:t> </a:t>
            </a:r>
            <a:fld id="{4C1A5175-F4B0-4D2D-A254-C1106051A454}" type="datetime10">
              <a:rPr b="0" lang="ru-RU" sz="1400" spc="-1" strike="noStrike">
                <a:solidFill>
                  <a:srgbClr val="4f271c"/>
                </a:solidFill>
                <a:latin typeface="Times New Roman"/>
              </a:rPr>
              <a:t>11:3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CF65-F0BC-45C1-B30D-694ADD751BD8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5DAC-ED19-424B-8D75-5871535416EB}" type="datetime">
              <a:rPr b="0" lang="ru-RU" sz="1400" spc="-1" strike="noStrike">
                <a:solidFill>
                  <a:srgbClr val="4f271c"/>
                </a:solidFill>
                <a:latin typeface="Times New Roman"/>
              </a:rPr>
              <a:t>31.07.26</a:t>
            </a:fld>
            <a:r>
              <a:rPr b="0" lang="ru-RU" sz="1400" spc="-1" strike="noStrike">
                <a:solidFill>
                  <a:srgbClr val="4f271c"/>
                </a:solidFill>
                <a:latin typeface="Times New Roman"/>
              </a:rPr>
              <a:t> </a:t>
            </a:r>
            <a:fld id="{50E6EE07-7726-4B89-A9E1-0B470894BD13}" type="datetime10">
              <a:rPr b="0" lang="ru-RU" sz="1400" spc="-1" strike="noStrike">
                <a:solidFill>
                  <a:srgbClr val="4f271c"/>
                </a:solidFill>
                <a:latin typeface="Times New Roman"/>
              </a:rPr>
              <a:t>11:3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4D03-4830-497C-B3C3-C1DF7E5C486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E24A-1F96-4A21-A0F2-BBA5875621C6}" type="datetime">
              <a:rPr b="0" lang="ru-RU" sz="1400" spc="-1" strike="noStrike">
                <a:solidFill>
                  <a:srgbClr val="4f271c"/>
                </a:solidFill>
                <a:latin typeface="Times New Roman"/>
              </a:rPr>
              <a:t>31.07.26</a:t>
            </a:fld>
            <a:r>
              <a:rPr b="0" lang="ru-RU" sz="1400" spc="-1" strike="noStrike">
                <a:solidFill>
                  <a:srgbClr val="4f271c"/>
                </a:solidFill>
                <a:latin typeface="Times New Roman"/>
              </a:rPr>
              <a:t> </a:t>
            </a:r>
            <a:fld id="{177A1026-3FAD-4DBB-8660-A8072B46C2F1}" type="datetime10">
              <a:rPr b="0" lang="ru-RU" sz="1400" spc="-1" strike="noStrike">
                <a:solidFill>
                  <a:srgbClr val="4f271c"/>
                </a:solidFill>
                <a:latin typeface="Times New Roman"/>
              </a:rPr>
              <a:t>11:3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5E73-052C-407D-A532-7CDA6BFC906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3611-6755-44CD-BE7F-E8081D92DBB3}" type="datetime">
              <a:rPr b="0" lang="ru-RU" sz="1400" spc="-1" strike="noStrike">
                <a:solidFill>
                  <a:srgbClr val="4f271c"/>
                </a:solidFill>
                <a:latin typeface="Times New Roman"/>
              </a:rPr>
              <a:t>31.07.26</a:t>
            </a:fld>
            <a:r>
              <a:rPr b="0" lang="ru-RU" sz="1400" spc="-1" strike="noStrike">
                <a:solidFill>
                  <a:srgbClr val="4f271c"/>
                </a:solidFill>
                <a:latin typeface="Times New Roman"/>
              </a:rPr>
              <a:t> </a:t>
            </a:r>
            <a:fld id="{DEBC3EC0-B207-43FF-8593-5FE363A18761}" type="datetime10">
              <a:rPr b="0" lang="ru-RU" sz="1400" spc="-1" strike="noStrike">
                <a:solidFill>
                  <a:srgbClr val="4f271c"/>
                </a:solidFill>
                <a:latin typeface="Times New Roman"/>
              </a:rPr>
              <a:t>11:3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9416-EE15-4E38-8014-3019B9A59ED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C07B-5507-4242-A2F0-99DBB64F56E2}" type="datetime">
              <a:rPr b="0" lang="ru-RU" sz="1400" spc="-1" strike="noStrike">
                <a:solidFill>
                  <a:srgbClr val="4f271c"/>
                </a:solidFill>
                <a:latin typeface="Times New Roman"/>
              </a:rPr>
              <a:t>31.07.26</a:t>
            </a:fld>
            <a:r>
              <a:rPr b="0" lang="ru-RU" sz="1400" spc="-1" strike="noStrike">
                <a:solidFill>
                  <a:srgbClr val="4f271c"/>
                </a:solidFill>
                <a:latin typeface="Times New Roman"/>
              </a:rPr>
              <a:t> </a:t>
            </a:r>
            <a:fld id="{E8C204CF-EC74-4F8C-BC48-312BE4820355}" type="datetime10">
              <a:rPr b="0" lang="ru-RU" sz="1400" spc="-1" strike="noStrike">
                <a:solidFill>
                  <a:srgbClr val="4f271c"/>
                </a:solidFill>
                <a:latin typeface="Times New Roman"/>
              </a:rPr>
              <a:t>11:3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05DD-0EEE-4B66-8D82-1073784D599F}" type="slidenum">
              <a:rPr b="1" lang="ru-RU" sz="1400" spc="-1" strike="noStrike">
                <a:solidFill>
                  <a:srgbClr val="4f27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Picture 7" descr="sm_pencil.png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2144880"/>
          </a:xfrm>
          <a:prstGeom prst="rect">
            <a:avLst/>
          </a:prstGeom>
          <a:ln cap="sq" w="50760">
            <a:solidFill>
              <a:srgbClr val="feb80a"/>
            </a:solidFill>
            <a:miter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7EAC-3321-40CC-A587-61A54AE0E486}" type="datetime">
              <a:rPr b="0" lang="ru-RU" sz="1400" spc="-1" strike="noStrike">
                <a:solidFill>
                  <a:srgbClr val="4f271c"/>
                </a:solidFill>
                <a:latin typeface="Times New Roman"/>
              </a:rPr>
              <a:t>31.07.26</a:t>
            </a:fld>
            <a:r>
              <a:rPr b="0" lang="ru-RU" sz="1400" spc="-1" strike="noStrike">
                <a:solidFill>
                  <a:srgbClr val="4f271c"/>
                </a:solidFill>
                <a:latin typeface="Times New Roman"/>
              </a:rPr>
              <a:t> </a:t>
            </a:r>
            <a:fld id="{3EBB8447-1339-425C-B96D-7F3BAA5ACC2C}" type="datetime10">
              <a:rPr b="0" lang="ru-RU" sz="1400" spc="-1" strike="noStrike">
                <a:solidFill>
                  <a:srgbClr val="4f271c"/>
                </a:solidFill>
                <a:latin typeface="Times New Roman"/>
              </a:rPr>
              <a:t>11:3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3D4D-F47E-4B34-9C08-E8D0055D686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0" y="3357720"/>
            <a:ext cx="66787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a6d7d"/>
                </a:solidFill>
                <a:latin typeface="Calibri"/>
              </a:rPr>
              <a:t>КОНФЛИКТОЛОГИЧЕСКАЯ КОМПЕТЕНТНОСТЬ</a:t>
            </a:r>
            <a:br>
              <a:rPr sz="4000"/>
            </a:br>
            <a:r>
              <a:rPr b="1" lang="ru-RU" sz="4000" spc="-1" strike="noStrike">
                <a:solidFill>
                  <a:srgbClr val="2a6d7d"/>
                </a:solidFill>
                <a:latin typeface="Calibri"/>
              </a:rPr>
              <a:t>КАК СОСТАВЛЯЮЩАЯ КУЛЬТУРЫ ПЕДАГОГА</a:t>
            </a:r>
            <a:endParaRPr b="0" lang="en-US" sz="4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Горбунова Н. В.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читель географии,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МОУ СОШ им. А.С. Попова городского округа Власих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8425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ТЕСТ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: «Уровень конфликтности личности»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539640" y="1575000"/>
            <a:ext cx="842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) Что для вас было бы наиболее характерно, если бы вы возглави¬ли новый для вас коллектив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)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работал бы программу развития коллектива на год вперед и убедил бы членов коллектива в ее перспектив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учил бы, кто есть кто, и установил бы контакт с лидер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)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аще советовался бы с людь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8425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ТЕСТ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: «Уровень конфликтности личности»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539640" y="1572480"/>
            <a:ext cx="842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6)В случае неудач какое состояние для вас наиболее характерн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ессимиз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лохое настро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бида на самого себ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8425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ТЕСТ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: «Уровень конфликтности личности»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539640" y="1513440"/>
            <a:ext cx="842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) Характерно ли для вас стремление отстаивать и соблюдать тра-диции вашего коллектив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корее всего 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8425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ТЕСТ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: «Уровень конфликтности личности»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539640" y="1513440"/>
            <a:ext cx="842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8) Относите ли вы себя к людям, которым лучше в глаза сказать горькую правду, чем промолчат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корее всего 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8425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ТЕСТ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: «Уровень конфликтности личности»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539640" y="1513440"/>
            <a:ext cx="842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9)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з трех личностных качеств, с которыми вы боретесь, чаще всего вы стараетесь изжить в себ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здражитель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бидчив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терпимость критики други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8425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ТЕСТ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: «Уровень конфликтности личности»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539640" y="1569960"/>
            <a:ext cx="842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0)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то вы в большей степен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зависимы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лиде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енератор ид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8425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ТЕСТ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: «Уровень конфликтности личности»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539640" y="1510560"/>
            <a:ext cx="842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1)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им человеком считают вас ваши друзь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кстравагантны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птимис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стойчивы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8425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ТЕСТ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: «Уровень конфликтности личности»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539640" y="1510560"/>
            <a:ext cx="842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2)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 чем вам чаще всего приходится боротьс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 несправедливость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 бюрократизм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 эгоизм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8425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ТЕСТ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: «Уровень конфликтности личности»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539640" y="1568880"/>
            <a:ext cx="842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3)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 для вас наиболее характерн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дооцениваю свои способ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цениваю свои способности объектив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еоцениваю свои способ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8425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ТЕСТ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: «Уровень конфликтности личности»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539640" y="1572480"/>
            <a:ext cx="842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4. Что приводит вас к столкновению и конфликту с людь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злишняя инициати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злишняя критич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злишняя прямолиней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8223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271c"/>
                </a:solidFill>
                <a:latin typeface="Calibri"/>
              </a:rPr>
              <a:t>Конфликт в афоризмах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3" name="Прямоугольник 9"/>
          <p:cNvSpPr/>
          <p:nvPr/>
        </p:nvSpPr>
        <p:spPr>
          <a:xfrm>
            <a:off x="826920" y="4437000"/>
            <a:ext cx="8066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«Если есть готовность к конфликту – повод для конфликта найдется всегда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Picture 21" descr="C:\Users\kogor\AppData\Local\Microsoft\Windows\Temporary Internet Files\Content.IE5\T0PAYYHA\MC900434395[1].wmf"/>
          <p:cNvPicPr/>
          <p:nvPr/>
        </p:nvPicPr>
        <p:blipFill>
          <a:blip r:embed="rId1"/>
          <a:stretch/>
        </p:blipFill>
        <p:spPr>
          <a:xfrm>
            <a:off x="2340000" y="1557360"/>
            <a:ext cx="433080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8425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ТЕСТ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: «Уровень конфликтности личности»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0" y="1486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бработка результатов тестир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Прямоугольник 4"/>
          <p:cNvSpPr/>
          <p:nvPr/>
        </p:nvSpPr>
        <p:spPr>
          <a:xfrm>
            <a:off x="0" y="206064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 ответы к каждому вопросу имеют свою оценку в баллах. Замените выбранные вами буквы баллами и подсчитайте общую сумму набранных вами балл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179280" y="2781360"/>
          <a:ext cx="8820360" cy="39607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520"/>
                <a:gridCol w="588960"/>
                <a:gridCol w="587160"/>
                <a:gridCol w="588960"/>
                <a:gridCol w="587520"/>
                <a:gridCol w="587160"/>
                <a:gridCol w="588960"/>
                <a:gridCol w="587520"/>
                <a:gridCol w="588960"/>
                <a:gridCol w="587520"/>
                <a:gridCol w="587160"/>
                <a:gridCol w="588960"/>
                <a:gridCol w="587520"/>
              </a:tblGrid>
              <a:tr h="98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8425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ТЕСТ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: «Уровень конфликтности личности»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0" y="1486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зультаты тест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1476360" y="2276640"/>
          <a:ext cx="6095880" cy="40845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ал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зульта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-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ень 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-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же средн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-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иже к средне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-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иже к средне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-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ше средн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-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-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ень высо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8425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Calibri"/>
              </a:rPr>
              <a:t>Пять ступеней в преодолении конфликтов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542" name="Прямоугольник 16" descr=""/>
          <p:cNvPicPr/>
          <p:nvPr/>
        </p:nvPicPr>
        <p:blipFill>
          <a:blip r:embed="rId1"/>
          <a:stretch/>
        </p:blipFill>
        <p:spPr>
          <a:xfrm>
            <a:off x="4591080" y="2389320"/>
            <a:ext cx="3846600" cy="750600"/>
          </a:xfrm>
          <a:prstGeom prst="rect">
            <a:avLst/>
          </a:prstGeom>
          <a:ln w="0">
            <a:noFill/>
          </a:ln>
        </p:spPr>
      </p:pic>
      <p:pic>
        <p:nvPicPr>
          <p:cNvPr id="543" name="Прямоугольник 18" descr=""/>
          <p:cNvPicPr/>
          <p:nvPr/>
        </p:nvPicPr>
        <p:blipFill>
          <a:blip r:embed="rId2"/>
          <a:stretch/>
        </p:blipFill>
        <p:spPr>
          <a:xfrm>
            <a:off x="3511440" y="3035160"/>
            <a:ext cx="4926240" cy="755640"/>
          </a:xfrm>
          <a:prstGeom prst="rect">
            <a:avLst/>
          </a:prstGeom>
          <a:ln w="0">
            <a:noFill/>
          </a:ln>
        </p:spPr>
      </p:pic>
      <p:pic>
        <p:nvPicPr>
          <p:cNvPr id="544" name="Прямоугольник 19" descr=""/>
          <p:cNvPicPr/>
          <p:nvPr/>
        </p:nvPicPr>
        <p:blipFill>
          <a:blip r:embed="rId3"/>
          <a:stretch/>
        </p:blipFill>
        <p:spPr>
          <a:xfrm>
            <a:off x="2359080" y="3687840"/>
            <a:ext cx="6078600" cy="750960"/>
          </a:xfrm>
          <a:prstGeom prst="rect">
            <a:avLst/>
          </a:prstGeom>
          <a:ln w="0">
            <a:noFill/>
          </a:ln>
        </p:spPr>
      </p:pic>
      <p:pic>
        <p:nvPicPr>
          <p:cNvPr id="545" name="Прямоугольник 20" descr=""/>
          <p:cNvPicPr/>
          <p:nvPr/>
        </p:nvPicPr>
        <p:blipFill>
          <a:blip r:embed="rId4"/>
          <a:stretch/>
        </p:blipFill>
        <p:spPr>
          <a:xfrm>
            <a:off x="1420920" y="4334040"/>
            <a:ext cx="7016760" cy="750600"/>
          </a:xfrm>
          <a:prstGeom prst="rect">
            <a:avLst/>
          </a:prstGeom>
          <a:ln w="0">
            <a:noFill/>
          </a:ln>
        </p:spPr>
      </p:pic>
      <p:pic>
        <p:nvPicPr>
          <p:cNvPr id="546" name="Прямоугольник 21" descr=""/>
          <p:cNvPicPr/>
          <p:nvPr/>
        </p:nvPicPr>
        <p:blipFill>
          <a:blip r:embed="rId5"/>
          <a:stretch/>
        </p:blipFill>
        <p:spPr>
          <a:xfrm>
            <a:off x="554040" y="4979880"/>
            <a:ext cx="7883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2232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271c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48" name="Rectangle 1"/>
          <p:cNvSpPr/>
          <p:nvPr/>
        </p:nvSpPr>
        <p:spPr>
          <a:xfrm>
            <a:off x="4211640" y="2149200"/>
            <a:ext cx="4535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33"/>
                </a:solidFill>
                <a:latin typeface="Calibri"/>
                <a:ea typeface="Times New Roman"/>
              </a:rPr>
              <a:t>«Конфликт любой всегда уладит мудрец, владеющий собо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Рисунок 8" descr="migdal-17042-16537.jpg"/>
          <p:cNvPicPr/>
          <p:nvPr/>
        </p:nvPicPr>
        <p:blipFill>
          <a:blip r:embed="rId1"/>
          <a:stretch/>
        </p:blipFill>
        <p:spPr>
          <a:xfrm>
            <a:off x="826920" y="1989000"/>
            <a:ext cx="31384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8223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271c"/>
                </a:solidFill>
                <a:latin typeface="Calibri"/>
              </a:rPr>
              <a:t>Что такое конфликт?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6" name="Прямоугольник 4"/>
          <p:cNvSpPr/>
          <p:nvPr/>
        </p:nvSpPr>
        <p:spPr>
          <a:xfrm>
            <a:off x="611280" y="450864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использовать это понятие в столь широком смысле, то можно сказать, что конфликтуют вода и пламя, птица и притяжение земли. Можно говорить о конфликте кошки с собакой или овцы с волк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Прямоугольник 8"/>
          <p:cNvSpPr/>
          <p:nvPr/>
        </p:nvSpPr>
        <p:spPr>
          <a:xfrm>
            <a:off x="5508720" y="1700280"/>
            <a:ext cx="331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во конфликт происходит от латинского 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</a:rPr>
              <a:t>conflictus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столкновение, противоборств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8" name="Рисунок 9" descr="1.jpg"/>
          <p:cNvPicPr/>
          <p:nvPr/>
        </p:nvPicPr>
        <p:blipFill>
          <a:blip r:embed="rId1"/>
          <a:stretch/>
        </p:blipFill>
        <p:spPr>
          <a:xfrm>
            <a:off x="611280" y="1700280"/>
            <a:ext cx="4725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Calibri"/>
              </a:rPr>
              <a:t>Система классных часов на тему: «Готовность разрешить конфликт»</a:t>
            </a:r>
            <a:endParaRPr b="0" lang="en-US" sz="2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00" name="Rectangle 1"/>
          <p:cNvSpPr/>
          <p:nvPr/>
        </p:nvSpPr>
        <p:spPr>
          <a:xfrm>
            <a:off x="4643280" y="1718640"/>
            <a:ext cx="4249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33333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Классный час на тему: «Конфликты в нашей жизн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3333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Классный час на тему: «Уровень конфликтности личност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Рисунок 6" descr="a1.JPG"/>
          <p:cNvPicPr/>
          <p:nvPr/>
        </p:nvPicPr>
        <p:blipFill>
          <a:blip r:embed="rId1"/>
          <a:stretch/>
        </p:blipFill>
        <p:spPr>
          <a:xfrm>
            <a:off x="324000" y="1916280"/>
            <a:ext cx="4286160" cy="2952720"/>
          </a:xfrm>
          <a:prstGeom prst="rect">
            <a:avLst/>
          </a:prstGeom>
          <a:ln w="0">
            <a:noFill/>
          </a:ln>
        </p:spPr>
      </p:pic>
      <p:sp>
        <p:nvSpPr>
          <p:cNvPr id="502" name="Прямоугольник 7"/>
          <p:cNvSpPr/>
          <p:nvPr/>
        </p:nvSpPr>
        <p:spPr>
          <a:xfrm>
            <a:off x="395280" y="51577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33333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Практикум по культуре общения «Учимся разрешать конфликт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8425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Calibri"/>
              </a:rPr>
              <a:t>Классный час на тему: </a:t>
            </a:r>
            <a:r>
              <a:rPr b="0" lang="ru-RU" sz="2800" spc="-1" strike="noStrike">
                <a:solidFill>
                  <a:srgbClr val="4f271c"/>
                </a:solidFill>
                <a:latin typeface="Calibri"/>
              </a:rPr>
              <a:t>«Конфликты в нашей жизни»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1258920" y="1628640"/>
            <a:ext cx="685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СТ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ценка собственного поведения в конфликтной ситау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2" descr="C:\Users\kogor\AppData\Local\Microsoft\Windows\Temporary Internet Files\Content.IE5\VA6SH80N\MP900431275[1].jpg"/>
          <p:cNvPicPr/>
          <p:nvPr/>
        </p:nvPicPr>
        <p:blipFill>
          <a:blip r:embed="rId1"/>
          <a:stretch/>
        </p:blipFill>
        <p:spPr>
          <a:xfrm>
            <a:off x="2195640" y="3429000"/>
            <a:ext cx="47545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8425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ТЕСТ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: «Уровень конфликтности личности»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539640" y="1575360"/>
            <a:ext cx="820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1) Характерно ли для вас стремление к доминированию, то есть к тому, чтобы подчинить своей воле других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A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н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Б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когда ка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B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8425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ТЕСТ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: «Уровень конфликтности личности»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539640" y="1575360"/>
            <a:ext cx="820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)Есть ли в вашем коллективе люди, которые вас побаиваются, а возможно, и ненавидят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тветить затрудняюс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8425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ТЕСТ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: «Уровень конфликтности личности»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539640" y="157248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то вы в большей степен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ацифис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нципиаль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едприимчив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8425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ТЕСТ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: «Уровень конфликтности личности»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539640" y="157248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 часто вам приходится выступать с критическими суждения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ас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ериодичес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дк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7:07:07Z</dcterms:created>
  <dc:creator/>
  <dc:description/>
  <dc:language>en-US</dc:language>
  <cp:lastModifiedBy/>
  <dcterms:modified xsi:type="dcterms:W3CDTF">2010-12-12T19:11:3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799990</vt:lpwstr>
  </property>
</Properties>
</file>