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291-B086-4B3C-B665-9436FD61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7B0-850A-4327-B787-878F892F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61F-99FF-461A-ADA9-985461CB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113-99A8-45F8-8B48-B187A617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1B5-91FD-4334-9846-B11DBA35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028-D0E8-40B1-B3D4-21E5D31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556-A6B5-46E1-83EF-A6020631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8C4-5AC7-4438-B437-6A5E598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D99-541B-4F22-9E70-0D627426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034-E18F-4B5F-BFCE-E331DEEC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149-24B3-4893-ADD5-0B9B4003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A64-B777-4A5C-9BB5-032CD7E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2832-CAB7-4AAC-8E79-F6FCF76C2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77;&#1075;&#1086;&#1088;&#1080;&#1103;:&#1054;&#1090;&#1090;&#1077;&#1085;&#1082;&#1080;_&#1082;&#1088;&#1072;&#1089;&#1085;&#1086;&#1075;&#1086;_&#1094;&#1074;&#1077;&#1090;&#1072;" TargetMode="External"/><Relationship Id="rId2" Type="http://schemas.openxmlformats.org/officeDocument/2006/relationships/hyperlink" Target="http://ru.wikipedia.org/wiki/&#1050;&#1088;&#1072;&#1089;&#1085;&#1099;&#1081;_&#1094;&#1074;&#1077;&#1090;" TargetMode="External"/><Relationship Id="rId3" Type="http://schemas.openxmlformats.org/officeDocument/2006/relationships/hyperlink" Target="http://ru.wikipedia.org/wiki/&#1040;&#1083;&#1080;&#1079;&#1072;&#1088;&#1080;&#1085;&#1086;&#1074;&#1099;&#1081;_&#1082;&#1088;&#1072;&#1089;&#1085;&#1099;&#1081;_&#1094;&#1074;&#1077;&#1090;" TargetMode="External"/><Relationship Id="rId4" Type="http://schemas.openxmlformats.org/officeDocument/2006/relationships/hyperlink" Target="http://ru.wikipedia.org/w/index.php?title=Burgundy_(color)&amp;action=edit&amp;redlink=1" TargetMode="External"/><Relationship Id="rId5" Type="http://schemas.openxmlformats.org/officeDocument/2006/relationships/hyperlink" Target="http://ru.wikipedia.org/wiki/&#1050;&#1072;&#1088;&#1076;&#1080;&#1085;&#1072;&#1083;_(&#1094;&#1074;&#1077;&#1090;)" TargetMode="External"/><Relationship Id="rId6" Type="http://schemas.openxmlformats.org/officeDocument/2006/relationships/hyperlink" Target="http://ru.wikipedia.org/wiki/&#1050;&#1072;&#1088;&#1084;&#1080;&#1085;_(&#1094;&#1074;&#1077;&#1090;)" TargetMode="External"/><Relationship Id="rId7" Type="http://schemas.openxmlformats.org/officeDocument/2006/relationships/hyperlink" Target="http://ru.wikipedia.org/w/index.php?title=Cerise_(color)&amp;action=edit&amp;redlink=1" TargetMode="External"/><Relationship Id="rId8" Type="http://schemas.openxmlformats.org/officeDocument/2006/relationships/hyperlink" Target="http://ru.wikipedia.org/wiki/&#1050;&#1072;&#1096;&#1090;&#1072;&#1085;&#1086;&#1074;&#1099;&#1081;_&#1094;&#1074;&#1077;&#1090;" TargetMode="External"/><Relationship Id="rId9" Type="http://schemas.openxmlformats.org/officeDocument/2006/relationships/hyperlink" Target="http://ru.wikipedia.org/wiki/&#1052;&#1072;&#1083;&#1080;&#1085;&#1086;&#1074;&#1099;&#1081;_&#1094;&#1074;&#1077;&#1090;" TargetMode="External"/><Relationship Id="rId10" Type="http://schemas.openxmlformats.org/officeDocument/2006/relationships/hyperlink" Target="http://ru.wikipedia.org/w/index.php?title=&#1060;&#1072;&#1083;&#1091;&#1085;&#1089;&#1082;&#1080;&#1081;_&#1082;&#1088;&#1072;&#1089;&#1085;&#1099;&#1081;&amp;action=edit&amp;redlink=1" TargetMode="External"/><Relationship Id="rId11" Type="http://schemas.openxmlformats.org/officeDocument/2006/relationships/hyperlink" Target="http://ru.wikipedia.org/wiki/&#1060;&#1091;&#1082;&#1089;&#1080;&#1103;_(&#1094;&#1074;&#1077;&#1090;)" TargetMode="External"/><Relationship Id="rId12" Type="http://schemas.openxmlformats.org/officeDocument/2006/relationships/hyperlink" Target="http://ru.wikipedia.org/w/index.php?title=Printer&apos;s_Magenta&amp;action=edit&amp;redlink=1" TargetMode="External"/><Relationship Id="rId13" Type="http://schemas.openxmlformats.org/officeDocument/2006/relationships/hyperlink" Target="http://ru.wikipedia.org/wiki/&#1058;&#1105;&#1084;&#1085;&#1086;-&#1073;&#1086;&#1088;&#1076;&#1086;&#1074;&#1099;&#1081;_(&#1094;&#1074;&#1077;&#1090;)" TargetMode="External"/><Relationship Id="rId14" Type="http://schemas.openxmlformats.org/officeDocument/2006/relationships/hyperlink" Target="http://ru.wikipedia.org/w/index.php?title=Mauve&amp;action=edit&amp;redlink=1" TargetMode="External"/><Relationship Id="rId15" Type="http://schemas.openxmlformats.org/officeDocument/2006/relationships/hyperlink" Target="http://ru.wikipedia.org/wiki/&#1050;&#1088;&#1072;&#1089;&#1085;&#1099;&#1081;_&#1094;&#1074;&#1077;&#1090;" TargetMode="External"/><Relationship Id="rId16" Type="http://schemas.openxmlformats.org/officeDocument/2006/relationships/hyperlink" Target="http://ru.wikipedia.org/w/index.php?title=&#1050;&#1088;&#1072;&#1089;&#1085;&#1086;-&#1092;&#1080;&#1086;&#1083;&#1077;&#1090;&#1086;&#1074;&#1099;&#1081;&amp;action=edit&amp;redlink=1" TargetMode="External"/><Relationship Id="rId17" Type="http://schemas.openxmlformats.org/officeDocument/2006/relationships/hyperlink" Target="http://ru.wikipedia.org/wiki/&#1056;&#1078;&#1072;&#1074;&#1099;&#1081;_&#1094;&#1074;&#1077;&#1090;" TargetMode="External"/><Relationship Id="rId18" Type="http://schemas.openxmlformats.org/officeDocument/2006/relationships/hyperlink" Target="http://ru.wikipedia.org/wiki/&#1050;&#1088;&#1072;&#1089;&#1085;&#1086;&#1074;&#1072;&#1090;&#1086;-&#1082;&#1086;&#1088;&#1080;&#1095;&#1085;&#1077;&#1074;&#1099;&#1081;" TargetMode="External"/><Relationship Id="rId19" Type="http://schemas.openxmlformats.org/officeDocument/2006/relationships/hyperlink" Target="http://ru.wikipedia.org/w/index.php?title=Sangria_(color)&amp;action=edit&amp;redlink=1" TargetMode="External"/><Relationship Id="rId20" Type="http://schemas.openxmlformats.org/officeDocument/2006/relationships/hyperlink" Target="http://ru.wikipedia.org/wiki/&#1040;&#1083;&#1099;&#1081;_(&#1094;&#1074;&#1077;&#1090;)" TargetMode="External"/><Relationship Id="rId21" Type="http://schemas.openxmlformats.org/officeDocument/2006/relationships/hyperlink" Target="http://ru.wikipedia.org/wiki/&#1058;&#1077;&#1088;&#1088;&#1072;&#1082;&#1086;&#1090;&#1072;_(&#1094;&#1074;&#1077;&#1090;)" TargetMode="External"/><Relationship Id="rId22" Type="http://schemas.openxmlformats.org/officeDocument/2006/relationships/hyperlink" Target="http://ru.wikipedia.org/wiki/&#1050;&#1080;&#1085;&#1086;&#1074;&#1072;&#1088;&#1100;_(&#1094;&#1074;&#1077;&#1090;)" TargetMode="External"/><Relationship Id="rId23" Type="http://schemas.openxmlformats.org/officeDocument/2006/relationships/hyperlink" Target="http://ru.wikipedia.org/wiki/&#1040;&#1084;&#1072;&#1088;&#1072;&#1085;&#1090;&#1086;&#1074;&#1099;&#1081;_(&#1094;&#1074;&#1077;&#1090;)" TargetMode="External"/><Relationship Id="rId24" Type="http://schemas.openxmlformats.org/officeDocument/2006/relationships/hyperlink" Target="http://ru.wikipedia.org/wiki/&#1056;&#1086;&#1079;&#1086;&#1074;&#1099;&#1081;_&#1094;&#1074;&#1077;&#1090;" TargetMode="External"/><Relationship Id="rId25" Type="http://schemas.openxmlformats.org/officeDocument/2006/relationships/hyperlink" Target="http://ru.wikipedia.org/w/index.php?title=&#1060;&#1091;&#1082;&#1089;&#1080;&#1103;_(&#1094;&#1074;&#1077;&#1090;))&amp;action=edit&amp;redlink=1" TargetMode="External"/><Relationship Id="rId26" Type="http://schemas.openxmlformats.org/officeDocument/2006/relationships/hyperlink" Target="http://ru.wikipedia.org/wiki/&#1064;&#1086;&#1082;&#1080;&#1088;&#1091;&#1102;&#1097;&#1080;&#1081;_&#1088;&#1086;&#1079;&#1086;&#1074;&#1099;&#1081;" TargetMode="External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-212760" y="1305000"/>
            <a:ext cx="9337680" cy="3217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72040" y="60008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итель нач.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ин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42.jpg"/>
          <p:cNvPicPr/>
          <p:nvPr/>
        </p:nvPicPr>
        <p:blipFill>
          <a:blip r:embed="rId1"/>
          <a:stretch/>
        </p:blipFill>
        <p:spPr>
          <a:xfrm>
            <a:off x="0" y="0"/>
            <a:ext cx="89535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67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68.jpg"/>
          <p:cNvPicPr/>
          <p:nvPr/>
        </p:nvPicPr>
        <p:blipFill>
          <a:blip r:embed="rId1"/>
          <a:stretch/>
        </p:blipFill>
        <p:spPr>
          <a:xfrm>
            <a:off x="142920" y="142920"/>
            <a:ext cx="873900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86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134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185.jpg"/>
          <p:cNvPicPr/>
          <p:nvPr/>
        </p:nvPicPr>
        <p:blipFill>
          <a:blip r:embed="rId1"/>
          <a:stretch/>
        </p:blipFill>
        <p:spPr>
          <a:xfrm>
            <a:off x="0" y="214200"/>
            <a:ext cx="89535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57120" y="0"/>
            <a:ext cx="84088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57120" y="428760"/>
            <a:ext cx="84297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асно гумно стогами, а стол пиро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асна девица в хороводе, что маков цвет в огор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асну речь красно и слуш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асна пава пером, а человек – ум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якое дело мера крас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место красит человека, а человек мес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142920"/>
          <a:ext cx="9144000" cy="62863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636480">
                <a:tc gridSpan="2"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Оттенки красного цвета: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16560" rIns="1656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Красный цвет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40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Ализарин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Burgundy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Кардинал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/>
                        </a:rPr>
                        <a:t>Кармин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/>
                        </a:rPr>
                        <a:t>Cerise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/>
                        </a:rPr>
                        <a:t>Каштан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/>
                        </a:rPr>
                        <a:t>Малин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/>
                        </a:rPr>
                        <a:t>Фалунский красн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/>
                        </a:rPr>
                        <a:t>Фуксия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/>
                        </a:rPr>
                        <a:t>Printer's Magenta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/>
                        </a:rPr>
                        <a:t>Тёмно-борд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/>
                        </a:rPr>
                        <a:t>Сиреневый, лил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32636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2636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90002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00020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41E3A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1e3a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960018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0018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DE3163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3163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D5C5C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5c5c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DC143C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143c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801818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1818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F00FF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F009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90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80000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0B0FF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b0ff"/>
                    </a:solidFill>
                  </a:tcPr>
                </a:tc>
              </a:tr>
              <a:tr h="1628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/>
                        </a:rPr>
                        <a:t>Красн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/>
                        </a:rPr>
                        <a:t>Красно-фиолет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/>
                        </a:rPr>
                        <a:t>Ржа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/>
                        </a:rPr>
                        <a:t>Красновато-коричне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/>
                        </a:rPr>
                        <a:t>Sangria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/>
                        </a:rPr>
                        <a:t>Ал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/>
                        </a:rPr>
                        <a:t>Терракота (цвет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/>
                        </a:rPr>
                        <a:t>Киноварь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/>
                        </a:rPr>
                        <a:t>Амарант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/>
                        </a:rPr>
                        <a:t>Роз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/>
                        </a:rPr>
                        <a:t>Светло-вишнё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6"/>
                        </a:rPr>
                        <a:t>Шокирующий роз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F000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71585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1585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b7410e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410e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C8899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899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92000a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000a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F240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2400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C4E5C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4e5c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34234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4234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52B5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2b50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F007F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7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FCBDB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00a1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C0FC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0fc0"/>
                    </a:solidFill>
                  </a:tcPr>
                </a:tc>
              </a:tr>
              <a:tr h="78912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алл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нат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довый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F404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040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F34723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723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B00000 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0000"/>
                    </a:solidFill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8280" bIns="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3"/>
          <p:cNvSpPr/>
          <p:nvPr/>
        </p:nvSpPr>
        <p:spPr>
          <a:xfrm>
            <a:off x="0" y="1785960"/>
            <a:ext cx="107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лизарин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071720" y="1785960"/>
            <a:ext cx="78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ургунд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857240" y="1785960"/>
            <a:ext cx="100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рдина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643120" y="1785960"/>
            <a:ext cx="7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рм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286080" y="1785960"/>
            <a:ext cx="642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ерай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857760" y="178596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штан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786200" y="1785960"/>
            <a:ext cx="100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лин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643720" y="1643040"/>
            <a:ext cx="85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алунский крас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6286680" y="1857240"/>
            <a:ext cx="64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укс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6858000" y="1857240"/>
            <a:ext cx="71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ген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7500960" y="1643040"/>
            <a:ext cx="85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ёмно-борд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8286840" y="1785960"/>
            <a:ext cx="85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ирене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0" y="407196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с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714240" y="4000680"/>
            <a:ext cx="92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сно-фиолет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1571760" y="4071960"/>
            <a:ext cx="71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жа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2214720" y="4000680"/>
            <a:ext cx="928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сно-коричне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3071880" y="4071960"/>
            <a:ext cx="71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ангр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3786120" y="4071960"/>
            <a:ext cx="57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л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4429080" y="407196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рако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5214960" y="407196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новар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5929200" y="4071960"/>
            <a:ext cx="100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марант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6786720" y="4071960"/>
            <a:ext cx="78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оз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7500960" y="4000680"/>
            <a:ext cx="85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етло-вишнё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8215200" y="3998880"/>
            <a:ext cx="1071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Шокирующий роз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0" y="5500800"/>
            <a:ext cx="9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ралл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0"/>
          <p:cNvSpPr/>
          <p:nvPr/>
        </p:nvSpPr>
        <p:spPr>
          <a:xfrm>
            <a:off x="928800" y="5500800"/>
            <a:ext cx="92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нат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1"/>
          <p:cNvSpPr/>
          <p:nvPr/>
        </p:nvSpPr>
        <p:spPr>
          <a:xfrm>
            <a:off x="1785960" y="5500800"/>
            <a:ext cx="85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ордов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01.jpg"/>
          <p:cNvPicPr/>
          <p:nvPr/>
        </p:nvPicPr>
        <p:blipFill>
          <a:blip r:embed="rId1"/>
          <a:stretch/>
        </p:blipFill>
        <p:spPr>
          <a:xfrm>
            <a:off x="-95400" y="0"/>
            <a:ext cx="89535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08.jpg"/>
          <p:cNvPicPr/>
          <p:nvPr/>
        </p:nvPicPr>
        <p:blipFill>
          <a:blip r:embed="rId1"/>
          <a:stretch/>
        </p:blipFill>
        <p:spPr>
          <a:xfrm>
            <a:off x="142920" y="142920"/>
            <a:ext cx="881064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14.jpg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29.jpg"/>
          <p:cNvPicPr/>
          <p:nvPr/>
        </p:nvPicPr>
        <p:blipFill>
          <a:blip r:embed="rId1"/>
          <a:stretch/>
        </p:blipFill>
        <p:spPr>
          <a:xfrm>
            <a:off x="0" y="30312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34.jpg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&amp;Fcy;&amp;ocy;&amp;tcy;&amp;ocy; &amp;Fcy;&amp;lcy;&amp;ocy;&amp;rcy;&amp;acy;: &amp;Ocy;&amp;tcy;&amp;tcy;&amp;iecy;&amp;ncy;&amp;kcy;&amp;icy; &amp;kcy;&amp;rcy;&amp;acy;&amp;scy;&amp;ncy;&amp;ocy;&amp;gcy;&amp;ocy; &amp;tscy;&amp;vcy;&amp;iecy;&amp;tcy;&amp;acy;, &amp;fcy;&amp;ocy;&amp;tcy;&amp;ocy;&amp;gcy;&amp;rcy;&amp;acy;&amp;fcy;&amp;icy;&amp;icy; &amp;scy; &amp;ocy;&amp;tcy;&amp;tcy;&amp;iecy;&amp;ncy;&amp;kcy;&amp;acy;&amp;mcy;&amp;icy; &amp;kcy;&amp;rcy;&amp;acy;&amp;scy;&amp;ncy;&amp;ocy;&amp;gcy;&amp;ocy; &amp;tscy;&amp;vcy;&amp;iecy;&amp;tcy;&amp;acy; naturedesktop-0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7:37:18Z</dcterms:created>
  <dc:creator>qqq</dc:creator>
  <dc:description/>
  <dc:language>en-US</dc:language>
  <cp:lastModifiedBy>qqq</cp:lastModifiedBy>
  <dcterms:modified xsi:type="dcterms:W3CDTF">2013-10-06T15:47:16Z</dcterms:modified>
  <cp:revision>7</cp:revision>
  <dc:subject/>
  <dc:title>Слайд 1</dc:title>
</cp:coreProperties>
</file>