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156-8854-4D5A-9357-3787CF72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917-3342-4DF1-B8AB-9E2A2D85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08ED-09E7-4F9D-9C94-64CE1DA6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7645-417C-49FA-93B1-23FC8203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9808-1C6D-456E-AD43-1F2A4FDE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645E-E6E1-4F6E-A30A-C2DFF8ED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7B7D-8010-4DB4-8880-5DE40A3E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C6EC-74A7-4C3C-92E8-F3ECB4D9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899A-4D2F-49ED-94B0-E58EABA1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6F88-0E11-48C8-A56A-80073339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C907-D300-4497-A660-C681F88D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7904-956D-48F6-A214-09F64C24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AA6B-D7BE-473C-9100-CE71C69C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855D-E69F-4C5F-9841-D4A2D4EE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E50E-D8A4-4ED2-902F-3A161C46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77C3-1946-4FD2-B34C-09E002A7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5838-0E0C-461A-8A50-80AF2DC9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DA6A9-B036-4BB0-8A37-A6330CCE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6C63F-07E1-4ADB-B85F-45FB1E2B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39B84-3EE5-45C1-98D6-4AD115F1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98990-5C51-4600-8960-EFEFDF18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CB3E1-1C03-4FA7-808F-DB0F58C2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EE1B-0E8D-4AD7-B152-2F53FF02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6A605-D5AB-4F13-9F27-79222545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853E-06A6-42A0-BB47-141564A0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9EB3C-E6EE-48BA-B697-6B16DE02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17EF6-9529-4BD9-A0C5-58BC7F85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C0B05-B0F1-44A3-89DB-89AAD009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B66E2-916A-4CF0-B3BE-3D08F3DF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E7B52-2F9C-4957-AD0E-37B0A35B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285FD-E47E-4729-8819-28D5BB24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CBBDC-78E5-4A0C-918A-862B94D3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9D918-8880-4FF4-A211-F0F36ABF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167D-CC31-4A74-9BF6-A4A46F26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BC4C3-3F1B-4B2F-A2EA-AEEADB06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81E73-F060-4668-8F88-9BF7745E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FE39C-9ED7-40DF-9953-5BF1D701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60600-9367-47F7-86DF-125E4540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EB044-11A6-4BB2-AAAC-854F1B9C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23FAD-D8A0-421F-AB96-C7116745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BA39A-13F7-4A39-984E-A587DC1F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67FEB-136B-42F6-85B0-6B8A2725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D5E8A-F0C1-4BA0-98C3-C4AD2AEA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56998-9E61-4184-907A-27E9DCED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FC9-97E6-419F-9C0F-3D870727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3125E-2684-4606-A155-3CFDD4C4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37471-57A1-4BBB-8059-195CBE9A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C286E-BBC0-4105-BFA2-1BCAD6C1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00605-559A-454F-A5B9-29560775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052CE-DE81-4C98-8411-B326ECC3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1051B-DF97-45AE-A4B0-A5743626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BC8EB-9346-46F3-9191-946B9495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48C3C-6512-43F8-8F1B-372FBC15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B2B98-92F0-4170-B8F1-4ADF8230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418F8-9F6D-439F-93C0-C90C0D82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04B-5774-4343-8558-CF9DA875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9F7E3-69AE-4C57-B965-37C5E706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669A-91D9-4412-84A6-051360A1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AAF-8F85-46A2-9EA3-3FC7097A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861D-CF40-4B13-9A8D-EED1F9A8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FD0F-B051-4208-8E7F-81D7785C9C05}" type="slidenum">
              <a:rPr b="0" lang="ru-RU" sz="1200" spc="-1" strike="noStrike">
                <a:solidFill>
                  <a:srgbClr val="bcbcbc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7F2E-3F12-4C6E-8379-119642885949}" type="slidenum">
              <a:rPr b="0" lang="ru-RU" sz="1200" spc="-1" strike="noStrike">
                <a:solidFill>
                  <a:srgbClr val="bcbcbc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CB9F-DF74-4CF9-A8B7-ED65ADBBFFDB}" type="slidenum">
              <a:rPr b="0" lang="ru-RU" sz="1200" spc="-1" strike="noStrike">
                <a:solidFill>
                  <a:srgbClr val="bcbcbc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58F2-D57F-4DDF-8D42-014307F6CE9C}" type="slidenum">
              <a:rPr b="0" lang="ru-RU" sz="1200" spc="-1" strike="noStrike">
                <a:solidFill>
                  <a:srgbClr val="bcbcbc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506D-43D4-49D8-89CE-1FF17151313D}" type="slidenum">
              <a:rPr b="0" lang="ru-RU" sz="1200" spc="-1" strike="noStrike">
                <a:solidFill>
                  <a:srgbClr val="bcbcbc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Rectangle 2" descr=""/>
          <p:cNvPicPr/>
          <p:nvPr/>
        </p:nvPicPr>
        <p:blipFill>
          <a:blip r:embed="rId1"/>
          <a:stretch/>
        </p:blipFill>
        <p:spPr>
          <a:xfrm>
            <a:off x="-6480" y="291960"/>
            <a:ext cx="8474040" cy="1476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ль: познакомить детей с историческими фактами времен Великой Отечественной войны, с жизнью людей в это время; развивать способность чувствовать, сопереживать, умение слушать окружающих, воспитывать чувство патриотиз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рудно было жить в то время и страшно... очень страшно… Хоронили людей в братских могилах. Ничто не могло сломить Ленинградц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аже в те страшные военные дни дети ходили в школу и учились.  Вот что пишет 12-летний мальчик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«Мы учимся в бомбоубежище. С утра до вечера обстрелы, обстрелы… В наш дом влетел и разорвался снаряд, выбило все стекла. Мы загородили окно фанерой и теперь дома совсем темно. Готовлюсь к географическому сбору. Сегодня я ел кисель из столярного клея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«Где-то там, наверху свистели фугаски, рвались снаряды, а у нас под землей было тихо, тепло , светло. Радио приносило нам под землю вой сирены. У нас шел урок. Учитель объяснял нам новые темы. Нужно было запоминать, записывать. Заниматься стало трудно. Кочегарка не работала. Холодно. Коченеют руки и ноги, застывают чернила.  В подземелье погас свет, мы перебрались в класс, где только одно окно застеклено, а остальные забиты фанерой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таких условиях учились дети и светло верили, что наступит день победы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сле школы  помогали фронту, работали в госпитале, очищали улицы от снег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8" descr="037-0690"/>
          <p:cNvPicPr/>
          <p:nvPr/>
        </p:nvPicPr>
        <p:blipFill>
          <a:blip r:embed="rId1"/>
          <a:stretch/>
        </p:blipFill>
        <p:spPr>
          <a:xfrm>
            <a:off x="5334120" y="1857240"/>
            <a:ext cx="380988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651640" cy="73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900 дней и ночей длилась блока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шная судьба постигла и семью Савичевых. Таня Савичева родилась в 1930 году, ей было всего 12 лет, когда шла войн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ая и дружная была семья Савичевых. Отец, Николай Родионович работал пекарем, пёк душистый и вкусный хлеб. Мать, Мария Игнатьевна, работала белошвейкой на фабрике. Началась война. Во время войны Таня вела дневник. Это  маленькая записная книжка,  которую вела двенадцатилетняя ленинградская девочка Таня Савичева. В книжке девять страниц, на шести из них - даты. Шесть страниц - шесть смерте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"28 декабря 1941 года Женя умерла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абушка умерла 25 января 1942-го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7 марта - Лека умер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ядя Вася умер 13 апрел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 мая - дядя Лёша, мама - 15 ма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вичевы умерли. Умерли вс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талась одна Тан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4" descr="DEVOCHKA_big"/>
          <p:cNvPicPr/>
          <p:nvPr/>
        </p:nvPicPr>
        <p:blipFill>
          <a:blip r:embed="rId1"/>
          <a:stretch/>
        </p:blipFill>
        <p:spPr>
          <a:xfrm>
            <a:off x="5803920" y="1143000"/>
            <a:ext cx="31971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62150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ню обнаружили служащие специальных санитарных команд, обходившие ленинградские дома. Когда ее нашли, она была без сознания от голода. Вместе со 140 другими ленинградскими детьми в августе 1942 года девочку эвакуирова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ело Красный Бор Горьковской области. Врачи два года  боролись за ее жизнь. Таню перевели в расположенный  в том же районе Понетаевский дом инвалидов с более квалифицированным медицинским обслуживание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болезнь уже была неизлечимой. 24 мая Таню перевезли в Шатковскую районную больницу. Там 1 июля 1944 года она и умерла. Ее похоронили на поселковом кладбищ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5" descr="i"/>
          <p:cNvPicPr/>
          <p:nvPr/>
        </p:nvPicPr>
        <p:blipFill>
          <a:blip r:embed="rId1"/>
          <a:stretch/>
        </p:blipFill>
        <p:spPr>
          <a:xfrm>
            <a:off x="6215040" y="642960"/>
            <a:ext cx="2641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-30240" y="255600"/>
            <a:ext cx="8680680" cy="1811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726061_1106838238"/>
          <p:cNvPicPr/>
          <p:nvPr/>
        </p:nvPicPr>
        <p:blipFill>
          <a:blip r:embed="rId2"/>
          <a:stretch/>
        </p:blipFill>
        <p:spPr>
          <a:xfrm>
            <a:off x="1619280" y="2276640"/>
            <a:ext cx="56894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0" y="571680"/>
            <a:ext cx="621504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невник Тани Савичевой стал одним из вещественных свидетельств фашистских зверств на Нюрнбергском процессе, а сама девочка - символом мужества  блокадного Ленинграда. О ее судьбе написаны десятки   книг, сняты фильмы, Эдита Пьеха исполняет "Балладу о Тане Савичевой", есть звезда, названная в ее чес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... немногие и сегодня  знают, что Таня ошибалась, и Савичевы умерли не вс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таких страшных условиях  выжила родная  сестра Тани, Нина Николаевна,  которая по сей день живёт под Петербурго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Picture 4" descr="7035"/>
          <p:cNvPicPr/>
          <p:nvPr/>
        </p:nvPicPr>
        <p:blipFill>
          <a:blip r:embed="rId1"/>
          <a:stretch/>
        </p:blipFill>
        <p:spPr>
          <a:xfrm>
            <a:off x="6159600" y="1428840"/>
            <a:ext cx="29844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9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-360" y="856800"/>
            <a:ext cx="56437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ждый год бывшие блокадники получают открытки с поздравлениями от Президента России. На обороте открыток неизменно фотография девочки с короткой стрижкой и черным бантом. Рядом - странички жуткого дневника, в котором она отмечала даты смерти самых близких людей. Как и другие пенсионеры, Нина Николаевна бережно хранит эти президентские открытки. В альбоме, рядом с оригиналом той самой, последней фотографии Тан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8" descr="DEVOCHKA_big"/>
          <p:cNvPicPr/>
          <p:nvPr/>
        </p:nvPicPr>
        <p:blipFill>
          <a:blip r:embed="rId1"/>
          <a:stretch/>
        </p:blipFill>
        <p:spPr>
          <a:xfrm>
            <a:off x="5786280" y="428760"/>
            <a:ext cx="3044880" cy="2663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7029"/>
          <p:cNvPicPr/>
          <p:nvPr/>
        </p:nvPicPr>
        <p:blipFill>
          <a:blip r:embed="rId2"/>
          <a:stretch/>
        </p:blipFill>
        <p:spPr>
          <a:xfrm>
            <a:off x="4848120" y="3571920"/>
            <a:ext cx="4295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5749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динственным путём сообщения с блокадным Ленинградом оставалось Ладожское озеро. Только по озеру люди могли связаться с землёй. Эту дорогу и назвали Дорогой жизни. Но эта дорога беспрестанно обстреливалась. На этой дороге пролилось много кров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годня на дороге жизни стоит памятник  «Цветок жизни» На лепестках цветка изображены лицо улыбающегося мальчика и слова «Пусть всегда будет солнце». Рядом находится плита, на которой надпись: «Во имя жизни и против войны. Детям — юным героям Ленинграда 1941—1944 годов».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4" descr="180px-Flower_of_Life_(Memorial)_general_view"/>
          <p:cNvPicPr/>
          <p:nvPr/>
        </p:nvPicPr>
        <p:blipFill>
          <a:blip r:embed="rId1"/>
          <a:stretch/>
        </p:blipFill>
        <p:spPr>
          <a:xfrm>
            <a:off x="5830920" y="2643120"/>
            <a:ext cx="331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5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-6480" y="-55440"/>
            <a:ext cx="81867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img_4880thumbnail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428760" y="1357200"/>
            <a:ext cx="2957400" cy="2282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9396"/>
          <p:cNvPicPr/>
          <p:nvPr/>
        </p:nvPicPr>
        <p:blipFill>
          <a:blip r:embed="rId3"/>
          <a:stretch/>
        </p:blipFill>
        <p:spPr>
          <a:xfrm>
            <a:off x="6124680" y="2685960"/>
            <a:ext cx="857160" cy="571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9391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500040" y="3857760"/>
            <a:ext cx="3095640" cy="2420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5" descr="img_4945thumbnail"/>
          <p:cNvPicPr/>
          <p:nvPr/>
        </p:nvPicPr>
        <p:blipFill>
          <a:blip r:embed="rId5"/>
          <a:stretch/>
        </p:blipFill>
        <p:spPr>
          <a:xfrm>
            <a:off x="5143680" y="4714920"/>
            <a:ext cx="2533320" cy="1689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0"/>
          <p:cNvPicPr/>
          <p:nvPr/>
        </p:nvPicPr>
        <p:blipFill>
          <a:blip r:embed="rId6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657712"/>
          <p:cNvPicPr/>
          <p:nvPr/>
        </p:nvPicPr>
        <p:blipFill>
          <a:blip r:embed="rId7">
            <a:lum contrast="10000"/>
          </a:blip>
          <a:stretch/>
        </p:blipFill>
        <p:spPr>
          <a:xfrm>
            <a:off x="4429080" y="1357200"/>
            <a:ext cx="3600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5" descr=""/>
          <p:cNvPicPr/>
          <p:nvPr/>
        </p:nvPicPr>
        <p:blipFill>
          <a:blip r:embed="rId1"/>
          <a:stretch/>
        </p:blipFill>
        <p:spPr>
          <a:xfrm>
            <a:off x="-6480" y="-42840"/>
            <a:ext cx="8474040" cy="907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P7280517"/>
          <p:cNvPicPr/>
          <p:nvPr/>
        </p:nvPicPr>
        <p:blipFill>
          <a:blip r:embed="rId2">
            <a:lum contrast="-10000"/>
          </a:blip>
          <a:stretch/>
        </p:blipFill>
        <p:spPr>
          <a:xfrm>
            <a:off x="1116000" y="1989000"/>
            <a:ext cx="6421320" cy="469116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7"/>
          <p:cNvSpPr/>
          <p:nvPr/>
        </p:nvSpPr>
        <p:spPr>
          <a:xfrm>
            <a:off x="2195640" y="234936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9329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3708360" y="47628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9329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5796000" y="105264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9329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AutoShape 10"/>
          <p:cNvSpPr/>
          <p:nvPr/>
        </p:nvSpPr>
        <p:spPr>
          <a:xfrm>
            <a:off x="1116000" y="90792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9329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AutoShape 11"/>
          <p:cNvSpPr/>
          <p:nvPr/>
        </p:nvSpPr>
        <p:spPr>
          <a:xfrm>
            <a:off x="5292720" y="285264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9329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8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P7280523"/>
          <p:cNvPicPr/>
          <p:nvPr/>
        </p:nvPicPr>
        <p:blipFill>
          <a:blip r:embed="rId2"/>
          <a:stretch/>
        </p:blipFill>
        <p:spPr>
          <a:xfrm>
            <a:off x="0" y="2610000"/>
            <a:ext cx="4495680" cy="3698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P7280524"/>
          <p:cNvPicPr/>
          <p:nvPr/>
        </p:nvPicPr>
        <p:blipFill>
          <a:blip r:embed="rId3"/>
          <a:stretch/>
        </p:blipFill>
        <p:spPr>
          <a:xfrm>
            <a:off x="4648320" y="2133720"/>
            <a:ext cx="4038480" cy="345888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10"/>
          <p:cNvSpPr/>
          <p:nvPr/>
        </p:nvSpPr>
        <p:spPr>
          <a:xfrm>
            <a:off x="179280" y="1197000"/>
            <a:ext cx="962280" cy="914400"/>
          </a:xfrm>
          <a:custGeom>
            <a:avLst/>
            <a:gdLst>
              <a:gd name="textAreaLeft" fmla="*/ 297360 w 962280"/>
              <a:gd name="textAreaRight" fmla="*/ 664920 w 9622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d195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3348000" y="242100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9329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AutoShape 12"/>
          <p:cNvSpPr/>
          <p:nvPr/>
        </p:nvSpPr>
        <p:spPr>
          <a:xfrm>
            <a:off x="2411280" y="0"/>
            <a:ext cx="962280" cy="914400"/>
          </a:xfrm>
          <a:custGeom>
            <a:avLst/>
            <a:gdLst>
              <a:gd name="textAreaLeft" fmla="*/ 297360 w 962280"/>
              <a:gd name="textAreaRight" fmla="*/ 664920 w 9622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d195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AutoShape 13"/>
          <p:cNvSpPr/>
          <p:nvPr/>
        </p:nvSpPr>
        <p:spPr>
          <a:xfrm>
            <a:off x="5292720" y="141300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d195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AutoShape 14"/>
          <p:cNvSpPr/>
          <p:nvPr/>
        </p:nvSpPr>
        <p:spPr>
          <a:xfrm>
            <a:off x="5580000" y="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d195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42447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дела ночная мгла. Наступал день, которому суждено было сохраниться навеки в памяти  народной – воскресенье, 22 июня 1941 го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елки часов приближались к 4-ём . В эти минуты пограничники заметили быстро надвигающиеся с запада тучи. Границу пролетали сотни самолетов, на крыльях которых были черные кресты…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чалась Великая Освободительная война Советского народа . На защиту Родины встала вся страна от мала  до вели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ллионы людей рвались на фронт сражаться с врагами. Вчерашние школьники, студенты, рабочие – все шли на фро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8" descr="257"/>
          <p:cNvPicPr/>
          <p:nvPr/>
        </p:nvPicPr>
        <p:blipFill>
          <a:blip r:embed="rId1"/>
          <a:stretch/>
        </p:blipFill>
        <p:spPr>
          <a:xfrm>
            <a:off x="4786200" y="1000080"/>
            <a:ext cx="38102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79280" y="189000"/>
            <a:ext cx="4316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тлеровская  армия рвалась к Москве, сметая все на своем пути. Но наша армия сражалась смело, мужествен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292720" y="1699920"/>
            <a:ext cx="385128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хватить Ленинград для фашистов – очень важн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сентябре 1941 года гитлеровцы окружили город, отрезали Ленинград от всей земли. Вокруг Ленинграда образовалось кольцо. Казалось, чуть-чуть  и враг войдет в город, ступит на исторические камни своим кованным сапог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16" descr="160"/>
          <p:cNvPicPr/>
          <p:nvPr/>
        </p:nvPicPr>
        <p:blipFill>
          <a:blip r:embed="rId1"/>
          <a:stretch/>
        </p:blipFill>
        <p:spPr>
          <a:xfrm>
            <a:off x="285840" y="1785960"/>
            <a:ext cx="5184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0"/>
            <a:ext cx="730872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, нет! Все Ленинградцы поднялись на защиту города. Стали строить оборонительные сооружения. Враг не мог взять горо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ашисты хотели сломить Ленинградцев, поставить их на колени, но измученные, голодные горожане не сдавались: выпускали оружие, шили одежду, вязали теплые вещи. Все ленинградцы свято верили, что победя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12" descr="154"/>
          <p:cNvPicPr/>
          <p:nvPr/>
        </p:nvPicPr>
        <p:blipFill>
          <a:blip r:embed="rId1"/>
          <a:stretch/>
        </p:blipFill>
        <p:spPr>
          <a:xfrm>
            <a:off x="0" y="3789360"/>
            <a:ext cx="4537080" cy="3068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lenin"/>
          <p:cNvPicPr/>
          <p:nvPr/>
        </p:nvPicPr>
        <p:blipFill>
          <a:blip r:embed="rId2"/>
          <a:stretch/>
        </p:blipFill>
        <p:spPr>
          <a:xfrm>
            <a:off x="5076720" y="3860640"/>
            <a:ext cx="4067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785000" cy="9208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55418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Я говорю с тобой под свист снарядов. Угрюмым заревом озарен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Я говорю с тобой из Ленинграда, страна моя, печальная стран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ронштадский злой, неукротимый ветер в мое лицо закинутое бь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бомбоубежище уснули дети, ночная стража стала у воро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д Ленинградом – смертная угроза…Бессонны ночи, тяжек день люб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о мы забыли, что такое слезы, что называют страхом и мольб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Я говорю: нас, граждан Ленинграда, не поколеблет грохот канонад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 если завтра будут баррикады – мы не покинем наших баррика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 женщины с бойцами встанут рядом, и  дети нам патроны поднесут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 надо всеми нами зацветут старинные знамена Петроград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уками, сжав обугленное сердце, такое обещание даю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Я, горожанка, мать красноармейца, погибшего под Стрельною в бо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ы будем драться с беззаветной силой, мы одолеем бешеных зверей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ы победим, клянусь тебе, Россия, от имени российских матере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4" descr="182"/>
          <p:cNvPicPr/>
          <p:nvPr/>
        </p:nvPicPr>
        <p:blipFill>
          <a:blip r:embed="rId2"/>
          <a:stretch/>
        </p:blipFill>
        <p:spPr>
          <a:xfrm>
            <a:off x="6357960" y="1643040"/>
            <a:ext cx="22287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1" descr="186"/>
          <p:cNvPicPr/>
          <p:nvPr/>
        </p:nvPicPr>
        <p:blipFill>
          <a:blip r:embed="rId2"/>
          <a:stretch/>
        </p:blipFill>
        <p:spPr>
          <a:xfrm>
            <a:off x="142920" y="1714680"/>
            <a:ext cx="4176720" cy="4032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3" descr="Рисунок1"/>
          <p:cNvPicPr/>
          <p:nvPr/>
        </p:nvPicPr>
        <p:blipFill>
          <a:blip r:embed="rId3"/>
          <a:stretch/>
        </p:blipFill>
        <p:spPr>
          <a:xfrm>
            <a:off x="4519440" y="1714680"/>
            <a:ext cx="4624560" cy="39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84646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ступало чудесное время года – зима. Но не радовала она ленинградцев. Из-за отсутствия топлива и электроэнергии остановились многие предприятия, трамваи, троллейбусы, вышло из строя отопление, замерз водопровод. В городе заканчивались продукты, а привезти их было неоткуда. Люди стали ослабевать, боле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1942 году норма хлеба , состоящего из пыли, опилок сосны и нескольких граммов ржаной муки, составила 125 граммов. «125 блокадных грамм с огнем и кровью пополам» - писала поэтесса О. Бергольц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городе распространилась дистрофия, люди падали в голодные обмороки. Ели все, что попадется: суп из травы, кисель из столярного клея, мышей – все что было. Старались даже маленький кусочек хлеба оставить надолг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6" descr="245"/>
          <p:cNvPicPr/>
          <p:nvPr/>
        </p:nvPicPr>
        <p:blipFill>
          <a:blip r:embed="rId1"/>
          <a:stretch/>
        </p:blipFill>
        <p:spPr>
          <a:xfrm>
            <a:off x="4932360" y="3214800"/>
            <a:ext cx="4211640" cy="3214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162"/>
          <p:cNvPicPr/>
          <p:nvPr/>
        </p:nvPicPr>
        <p:blipFill>
          <a:blip r:embed="rId2"/>
          <a:stretch/>
        </p:blipFill>
        <p:spPr>
          <a:xfrm>
            <a:off x="357120" y="3214800"/>
            <a:ext cx="4176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Рассказ «Хлебные крошки»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00" spc="-1" strike="noStrike">
                <a:solidFill>
                  <a:srgbClr val="ffffff"/>
                </a:solidFill>
                <a:latin typeface="Book Antiqua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было во время войны , в осажденном фашистами Ленинграде. В магазине холодно и очень темно, только на прилавке у продавщицы мигала коптилка. Продавщица отпускала хлеб. У прилавка с одной стороны тянулась очеред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ди подходили. Протягивали карточки и получали кусочек хлеба, маленький ,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 тяжелый и влажный, потому , что муки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нем было совсем мало, а больше воды и хлопкового жмых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с другой стороны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лавка толпились дети. Даже при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абом свете коптилки было видно,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у них худые, изнеможденные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ца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Шубки не облегали ребят, 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исел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них, как на палочках. Головы их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ерх шапок были закутаны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плыми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арфами и платками.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ги – в бурках и валенках, и только на руках не было варежек: руки были заняты дел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6643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только у продавца, разрезавшего буханку, падала на прилавок хлебная крошка , чей-нибудь тоненький озябший палец торопливо, но деликатно скользил по прилавку, поддевал крошку и бережно нес ее в ро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ва пальца на прилавке не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тречались: ребята соблюдали очередь. Продавщиц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бранила, не покрикивала на детей, не говорила :  « Не мешайте работать! Уйдите!» продавщица молча делала свое дело: отпускала людям их блокадный пае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юди брали хлеб и отходили.  А кучка ленинградских ребят  тихо стояла у другой стороны прилавка, и каждый терпеливо ждал своей крош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4" descr="image033"/>
          <p:cNvPicPr/>
          <p:nvPr/>
        </p:nvPicPr>
        <p:blipFill>
          <a:blip r:embed="rId1"/>
          <a:stretch/>
        </p:blipFill>
        <p:spPr>
          <a:xfrm>
            <a:off x="6643800" y="1928880"/>
            <a:ext cx="23000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09:16:02Z</dcterms:created>
  <dc:creator>Elena Vasilevna</dc:creator>
  <dc:description/>
  <dc:language>en-US</dc:language>
  <cp:lastModifiedBy>qqq</cp:lastModifiedBy>
  <dcterms:modified xsi:type="dcterms:W3CDTF">2011-01-21T15:07:06Z</dcterms:modified>
  <cp:revision>51</cp:revision>
  <dc:subject/>
  <dc:title>Классный час      для учащихся 2 Б класса                МОУ сош № 24 г. Комсомольска –на- Амуре</dc:title>
</cp:coreProperties>
</file>