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5473-3947-4723-80C9-986A72C8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40F-541A-4E97-8B62-33FE820F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FCD3-E3F8-4742-B6D9-2215A0CE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792-B897-4E3B-B60B-4703F9E5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610-ECDE-4CE3-8F0E-BDF8D436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1307-3EB4-4A46-82F9-39B0309D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E65-CD5A-4A0B-843A-230AD5FC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472-803D-4AF6-BBDB-2A4AD34C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A49-01F8-41D0-B4E2-0B1E1C2F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97F-A144-42E8-95AD-1D9623D3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50A-B876-46BF-BB17-833CCE2E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4A0-4064-40DF-8FF9-F6B4F146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3896-61BC-4953-A758-A021EE257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705200" y="666720"/>
            <a:ext cx="4438800" cy="6191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Liza’s pl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to be) going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Liza going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0360" y="2781360"/>
            <a:ext cx="37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 is going to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53080" y="1989000"/>
            <a:ext cx="34909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 three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56360" y="2781360"/>
            <a:ext cx="2684520" cy="3743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3200400" cy="3828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0720" y="549360"/>
            <a:ext cx="85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going to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 three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it the z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2116080" cy="2951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59280" y="2654280"/>
            <a:ext cx="6084720" cy="3803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00" y="549360"/>
            <a:ext cx="886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e is going to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visit the zo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lk in the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43640" y="3141720"/>
            <a:ext cx="2374920" cy="3311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3080" y="476280"/>
            <a:ext cx="823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going to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lk in the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2776680"/>
            <a:ext cx="543564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it her gran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2477880" cy="345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08360" y="2708280"/>
            <a:ext cx="5092920" cy="3819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1080" y="426960"/>
            <a:ext cx="820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going to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it her gran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23:26:49Z</dcterms:created>
  <dc:creator>Admin</dc:creator>
  <dc:description/>
  <dc:language>en-US</dc:language>
  <cp:lastModifiedBy>Admin</cp:lastModifiedBy>
  <dcterms:modified xsi:type="dcterms:W3CDTF">2013-10-06T08:33:30Z</dcterms:modified>
  <cp:revision>3</cp:revision>
  <dc:subject/>
  <dc:title>Liza’s plans</dc:title>
</cp:coreProperties>
</file>