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CE1-C505-4A7F-8BB2-C14DDCF9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84F-9FD9-47B9-8FF5-24BED4D7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38E-51CC-4CAE-8346-5C70E4B6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6BB-10DA-4D8B-81A2-990D6E40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132D-16D0-45FE-8802-DE33D925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6E69-0BFE-45AD-AC34-C9798D41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FE7F-B590-4399-BFE1-9BF02225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258D-7191-412C-A2F8-853B7522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55FA-90BF-407D-86C5-2AF92EC4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92CD-9A2A-4F62-8CE9-357186FE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59FD-C8F3-438E-B43A-5B96F2ED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B9D-9A8A-4BF2-8E6B-A3AB0D1A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0467-1F63-45D9-BA1F-48AE0645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2534-6187-4113-88B4-F7B0CE02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8FFE-5E4E-4968-B8CA-291749A0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4952-876E-4745-BCCE-6F374189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8E74-6637-40A7-83DE-9725AF2A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EF7-90A1-48B5-9129-208CC12D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D34-C3B2-4E06-B973-B5364728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95E-BC01-4469-B051-0141B5C9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8C5-5AB8-46E3-ABEB-A06BD4E9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99D-2B12-4713-8FFB-559CED0D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1D9-3773-4A42-9170-C86D40AA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CDD-E03F-46B8-8480-52820DB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FF8C-9F43-4132-950E-B2DED89B74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4A15-4A68-48CD-9C7F-AD7FD80B9C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d9d6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64b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d9d69"/>
                </a:solidFill>
                <a:latin typeface="Garamond"/>
              </a:rPr>
              <a:t>Любовь, что движет Солнце и Светила» (Данте)</a:t>
            </a:r>
            <a:endParaRPr b="1" lang="en-US" sz="48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Интегрированный урок по химии и литератур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одготовили: учитель химии Акимова О.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учитель литературы Кустарёва Л.П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d9d69"/>
                </a:solidFill>
                <a:latin typeface="Garamond"/>
              </a:rPr>
              <a:t>Биологическая схема любви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ериод влечения = заметное увеличение функционирования катехоламинов (при посредстве ФЕН);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овторяющаяся активизация системы удовольствия;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секреция эндорфинов;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овторяющийся поиск избирательной стимуляции, которая заставляет выделяться эндорфины (присутствие любимого (ой))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d9d69"/>
                </a:solidFill>
                <a:latin typeface="Garamond"/>
              </a:rPr>
              <a:t>Храм Тадж-Махал в Агре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19280" y="142884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Троя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184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d9d69"/>
                </a:solidFill>
                <a:latin typeface="Garamond"/>
              </a:rPr>
              <a:t>Цель: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ыяснить, какие вещества отвечают за состояние влюблённости, изучить структуру  и состав этих веществ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пределить, какие участки головного мозга отвечают за состояние влюбленност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ыяснить нравственное и общественное значение любв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79600" y="274680"/>
            <a:ext cx="481644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d9d69"/>
                </a:solidFill>
                <a:latin typeface="Garamond"/>
              </a:rPr>
              <a:t>Фенилэтиламин</a:t>
            </a:r>
            <a:r>
              <a:rPr b="1" lang="ru-RU" sz="4400" spc="-1" strike="noStrike">
                <a:solidFill>
                  <a:srgbClr val="bd9d6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2708280"/>
            <a:ext cx="1873080" cy="1584360"/>
          </a:xfrm>
          <a:prstGeom prst="hexagon">
            <a:avLst>
              <a:gd name="adj" fmla="val 29556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2997360"/>
            <a:ext cx="100800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31417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3213000"/>
            <a:ext cx="244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– C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Задание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Определите качественный и количественный состав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ФЕН(С 6 Н 4 С 2 Н 5 NH 2) и оксида азота (II)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Определите виды химических связей и типы кристаллических решеток у этих веществ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Проверьте!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ФЕН. Качественный состав: состоит из атомов углерода, водорода, азота. Количественный: 8 атомов углерода, 1 атом азота и 11 атомов водорода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ксид азота: состоит из атомов азота и кислорода. 1 атом азота и 1 атом кислород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вязь ковалентная полярная, молекулярная кристаллическая решет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d9d69"/>
                </a:solidFill>
                <a:latin typeface="Garamond"/>
              </a:rPr>
              <a:t>Лимбическая система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417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6:43:57Z</dcterms:created>
  <dc:creator>1</dc:creator>
  <dc:description/>
  <dc:language>en-US</dc:language>
  <cp:lastModifiedBy>1</cp:lastModifiedBy>
  <dcterms:modified xsi:type="dcterms:W3CDTF">2009-01-30T10:14:17Z</dcterms:modified>
  <cp:revision>3</cp:revision>
  <dc:subject/>
  <dc:title>Любовь, что движет Солнце и Светила» (Данте)</dc:title>
</cp:coreProperties>
</file>