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49A2-487A-4AE2-9EAA-D9F062A3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200F-C621-4CCF-8941-E197448E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59AE-237A-4A36-ADC3-C6A4A2E9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EE227-716B-4CEC-AA6B-37DA85CF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61C6-502A-44DB-9628-4F7D3977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467B-C3FF-4739-9B65-05249DD2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A9C4-0441-45F2-98C5-CD01C9BA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E1C9-8DE6-4317-A694-11248E54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310F-05E7-44D7-A129-7AE7653F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FC4D-167C-4C03-A418-2DB89C62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6E44-4534-4599-8D13-7E022F7D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80EF7-DB6D-4A1A-AD20-B2F39857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D3C4-2505-4AE0-9DF9-C3E85A7E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2E3F-88E2-45D9-BA89-53B66453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51C0-6857-411F-8AC2-77E65D42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4EB6-4D65-4E4F-A347-096BF190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671F-790F-45E6-9030-A30B68B5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B8F2-0A4C-4412-98AD-E23C7BCA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34CF-EBA4-40AB-92F1-0379A23B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8DD57-1800-4012-94CB-7CA1489F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4982-3285-4641-A91C-16F54B24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4532-23E0-4E5B-90CF-8862A5DC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0A46-756E-4FD2-AD9E-8C0B71EA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ED99-B2E5-443C-A12E-B9EA9EA7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F1FD-D5CA-410C-9A97-A4F8AAFFCC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454C-0703-429A-B56B-4657CC8E69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0000" y="1935000"/>
            <a:ext cx="6019560" cy="18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900" spc="-1" strike="noStrike">
                <a:solidFill>
                  <a:srgbClr val="ffffff"/>
                </a:solidFill>
                <a:latin typeface="Times New Roman"/>
              </a:rPr>
              <a:t>Незаменимый знак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708000" y="4508280"/>
            <a:ext cx="384804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2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10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159372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гол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ел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ел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брат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ал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ш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88000" y="475920"/>
            <a:ext cx="19432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гол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ел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ел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брат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ал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шест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2627640" cy="3284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3740040" y="620640"/>
            <a:ext cx="2765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рячь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середин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67280" y="2060280"/>
            <a:ext cx="1861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н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н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гол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кун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вер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3174840" cy="40179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6286680" y="2000160"/>
            <a:ext cx="192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6286680" y="2714760"/>
            <a:ext cx="192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6357960" y="350028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6286680" y="421488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н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6286680" y="500076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0715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вука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не обознач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Мягкость согласных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вуков обозначается при помощи буквы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конце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 в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середин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357720" y="1285920"/>
            <a:ext cx="1571400" cy="1832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785880" y="928800"/>
            <a:ext cx="1392120" cy="1663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6429240" y="1285920"/>
            <a:ext cx="21225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070440" cy="367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3203640" y="2421000"/>
            <a:ext cx="3441600" cy="4122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5969160" y="404640"/>
            <a:ext cx="31748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43040" y="457200"/>
            <a:ext cx="70437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Заклин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980720"/>
            <a:ext cx="7931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Грамматика, грамматик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Наука очень строгая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Пусть трудна, но без не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Плохое было бы житьё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311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лушай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429080" y="857160"/>
            <a:ext cx="392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Слушайт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4143240" y="207180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йт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642960" y="2428920"/>
            <a:ext cx="2319480" cy="29350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3"/>
          <p:cNvSpPr/>
          <p:nvPr/>
        </p:nvSpPr>
        <p:spPr>
          <a:xfrm>
            <a:off x="3571920" y="4214880"/>
            <a:ext cx="43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1818ff"/>
                </a:solidFill>
                <a:latin typeface="Arial"/>
              </a:rPr>
              <a:t>с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en-US" sz="8800" spc="-1" strike="noStrike">
                <a:solidFill>
                  <a:srgbClr val="1818ff"/>
                </a:solidFill>
                <a:latin typeface="Arial"/>
              </a:rPr>
              <a:t>а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en-US" sz="8800" spc="-1" strike="noStrike">
                <a:solidFill>
                  <a:srgbClr val="1818ff"/>
                </a:solidFill>
                <a:latin typeface="Arial"/>
              </a:rPr>
              <a:t>к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4546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Без головы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 в шляп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дна нога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 та без сапог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4932360" y="549360"/>
            <a:ext cx="3940200" cy="498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611280" y="5300640"/>
            <a:ext cx="54943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95280" y="274680"/>
            <a:ext cx="469116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Мягкий знак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хитрый знак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 назвать его никак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н не произносится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о в слово часто проси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680" y="1285560"/>
            <a:ext cx="2962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гвоз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68360" y="249228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гвоз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357336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гвозд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95280" y="465300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гвозд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427640" y="1125360"/>
            <a:ext cx="4332240" cy="4824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186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то в лесу глухом живё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уклюжий, косолап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етом ест клубнику, мё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 зимой сосёт он лап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628640"/>
            <a:ext cx="38880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ьётся речка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ы лежим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ёд на речке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ы беж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47988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418608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исит за окошком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улёк ледяной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н полон капел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 пахнет вес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330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58:49Z</dcterms:created>
  <dc:creator>Mars</dc:creator>
  <dc:description/>
  <dc:language>en-US</dc:language>
  <cp:lastModifiedBy>АЛИНА</cp:lastModifiedBy>
  <dcterms:modified xsi:type="dcterms:W3CDTF">2013-10-05T16:36:47Z</dcterms:modified>
  <cp:revision>12</cp:revision>
  <dc:subject/>
  <dc:title>Незаменимый знак</dc:title>
</cp:coreProperties>
</file>