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D2F4-FAC0-41C0-8996-0914D20D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31E-CB21-4B85-822F-2BD4D23D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F02-1632-474C-8E26-438AF56C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0D7-DDAE-41AF-B075-C350562E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FA5-B2E7-42FA-A9AA-9E8FB4D8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5DC-F5D6-4E20-BDDD-077C6FBD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AF5-5536-4659-BECA-D4BA8887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51E-FE6D-425D-81C2-838F599B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177-4045-4633-B3EA-A5B529C1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55D-FD88-445D-9C25-9AACE465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5094-A9E4-44DD-ACCD-4759F8E6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46F-4176-4AD8-BC62-F4700EDB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B2B1-BF8A-4E17-80BD-285209EA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40F9-B640-4B97-BE7E-D03EC3A1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A44B-C4A0-4FAC-BD5C-30DEF703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C7F9-176E-409A-8A48-D263851A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92AF-5D3C-4F08-84C5-AA65E168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080A-FD58-4C48-869B-88A585D3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0452-574B-4215-8FBD-5D528E63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6867-60FA-416C-98D1-98B3BC7C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87AE-C62F-4E24-858C-04F913F2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A12C-C5E4-42C0-AD44-7EA4C267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A69B-F12B-4546-945D-F025E0AA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A7DC-83A2-48F7-8BF1-1252B2AB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b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371600" y="914400"/>
            <a:ext cx="77724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" name="Rectangle 8"/>
            <p:cNvSpPr/>
            <p:nvPr/>
          </p:nvSpPr>
          <p:spPr>
            <a:xfrm>
              <a:off x="1371600" y="6553080"/>
              <a:ext cx="7772400" cy="304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0" y="0"/>
              <a:ext cx="1371600" cy="914400"/>
            </a:xfrm>
            <a:prstGeom prst="rect">
              <a:avLst/>
            </a:prstGeom>
            <a:gradFill rotWithShape="0">
              <a:gsLst>
                <a:gs pos="0">
                  <a:srgbClr val="83afdc"/>
                </a:gs>
                <a:gs pos="100000">
                  <a:srgbClr val="8bb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0" y="914400"/>
              <a:ext cx="1371600" cy="5943600"/>
            </a:xfrm>
            <a:prstGeom prst="rect">
              <a:avLst/>
            </a:prstGeom>
            <a:gradFill rotWithShape="0">
              <a:gsLst>
                <a:gs pos="0">
                  <a:srgbClr val="166cc7"/>
                </a:gs>
                <a:gs pos="100000">
                  <a:srgbClr val="6cb4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Rectangle 11"/>
            <p:cNvSpPr/>
            <p:nvPr/>
          </p:nvSpPr>
          <p:spPr>
            <a:xfrm>
              <a:off x="1295280" y="0"/>
              <a:ext cx="7848720" cy="914400"/>
            </a:xfrm>
            <a:prstGeom prst="rect">
              <a:avLst/>
            </a:prstGeom>
            <a:gradFill rotWithShape="0">
              <a:gsLst>
                <a:gs pos="0">
                  <a:srgbClr val="065eb8"/>
                </a:gs>
                <a:gs pos="100000">
                  <a:srgbClr val="166b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152280" y="65530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1522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3808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Line 17"/>
            <p:cNvSpPr/>
            <p:nvPr/>
          </p:nvSpPr>
          <p:spPr>
            <a:xfrm>
              <a:off x="1295280" y="0"/>
              <a:ext cx="0" cy="685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Line 18"/>
            <p:cNvSpPr/>
            <p:nvPr/>
          </p:nvSpPr>
          <p:spPr>
            <a:xfrm flipH="1">
              <a:off x="0" y="914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H="1">
              <a:off x="151920" y="6553080"/>
              <a:ext cx="899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5240" indent="-338040">
              <a:spcBef>
                <a:spcPts val="601"/>
              </a:spcBef>
              <a:buClr>
                <a:srgbClr val="245ca8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03480" indent="-289080">
              <a:spcBef>
                <a:spcPts val="601"/>
              </a:spcBef>
              <a:buClr>
                <a:srgbClr val="245ca8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3440" indent="-228600">
              <a:spcBef>
                <a:spcPts val="601"/>
              </a:spcBef>
              <a:buClr>
                <a:srgbClr val="245c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45c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Rectangle 21"/>
          <p:cNvSpPr/>
          <p:nvPr/>
        </p:nvSpPr>
        <p:spPr>
          <a:xfrm>
            <a:off x="8381880" y="6629400"/>
            <a:ext cx="524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р. </a:t>
            </a:r>
            <a:fld id="{6DAFFC86-2351-4F4C-859F-466C2B706EB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Rectangle 22"/>
          <p:cNvSpPr/>
          <p:nvPr/>
        </p:nvSpPr>
        <p:spPr>
          <a:xfrm>
            <a:off x="1635120" y="6629400"/>
            <a:ext cx="110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20.01.2006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Rectangle 23"/>
          <p:cNvSpPr/>
          <p:nvPr/>
        </p:nvSpPr>
        <p:spPr>
          <a:xfrm>
            <a:off x="2819520" y="6629400"/>
            <a:ext cx="48765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b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3F22-13B7-418F-87CB-A61B9B5EA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0D21-D6F8-4AEC-9CCC-9FB6446790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b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7" name="Rectangle 21"/>
            <p:cNvSpPr/>
            <p:nvPr/>
          </p:nvSpPr>
          <p:spPr>
            <a:xfrm>
              <a:off x="0" y="0"/>
              <a:ext cx="6248520" cy="6858000"/>
            </a:xfrm>
            <a:prstGeom prst="rect">
              <a:avLst/>
            </a:prstGeom>
            <a:gradFill rotWithShape="0">
              <a:gsLst>
                <a:gs pos="0">
                  <a:srgbClr val="045db9"/>
                </a:gs>
                <a:gs pos="100000">
                  <a:srgbClr val="6db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0" y="0"/>
              <a:ext cx="1447920" cy="6858000"/>
            </a:xfrm>
            <a:prstGeom prst="rect">
              <a:avLst/>
            </a:prstGeom>
            <a:gradFill rotWithShape="0">
              <a:gsLst>
                <a:gs pos="0">
                  <a:srgbClr val="ffb125"/>
                </a:gs>
                <a:gs pos="100000">
                  <a:srgbClr val="ed7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6248520" y="0"/>
              <a:ext cx="2895480" cy="6858000"/>
            </a:xfrm>
            <a:prstGeom prst="rect">
              <a:avLst/>
            </a:prstGeom>
            <a:gradFill rotWithShape="0">
              <a:gsLst>
                <a:gs pos="0">
                  <a:srgbClr val="6db5ff"/>
                </a:gs>
                <a:gs pos="100000">
                  <a:srgbClr val="045d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784872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ffb125"/>
                </a:gs>
                <a:gs pos="100000">
                  <a:srgbClr val="ed7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Rectangle 25"/>
            <p:cNvSpPr/>
            <p:nvPr/>
          </p:nvSpPr>
          <p:spPr>
            <a:xfrm>
              <a:off x="1676520" y="0"/>
              <a:ext cx="1295280" cy="6858000"/>
            </a:xfrm>
            <a:prstGeom prst="rect">
              <a:avLst/>
            </a:prstGeom>
            <a:gradFill rotWithShape="0">
              <a:gsLst>
                <a:gs pos="0">
                  <a:srgbClr val="ed7737"/>
                </a:gs>
                <a:gs pos="100000">
                  <a:srgbClr val="ffb1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4572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53352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54864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563868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Rectangle 32"/>
            <p:cNvSpPr/>
            <p:nvPr/>
          </p:nvSpPr>
          <p:spPr>
            <a:xfrm>
              <a:off x="8534520" y="61722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Rectangle 33"/>
            <p:cNvSpPr/>
            <p:nvPr/>
          </p:nvSpPr>
          <p:spPr>
            <a:xfrm>
              <a:off x="8763120" y="61722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Rectangle 34"/>
            <p:cNvSpPr/>
            <p:nvPr/>
          </p:nvSpPr>
          <p:spPr>
            <a:xfrm>
              <a:off x="8763120" y="59436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Rectangle 35"/>
            <p:cNvSpPr/>
            <p:nvPr/>
          </p:nvSpPr>
          <p:spPr>
            <a:xfrm>
              <a:off x="609480" y="2514600"/>
              <a:ext cx="48769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609480" y="3352680"/>
              <a:ext cx="7391520" cy="381240"/>
            </a:xfrm>
            <a:prstGeom prst="rect">
              <a:avLst/>
            </a:prstGeom>
            <a:solidFill>
              <a:srgbClr val="245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60948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>
              <a:off x="80010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5240" indent="-338040">
              <a:spcBef>
                <a:spcPts val="601"/>
              </a:spcBef>
              <a:buClr>
                <a:srgbClr val="245ca8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03480" indent="-289080">
              <a:spcBef>
                <a:spcPts val="601"/>
              </a:spcBef>
              <a:buClr>
                <a:srgbClr val="245ca8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3440" indent="-228600">
              <a:spcBef>
                <a:spcPts val="601"/>
              </a:spcBef>
              <a:buClr>
                <a:srgbClr val="245c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45c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51460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5ca8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245ca8"/>
                </a:solidFill>
                <a:latin typeface="Arial"/>
              </a:rPr>
              <a:t>МОУ СОШ №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84360" y="335772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дагогический проек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684360" y="4076640"/>
            <a:ext cx="7315200" cy="658800"/>
          </a:xfrm>
          <a:prstGeom prst="rect">
            <a:avLst/>
          </a:prstGeom>
          <a:solidFill>
            <a:srgbClr val="245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локова О.Н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b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250920" y="274680"/>
          <a:ext cx="8435880" cy="6107040"/>
        </p:xfrm>
        <a:graphic>
          <a:graphicData uri="http://schemas.openxmlformats.org/drawingml/2006/table">
            <a:tbl>
              <a:tblPr/>
              <a:tblGrid>
                <a:gridCol w="1055520"/>
                <a:gridCol w="1720800"/>
                <a:gridCol w="5659560"/>
              </a:tblGrid>
              <a:tr h="77256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Участи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онкурсах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азной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аправлен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ости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кольный и городской конкурсы рисунков «Дети, дорога, автомобиль» 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иколаенко А. (1-е место), Трунова А., Евтушенко Д., Савенко Д., Забкова Е.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кольный конкурс «Смотр строя и песни»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 «А» 1-е место (исполнение песни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кольный и городской конкурсы рисунков «День Матери»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рунова А., Николаенко А. (3-е место, школа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кольный и городской конкурсы чтецо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отова С. (1-е место, город), Евтушенко Д., Баженова Р., Николаенко А.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ородской фестиваль детского эстрадного творчества «Полярная звезда»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отова С.(2-е место, город), Евтушенко Д., Илькина Л.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кольный конкурс «Ученик года», Ботова С. (победитель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ородской конкурс рисунков «Боевой листок»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рунова А. (2-е место, город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ородской конкурс сочинений, Ботова С.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1403280" y="907920"/>
            <a:ext cx="7740720" cy="5689800"/>
          </a:xfrm>
          <a:prstGeom prst="rect">
            <a:avLst/>
          </a:prstGeom>
          <a:solidFill>
            <a:srgbClr val="bde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«Развитие интеллектуальных способностей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учащихся начальной школ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посредством реализации принципов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развивающего обучения Л. В. Занков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на уроках русского языка»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8" name="Object 14"/>
          <p:cNvGraphicFramePr/>
          <p:nvPr/>
        </p:nvGraphicFramePr>
        <p:xfrm>
          <a:off x="6732720" y="1125360"/>
          <a:ext cx="1887480" cy="1417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1125360"/>
                    <a:ext cx="1887480" cy="14176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апы работы над проект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2411280" y="1268280"/>
            <a:ext cx="5256360" cy="7923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edf1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Проблема: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недостаточная сформированност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бобщенных интеллектуальных умений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5003640" y="2060640"/>
            <a:ext cx="0" cy="360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2340000" y="2421000"/>
            <a:ext cx="5400720" cy="863640"/>
          </a:xfrm>
          <a:prstGeom prst="ellipse">
            <a:avLst/>
          </a:prstGeom>
          <a:gradFill rotWithShape="0">
            <a:gsLst>
              <a:gs pos="0">
                <a:srgbClr val="7a9898"/>
              </a:gs>
              <a:gs pos="50000">
                <a:srgbClr val="ccffff"/>
              </a:gs>
              <a:gs pos="100000">
                <a:srgbClr val="7a9898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Цель: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развитие интеллектуальных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пособностей детей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AutoShape 16"/>
          <p:cNvSpPr/>
          <p:nvPr/>
        </p:nvSpPr>
        <p:spPr>
          <a:xfrm>
            <a:off x="1403280" y="3860640"/>
            <a:ext cx="2089080" cy="252108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521080"/>
              <a:gd name="textAreaBottom" fmla="*/ 2419200 h 2521080"/>
            </a:gdLst>
            <a:ahLst/>
            <a:rect l="textAreaLeft" t="textAreaTop" r="textAreaRight" b="textAreaBottom"/>
            <a:pathLst>
              <a:path w="21600" h="26066">
                <a:moveTo>
                  <a:pt x="3600" y="0"/>
                </a:moveTo>
                <a:arcTo wR="3600" hR="3600" stAng="16200000" swAng="-5400000"/>
                <a:lnTo>
                  <a:pt x="0" y="22466"/>
                </a:lnTo>
                <a:arcTo wR="3600" hR="3600" stAng="10800000" swAng="-5400000"/>
                <a:lnTo>
                  <a:pt x="18000" y="260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29bb0"/>
              </a:gs>
              <a:gs pos="50000">
                <a:srgbClr val="bde0ff"/>
              </a:gs>
              <a:gs pos="100000">
                <a:srgbClr val="829bb0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Блок 1: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анализ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оретических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сно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идактической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истемы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звивающего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бучения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AutoShape 17"/>
          <p:cNvSpPr/>
          <p:nvPr/>
        </p:nvSpPr>
        <p:spPr>
          <a:xfrm>
            <a:off x="4356000" y="3860640"/>
            <a:ext cx="2087640" cy="2448000"/>
          </a:xfrm>
          <a:custGeom>
            <a:avLst/>
            <a:gdLst>
              <a:gd name="textAreaLeft" fmla="*/ 101880 w 2087640"/>
              <a:gd name="textAreaRight" fmla="*/ 1985760 w 2087640"/>
              <a:gd name="textAreaTop" fmla="*/ 101880 h 2448000"/>
              <a:gd name="textAreaBottom" fmla="*/ 2346120 h 2448000"/>
            </a:gdLst>
            <a:ahLst/>
            <a:rect l="textAreaLeft" t="textAreaTop" r="textAreaRight" b="textAreaBottom"/>
            <a:pathLst>
              <a:path w="21600" h="25328">
                <a:moveTo>
                  <a:pt x="3600" y="0"/>
                </a:moveTo>
                <a:arcTo wR="3600" hR="3600" stAng="16200000" swAng="-5400000"/>
                <a:lnTo>
                  <a:pt x="0" y="21728"/>
                </a:lnTo>
                <a:arcTo wR="3600" hR="3600" stAng="10800000" swAng="-5400000"/>
                <a:lnTo>
                  <a:pt x="18000" y="25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db2d3"/>
              </a:gs>
              <a:gs pos="50000">
                <a:srgbClr val="abd7ff"/>
              </a:gs>
              <a:gs pos="100000">
                <a:srgbClr val="8db2d3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Блок 2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еализация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идактических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инципов РО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(образовательная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бласть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усский язык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Line 21"/>
          <p:cNvSpPr/>
          <p:nvPr/>
        </p:nvSpPr>
        <p:spPr>
          <a:xfrm>
            <a:off x="3492360" y="5157720"/>
            <a:ext cx="86364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AutoShape 22"/>
          <p:cNvSpPr/>
          <p:nvPr/>
        </p:nvSpPr>
        <p:spPr>
          <a:xfrm>
            <a:off x="6804000" y="4221000"/>
            <a:ext cx="216072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96bc"/>
              </a:gs>
              <a:gs pos="50000">
                <a:srgbClr val="ffccff"/>
              </a:gs>
              <a:gs pos="100000">
                <a:srgbClr val="bc96bc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Планируемый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результат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вышени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нтеллектуального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уровня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учащихся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Line 24"/>
          <p:cNvSpPr/>
          <p:nvPr/>
        </p:nvSpPr>
        <p:spPr>
          <a:xfrm>
            <a:off x="4211640" y="3357720"/>
            <a:ext cx="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4932360" y="3357720"/>
            <a:ext cx="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Line 27"/>
          <p:cNvSpPr/>
          <p:nvPr/>
        </p:nvSpPr>
        <p:spPr>
          <a:xfrm flipH="1">
            <a:off x="3203640" y="3284640"/>
            <a:ext cx="1727280" cy="576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5651640" y="3284640"/>
            <a:ext cx="1800000" cy="936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дактические принципы РО Л.В.Занк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3880" y="1066680"/>
          <a:ext cx="746784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066680"/>
                    <a:ext cx="7467840" cy="5334120"/>
                  </a:xfrm>
                  <a:prstGeom prst="rect">
                    <a:avLst/>
                  </a:prstGeom>
                  <a:ln w="9360">
                    <a:solidFill>
                      <a:srgbClr val="3333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1979640" y="1341360"/>
            <a:ext cx="6407280" cy="4535640"/>
          </a:xfrm>
          <a:prstGeom prst="rect">
            <a:avLst/>
          </a:prstGeom>
          <a:solidFill>
            <a:srgbClr val="d1dfeb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бучение на высоком уровне трудност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облюдением меры трудности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инцип ведущей роли теоретически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знани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инцип быстрого прохождения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чебного материал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инцип осознания школьникам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оцесса учения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инцип систематической работы над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азвитием всех учащихся, как слабых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ак и сильных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476280" y="191520"/>
            <a:ext cx="7839000" cy="1801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спредели слова на группы.Объясни способы группировки. Встав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пущенны буквы. Дополни по одному глаголу в каждую группу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Буд_шь, гре_т, корм_т, шага_шь, люб_шь, леж_шь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слыш_м, визж_м, сверка_м, терп_м, нос_м, стел_м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завис_шь, кочу_м, зарыда_шь, рыбач_т, гон_т, разда_шь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2136240"/>
            <a:ext cx="2952720" cy="44236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арточка №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читай слов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спредели на две группы в зависимости от спряжения глагол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Запиши каждую группу в отдельный столбик, вставляя пропущенные буквы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ополни по одному глаголу в каждую группу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276720" y="2161800"/>
            <a:ext cx="5867280" cy="4362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Карточка №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читай слов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спредели на две группы в зависимости от спряжения глагола. Для этого поставь глагол в неопределённую форму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 первый столбик выпиши глаголы, оканчивающиеся в неопределенной форме на –ИТЬ. Это глаголы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I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спряжения, в окончаниях этих глаголов вставляем –И. При этом вспомни глаголы, относящиеся к исключения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о второй столбик выпиши все остальные глаголы. Это глаголы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спряжения, в окончаниях этих глаголов вставляем –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ополни по одному глаголу в каждую группу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4"/>
          <p:cNvSpPr/>
          <p:nvPr/>
        </p:nvSpPr>
        <p:spPr>
          <a:xfrm>
            <a:off x="1332000" y="1557360"/>
            <a:ext cx="217440" cy="792000"/>
          </a:xfrm>
          <a:custGeom>
            <a:avLst/>
            <a:gdLst>
              <a:gd name="textAreaLeft" fmla="*/ 0 w 217440"/>
              <a:gd name="textAreaRight" fmla="*/ 78480 w 2174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5076720" y="1628640"/>
            <a:ext cx="114480" cy="571680"/>
          </a:xfrm>
          <a:custGeom>
            <a:avLst/>
            <a:gdLst>
              <a:gd name="textAreaLeft" fmla="*/ 0 w 114480"/>
              <a:gd name="textAreaRight" fmla="*/ 41400 w 11448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24000" y="578160"/>
            <a:ext cx="75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)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дберите к каждой группе</a:t>
            </a: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з трех существительных одно определение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50920" y="1417680"/>
            <a:ext cx="8208720" cy="1739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46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Хлеб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                     Взгляд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46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Характер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? (…)                             Знак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? (…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46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лимат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                     Характер            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46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Как можно назвать эти слова? Дай определение имени прилагательного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46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Какую особенность этих прилагательных замечаете?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46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Сформулируйте определение </a:t>
            </a:r>
            <a:r>
              <a:rPr b="0" lang="ru-RU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антонимов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250920" y="3360600"/>
            <a:ext cx="8353440" cy="2899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2). Игра на «Выбывание». Дана группа слов.Поочередно исключите лишнее, по самостоятельно найденным признакам, так, чтобы оставалось одно слово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рушаеш_, гл_дят, дружба, надпишеш_, накормиш_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(Дружба – существительное, остальные глаголы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Глядят – глагол мн.ч., остальные единственного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Разрушаешь – глагол наст.времени, остальные будущего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Накормишь – глагол </a:t>
            </a:r>
            <a:r>
              <a:rPr b="0" i="1" lang="en-US" sz="2000" spc="-1" strike="noStrike">
                <a:solidFill>
                  <a:srgbClr val="333333"/>
                </a:solidFill>
                <a:latin typeface="Times New Roman"/>
              </a:rPr>
              <a:t>II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 спряжения, остальные первого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Группы слов меняются в зависимости от изучаемых те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зультатив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Object 17"/>
          <p:cNvGraphicFramePr/>
          <p:nvPr/>
        </p:nvGraphicFramePr>
        <p:xfrm>
          <a:off x="324000" y="981000"/>
          <a:ext cx="4319280" cy="26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431928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4"/>
          <p:cNvGraphicFramePr/>
          <p:nvPr/>
        </p:nvGraphicFramePr>
        <p:xfrm>
          <a:off x="4572000" y="981000"/>
          <a:ext cx="4572000" cy="260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9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81000"/>
                    <a:ext cx="457200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19"/>
          <p:cNvGraphicFramePr/>
          <p:nvPr/>
        </p:nvGraphicFramePr>
        <p:xfrm>
          <a:off x="250920" y="3645000"/>
          <a:ext cx="4392360" cy="2716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31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645000"/>
                    <a:ext cx="439236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21"/>
          <p:cNvGraphicFramePr/>
          <p:nvPr/>
        </p:nvGraphicFramePr>
        <p:xfrm>
          <a:off x="4643280" y="3645000"/>
          <a:ext cx="4500720" cy="2730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33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3645000"/>
                    <a:ext cx="4500720" cy="27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5" name="Rectangle 3"/>
            <p:cNvSpPr/>
            <p:nvPr/>
          </p:nvSpPr>
          <p:spPr>
            <a:xfrm>
              <a:off x="0" y="0"/>
              <a:ext cx="1371600" cy="914400"/>
            </a:xfrm>
            <a:prstGeom prst="rect">
              <a:avLst/>
            </a:prstGeom>
            <a:gradFill rotWithShape="0">
              <a:gsLst>
                <a:gs pos="0">
                  <a:srgbClr val="83afdc"/>
                </a:gs>
                <a:gs pos="100000">
                  <a:srgbClr val="8bb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Rectangle 4"/>
            <p:cNvSpPr/>
            <p:nvPr/>
          </p:nvSpPr>
          <p:spPr>
            <a:xfrm>
              <a:off x="0" y="914400"/>
              <a:ext cx="1371600" cy="5943600"/>
            </a:xfrm>
            <a:prstGeom prst="rect">
              <a:avLst/>
            </a:prstGeom>
            <a:gradFill rotWithShape="0">
              <a:gsLst>
                <a:gs pos="0">
                  <a:srgbClr val="166cc7"/>
                </a:gs>
                <a:gs pos="100000">
                  <a:srgbClr val="6cb4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1295280" y="0"/>
              <a:ext cx="7848720" cy="914400"/>
            </a:xfrm>
            <a:prstGeom prst="rect">
              <a:avLst/>
            </a:prstGeom>
            <a:gradFill rotWithShape="0">
              <a:gsLst>
                <a:gs pos="0">
                  <a:srgbClr val="065eb8"/>
                </a:gs>
                <a:gs pos="100000">
                  <a:srgbClr val="166b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1371600" y="914400"/>
              <a:ext cx="7772400" cy="5638680"/>
            </a:xfrm>
            <a:prstGeom prst="rect">
              <a:avLst/>
            </a:prstGeom>
            <a:gradFill rotWithShape="0">
              <a:gsLst>
                <a:gs pos="0">
                  <a:srgbClr val="8bb6e1"/>
                </a:gs>
                <a:gs pos="100000">
                  <a:srgbClr val="b5d8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152280" y="65530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1522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3808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1295280" y="0"/>
              <a:ext cx="0" cy="685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Line 12"/>
            <p:cNvSpPr/>
            <p:nvPr/>
          </p:nvSpPr>
          <p:spPr>
            <a:xfrm flipH="1">
              <a:off x="0" y="914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Line 13"/>
            <p:cNvSpPr/>
            <p:nvPr/>
          </p:nvSpPr>
          <p:spPr>
            <a:xfrm flipH="1">
              <a:off x="151920" y="6553080"/>
              <a:ext cx="899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чество обу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Object 18"/>
          <p:cNvGraphicFramePr/>
          <p:nvPr/>
        </p:nvGraphicFramePr>
        <p:xfrm>
          <a:off x="1763640" y="1197000"/>
          <a:ext cx="6840720" cy="51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197000"/>
                    <a:ext cx="6840720" cy="51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b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250920" y="260280"/>
          <a:ext cx="8686800" cy="2808360"/>
        </p:xfrm>
        <a:graphic>
          <a:graphicData uri="http://schemas.openxmlformats.org/drawingml/2006/table">
            <a:tbl>
              <a:tblPr/>
              <a:tblGrid>
                <a:gridCol w="1353960"/>
                <a:gridCol w="792360"/>
                <a:gridCol w="981000"/>
                <a:gridCol w="2077920"/>
                <a:gridCol w="1865520"/>
                <a:gridCol w="1616040"/>
              </a:tblGrid>
              <a:tr h="654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 олимпиадах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кольный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нешкольный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кольный уровень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ородской уровень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еждународный уровень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ород-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«Русский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едвеж.»-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«Золотое руно»-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«Кенгуру»-13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отоваС.(3место,рус.яз.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ерезуцкаяА.(3место,рус.яз.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ИзореануС.(1место,матем.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омановД.(2место,матем.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ЕвтушенкоД.(3место,анг.яз.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иколаенкоА.(1место,анг.яз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отоваС.(рус.яз.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ИзореануС.(матем.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омановД.(матем.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омановаЕ.(3мест,краев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«Русский  медвежо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ок-2008», БотоваС.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5место,регион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ерезуцкаяА.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18место,регион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«Кегуру-2008»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«Золотое руно-2008»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Line 950"/>
          <p:cNvSpPr/>
          <p:nvPr/>
        </p:nvSpPr>
        <p:spPr>
          <a:xfrm>
            <a:off x="1874880" y="270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50920" y="3068640"/>
          <a:ext cx="8713800" cy="3529080"/>
        </p:xfrm>
        <a:graphic>
          <a:graphicData uri="http://schemas.openxmlformats.org/drawingml/2006/table">
            <a:tbl>
              <a:tblPr/>
              <a:tblGrid>
                <a:gridCol w="1085760"/>
                <a:gridCol w="793800"/>
                <a:gridCol w="193680"/>
                <a:gridCol w="814320"/>
                <a:gridCol w="2916360"/>
                <a:gridCol w="2909880"/>
              </a:tblGrid>
              <a:tr h="75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Участие в научно-практических конференциях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кольный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кольный уровень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ородской уровень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бкова Е., Ботова С. (победитель «Ученик года»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осещение кружков и секций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 школе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не школы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ружок «Послушные узелки», кружок «Радуга бисера», спортивный кружок пионербол, вокальная студия «Незабудки», кружок английского языка , математический кружок «Квант», кружок русского языка «Язык мой-друг мой»,  ДШИ №2 , ДДТ(ИЗО-студия), 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СЦ «Газодобытчик» вокальные студии «Алфавит», «Капель», бальные танцы, ГДК «Октябрь» театральная студия, ДЮКФП «Контакт», мини-футбол, КСК «Буровик», мини-футбол, ДСЮШ «Сибирские медведи», дзюдо, кукасинкай – карате.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0:18:42Z</dcterms:created>
  <dc:creator>Ольга</dc:creator>
  <dc:description/>
  <cp:keywords/>
  <dc:language>en-US</dc:language>
  <cp:lastModifiedBy>administrator</cp:lastModifiedBy>
  <dcterms:modified xsi:type="dcterms:W3CDTF">2013-10-04T06:33:23Z</dcterms:modified>
  <cp:revision>29</cp:revision>
  <dc:subject/>
  <dc:title>      МОУ прогимназ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20411049</vt:lpwstr>
  </property>
</Properties>
</file>