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2B9-AF15-4B2F-9937-14795D76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7EC-5DB6-494F-98B0-0D4E3DC5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266-626C-47BF-8F75-6C040DB4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0B6-46F5-4F84-B39A-0A5DAEFA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20F4-8128-4977-94E7-C043F38B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1953-2864-4568-A332-70CE329D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9705-5C54-4DA5-A91F-41398429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A5C4-802F-4DF0-B599-CCE062A2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0381-220C-46FA-A26D-CC94E4F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AE05-B7B0-4875-9557-115FCCBD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ED58-D8BE-4FC4-8B5B-90306D1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D8C-0E10-4C26-992F-4B3A80CF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3F84-6608-4CD0-84A5-B35AA851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533E-6E6B-4FDD-A6FF-D91919C7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A2C-7F58-43AE-B483-AC8CC146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C6EC-FE34-48CE-99DA-F6EBB212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C720-87D3-4B88-83E5-6B8B62A7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E9D-DC3B-4E5C-88E9-466D0AF5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285-3430-4767-B6A0-34BAEA94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67F-FD41-4528-BA2D-26468C9B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747-385B-471C-8E6A-9334380A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B3E-616B-418F-A603-DEF2011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6C1-C60D-4EA0-86AD-5D657747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9E4-9E7F-4FC8-9BC9-2BDE138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FD10-6660-42BC-9BEA-BBEF62F4B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DD64-6100-49B7-A551-39AA00383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ект учащихся 5 класс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МБОУ «СОШ№24» г.Чебокса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«Пернат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в русской  фразеологи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66cc"/>
                </a:solidFill>
                <a:uFillTx/>
                <a:latin typeface="Arial"/>
              </a:rPr>
              <a:t>Индюк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Индюк в русской фразеологии символизирует чванство, глупость. У киргизов он символ сварливости, у французов – туп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дулся как индю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Глупая индю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Кур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 курьих ножках.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осказательно - о чем – нибудь весьма непрочном, неустойчивом, ненадежн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осится как курица с яйцо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Уделять особое внима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урам на сме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Бессмысленно, глуп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ак курица лапой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Неразборчи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окрая кур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Безвольный, бесхарактерный челов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лепая кур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Близорук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нег куры не клюю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Очень мн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пасть как кур во щ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Попасть в неожиданную беду, в неприятнос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Цыплят по осени счит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8814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Петух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Все знают петуха – домашнюю птицу с красным гребешком  на голове и особыми наростами на ногах – шпор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За свою важность  и задиристый характер образ петуха используют для срав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Важный как пету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Задиристый как петух.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Ходить петух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Выглядеть петух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Красный пету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жар, поджо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Красного петуха пустить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страивать пожар, поджигать что-либ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етух гамбургск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пасть как кур во щ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– Попасть в неожиданную беду, в неприятност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Но не только на походку и задиристый характер птицы обращали внимание человек. Пение – вот чем славится петух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Кукушка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Arial"/>
              </a:rPr>
              <a:t>Кукушка хвалит петуха за то, что хвалит он кукушку</a:t>
            </a: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И.А.Крылов «Кукушка и Петух».)Ироническое замечание – о взаимных восхвалениях, неумеренной л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Arial"/>
              </a:rPr>
              <a:t>Менять кукушку на ястреб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Из плохого выбирать худшее, ошиба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916600" y="1704960"/>
            <a:ext cx="28400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0000"/>
                </a:solidFill>
                <a:uFillTx/>
                <a:latin typeface="Arial"/>
              </a:rPr>
              <a:t>Вороб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331308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699920"/>
            <a:ext cx="51084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Короче воробьиного нос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коротком периоде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Стреляный воробей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нь опытный человек, которого трудно провести, обмануть, бывалый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Старый воробей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тый калач (Старого воробья на мякине не проведеш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                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Си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1030680"/>
            <a:ext cx="518472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делала Синица славы, а море не зажгл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И.А.Крылов «Синица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иронически говорят о хвастуне, о человеке, который многое наобещает и не может ничего выполн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Голубь</a:t>
            </a:r>
            <a:r>
              <a:rPr b="0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 гулькин но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Очень ма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Ласт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ервая ласточ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ые ранние, самые первые признаки появления, наступления чего –либ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дна ласточка весны не делае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зоп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ысл выражения: нельзя делать вывода, обобщения на основании какого-нибудь одного случая, незначительного фак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Со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олтливая сор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–Болтливый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Оре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Ученые отмечают, что еще в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III</a:t>
            </a: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 тысячелетии до н.э. в шумерских государствах существовал герб - орел с львиной головой. Гербом Византийской империи был двуглавый орел. Орла вырезали на государственных печатях. Например, к концу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XV</a:t>
            </a: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 века на печатях Российского государства окончательно закрепились два изображения: с одной стороны был всадник, поражающий змея, с другой – двуглавый орел. В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в. эти изображения стали считать русским государственным герб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Наблюдая за поведением птицы, подметив ее характерные особенности, народ создавал пословицы и поговор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ел орла плодит, а сова сову родит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ел мух не лов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лы бьются, а молодцам перья дост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зеологизм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лом гляд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лом ле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0000"/>
                </a:solidFill>
                <a:uFillTx/>
                <a:latin typeface="Arial"/>
              </a:rPr>
              <a:t>Соко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Г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л как соко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- Очень беде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ный фразеологизм не связан с птицей: сокол –стенобитное орудие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Гол, но сокол. 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еден, но горд и независи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ословицы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Сокол мал, да уда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И сокол выше солнца не лета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Свинья не родит Соко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Не пугай сокола воро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Вороне соколом не быть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Издавна соколом в народе называли красивого, смелого, удалого мужчин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img25" descr="Рисунок №25"/>
          <p:cNvPicPr/>
          <p:nvPr/>
        </p:nvPicPr>
        <p:blipFill>
          <a:blip r:embed="rId2"/>
          <a:stretch/>
        </p:blipFill>
        <p:spPr>
          <a:xfrm>
            <a:off x="5319720" y="1844640"/>
            <a:ext cx="3138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60093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 u="sng">
                <a:solidFill>
                  <a:srgbClr val="990000"/>
                </a:solidFill>
                <a:uFillTx/>
                <a:latin typeface="Arial"/>
              </a:rPr>
              <a:t>Тетеря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Сонная тетер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– Человек, который очень любит поспат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Глухая тетеря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Человек, который плохо слышит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990000"/>
                </a:solidFill>
                <a:uFillTx/>
                <a:latin typeface="Arial"/>
              </a:rPr>
              <a:t>Соро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Болтливая сорока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–Болтливый человек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Сорока гостей накликал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990000"/>
                </a:solidFill>
                <a:uFillTx/>
                <a:latin typeface="Arial"/>
              </a:rPr>
              <a:t>Страус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Бежит как страус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Пти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ажная птица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, занимающий высокое по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ольная птиц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ольная пташ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ный, независимый челове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Жить как птица небесна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забо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тица высокого поле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иятельный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тица низкого поле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, не занимающий видного, значительного положения в обще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иняя п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тайна вещей, символ счастья; то, что воплощает для кого-либо высшее счаст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треляная п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Очень опытный человек, которого трудно провести, обма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идно птицу по полет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Видно, каков человек, судя по его поступкам, делам повед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 высоты птичьего поле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рху, с очень большой выс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На птичьих правах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Без законных 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Желторотый птене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Молодой, не имеющий жизненного опы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Наша ц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ить,  названия каких птиц чаще встречаются во фразеологизм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ть, какие черты характера человека символизируют пт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тицы и чело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172360" cy="5208840"/>
        </p:xfrm>
        <a:graphic>
          <a:graphicData uri="http://schemas.openxmlformats.org/drawingml/2006/table">
            <a:tbl>
              <a:tblPr/>
              <a:tblGrid>
                <a:gridCol w="4087800"/>
                <a:gridCol w="408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ловеческие ка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имволы русской фразеолог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знающий, трусливый, смешной и жал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валый, хитрый, опы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сь, вороб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ванство, глуп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ю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стивый, ненадежный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уш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астливый и болтли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а, синиц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чность, ненадеж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ость, задирист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у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, воинственность, гордость, смелость и крас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ол, ор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тяй, лежеб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клюже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Результат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ы изучили литературу по тем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ы узнали, что в русском языке очень много фразеологизмов, в которых встречаются названия птиц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ы заметили, что не все фразеологизмы, содержащие названия животных, с ним связаны.Например, гол как соко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ы считаем, что созданная нами таблица поможет лучше узнать о символических значениях животных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ы считаем, что созданный нами словарь-справочник обогатит речь наших сверстник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мова Е.А. Крылатые слова . - М.: Детская литература,197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ликметс К.П.,  Метса А.А. Поговорим, поспорим. -Л.: Просвещение, 19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атов М. Крылатые слова. - М.: Просвещение, 19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оздарев Ю.А. Рассказы о русской фразеологии.- М.: Просвещение,19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ев В.Н. Новые значения старых слов.-  М.: Просвещение,19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еологический словарь русского языка. -М.: Русский язык, 19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Наши задач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Выяснить, знают ли учащиеся моего класса фразеологизмы о птиц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Узнать, что символизируют названия некоторых птиц в русских фразеологиз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ыяснить, всегда ли название птицы во фразеологизме с ним связа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Составить таблицу по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одготовить раздел о птицах в тематическом словаре «Братья наши меньшие в русской фразеолог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Ход исследова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Мы  изучили учебную литерату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Провели опрос учащихся кла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Выяснили, ч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50% учащихся нашего класса знают от 6  до  10 фразеологиз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%  - от одного до пяти фразеологиз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%  больше 10 фразеологизмов, имеющих в своем составе название птицы. Однако в своей речи стараются использовать фразеологизмы только 7% учащих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20760" y="1982880"/>
          <a:ext cx="4902480" cy="3806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0760" y="1982880"/>
                    <a:ext cx="490248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618720" y="31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14000" y="33051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02720" y="3736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бед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ff"/>
                </a:solidFill>
                <a:latin typeface="Arial"/>
              </a:rPr>
              <a:t>Лебединая песн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- Последнее, обычно наиболее значительное, произведение кого-либо, последнее проявление таланта, способ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75040" y="2637000"/>
            <a:ext cx="43689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0000"/>
                </a:solidFill>
                <a:uFillTx/>
                <a:latin typeface="Arial"/>
              </a:rPr>
              <a:t>Павл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ff"/>
                </a:solidFill>
                <a:latin typeface="Arial"/>
              </a:rPr>
              <a:t>Ни пава ни ворон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–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, который по своим взглядам, интересам отошел от одних и не примкнул к други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рона в павлиньих перьях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ff00ff"/>
                </a:solidFill>
                <a:latin typeface="Arial"/>
              </a:rPr>
              <a:t>Ворона в павлиньих перьях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И.А.Крылов «Ворона»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ак в насмешку говорят о человеке, который хочет казаться более значительным, чем он есть, и поэтому выглядит смешным и жалки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2760840"/>
            <a:ext cx="3062160" cy="21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Воро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40388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Каркает как ворон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сказывает обычно несчасть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Вещий ворон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Белая ворон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В переносном смысле – редкий по своим качествам, необыкновенный человек, резко выделяющийся чем-либо из окружающей среды. Выражение известно с 60г.-127 г.н.э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Ворона в павлиньих перьях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И.А.Крылов «Ворона»).Так в насмешку говорят о человеке, который хочет казаться более значительным, чем он есть, и поэтому выглядит смешным и жалки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Куда ворон костей не заносил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чень далек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читать ворон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Глазеть по сторонам, проводить время в праздност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Ни пава  ни ворон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ловек, который по своим взглядам отошел  от одних людей и не примкнул к други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Пуганная ворон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человеке, который стал всего бояться после каких-то событи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Вороне соколом не быть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В древних поверьях ворон таинствен, умен, понятлив, молчалив. В немецкой фразеологии он негодяй, безобразник, прожорливый. Например</a:t>
            </a: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 : родители-вороны – </a:t>
            </a: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бросающие своих детей. В русской фразеологии он всезнающий, испуган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6317" descr=""/>
          <p:cNvPicPr/>
          <p:nvPr/>
        </p:nvPicPr>
        <p:blipFill>
          <a:blip r:embed="rId2"/>
          <a:stretch/>
        </p:blipFill>
        <p:spPr>
          <a:xfrm>
            <a:off x="5219640" y="3573360"/>
            <a:ext cx="3322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66cc"/>
                </a:solidFill>
                <a:uFillTx/>
                <a:latin typeface="Arial"/>
              </a:rPr>
              <a:t>Гус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Чаще всего эта птица символизирует бывалого, хитрого, человека</a:t>
            </a:r>
            <a:r>
              <a:rPr b="1" i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ак с гуся во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ипоче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Гусей дразни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зывать зло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Гусь лапчаты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Хитрый, лов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Чтоб гусей не дразни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ылов «Гуси»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осказательно - не задеть кого-нибудь, не затронуть самолюбия, не раздраж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92680" y="1773360"/>
            <a:ext cx="30639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01:17Z</dcterms:created>
  <dc:creator>Ирина</dc:creator>
  <dc:description/>
  <dc:language>en-US</dc:language>
  <cp:lastModifiedBy>Домашний</cp:lastModifiedBy>
  <dcterms:modified xsi:type="dcterms:W3CDTF">2013-10-06T10:06:12Z</dcterms:modified>
  <cp:revision>11</cp:revision>
  <dc:subject/>
  <dc:title>Слайд 1</dc:title>
</cp:coreProperties>
</file>