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F79-1EFC-4E94-BF9C-E79A5470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FB0-00B6-4B10-BCD5-46DD6663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E28-A423-4AF0-A44E-12D3CA3E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A0D-3CF3-4695-8F68-6A8891C6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646-26AB-43F0-8C9D-977E7FA9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A9A-700F-4F0D-AFFC-95D6846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854-4135-400E-97E6-CA12BF43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F8E-83F7-4D62-8451-4C0AFA2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C02-5693-4078-9C54-2DA86A6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BDF-3E68-485D-9DCA-16B49ED0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122-C73D-46DE-94AF-B52FF16C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333-E039-41B9-A4E8-F1A020D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210E-3664-48EC-936A-650958DA8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467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42" name="Picture 8" descr="2_3_2"/>
          <p:cNvPicPr/>
          <p:nvPr/>
        </p:nvPicPr>
        <p:blipFill>
          <a:blip r:embed="rId2"/>
          <a:stretch/>
        </p:blipFill>
        <p:spPr>
          <a:xfrm>
            <a:off x="3780000" y="357336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50920" y="5373720"/>
            <a:ext cx="374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ранова Лариса Петров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БОУ СОШ  № 879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Users\Лариса\Desktop\afisha_2014.jpg"/>
          <p:cNvPicPr/>
          <p:nvPr/>
        </p:nvPicPr>
        <p:blipFill>
          <a:blip r:embed="rId3"/>
          <a:stretch/>
        </p:blipFill>
        <p:spPr>
          <a:xfrm>
            <a:off x="971640" y="404640"/>
            <a:ext cx="183348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cc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0"/>
            <a:ext cx="85104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 куб  с  ребром  1 метр   разрезать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 кубики  с  ребром  1 дм, и  поставить              эти  кубики  друг  на  друга, то  получиться  «башня»   высото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1 м       (В) 100 м     (С) 1 км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10 км         (Е) 10 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 (В) 100 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куб"/>
          <p:cNvPicPr/>
          <p:nvPr/>
        </p:nvPicPr>
        <p:blipFill>
          <a:blip r:embed="rId1"/>
          <a:stretch/>
        </p:blipFill>
        <p:spPr>
          <a:xfrm>
            <a:off x="5508720" y="2924280"/>
            <a:ext cx="33908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84320"/>
            <a:ext cx="871380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писывая пример, путаник  Вася заменил  знак    *   на  + ,  а знак   +   на   * ,   но всё  равно  получил  верный  ответ.  Каким  мог  быть  этот  пример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    1 *  3  +  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В)      3 *  2  + 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С)     3  *  2  +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    2  *  3  +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Е)     5  *  3  +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 (Д) 2 * 3 +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ребенок пишет"/>
          <p:cNvPicPr/>
          <p:nvPr/>
        </p:nvPicPr>
        <p:blipFill>
          <a:blip r:embed="rId1"/>
          <a:stretch/>
        </p:blipFill>
        <p:spPr>
          <a:xfrm>
            <a:off x="4356000" y="2421000"/>
            <a:ext cx="406728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cc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172080" y="40464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обёр  Боб  строит  новую  хатку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  него  есть  6  брёвен,  которые  надо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делить  на  6  частей  каждое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воими  острыми  зубами  он  перегрызае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ревно  за  1  минуту.   Сколько  времен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ймёт  у   него  вся  эта   работа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6 мин   (В)24 мин   (С)30 ми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36 мин      (Е) 42 м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(С) 30 ми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бобер"/>
          <p:cNvPicPr/>
          <p:nvPr/>
        </p:nvPicPr>
        <p:blipFill>
          <a:blip r:embed="rId1"/>
          <a:stretch/>
        </p:blipFill>
        <p:spPr>
          <a:xfrm>
            <a:off x="5364000" y="3933720"/>
            <a:ext cx="360072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8569440" cy="9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ле  того,  как  бегун   пробежал  треть  всей  дистанции  и  ещё   400 м, ему  осталось пробежать  ещё   треть  пути  и ещё  200 м.    Чему   равна  длина  дистанции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600м           (В) 800м          (С) 1 200м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1 600м         (Е) 1 800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(Е) 1800 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человек"/>
          <p:cNvPicPr/>
          <p:nvPr/>
        </p:nvPicPr>
        <p:blipFill>
          <a:blip r:embed="rId1"/>
          <a:stretch/>
        </p:blipFill>
        <p:spPr>
          <a:xfrm>
            <a:off x="6012000" y="422100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26920" y="476280"/>
            <a:ext cx="7705800" cy="81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ой  самый  маленький  результат  может     получиться,  если  в  выражение        4 * 12 – 10 : 2 – 3   вставить   одну  пару   скобок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40            (В) 25            (С) 16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1            (Е)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(Д) 1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i?id=531159&amp;tov=4"/>
          <p:cNvPicPr/>
          <p:nvPr/>
        </p:nvPicPr>
        <p:blipFill>
          <a:blip r:embed="rId1"/>
          <a:stretch/>
        </p:blipFill>
        <p:spPr>
          <a:xfrm>
            <a:off x="324000" y="3573360"/>
            <a:ext cx="3168360" cy="297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4960" y="189000"/>
            <a:ext cx="860904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мья  состоит  из  мамы,  папы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 четверых  детей.  Средний  рос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тей  -  120 см,  а  родителей -  174 см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ов  средний  рост всех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ленов  этой  семьи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120 см        (В) 138 см     (С) 147 см     (Д) 150 см    (Е) 174 с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(В) 138 с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семья"/>
          <p:cNvPicPr/>
          <p:nvPr/>
        </p:nvPicPr>
        <p:blipFill>
          <a:blip r:embed="rId1"/>
          <a:stretch/>
        </p:blipFill>
        <p:spPr>
          <a:xfrm>
            <a:off x="4067280" y="4076640"/>
            <a:ext cx="47908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3"/>
          <p:cNvSpPr txBox="1"/>
          <p:nvPr/>
        </p:nvSpPr>
        <p:spPr>
          <a:xfrm>
            <a:off x="785880" y="1714680"/>
            <a:ext cx="6769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 за   работу !</a:t>
            </a:r>
            <a:endParaRPr b="1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 rot="18936600">
            <a:off x="1980000" y="155664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КЕНГУРУ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3_3_3"/>
          <p:cNvPicPr/>
          <p:nvPr/>
        </p:nvPicPr>
        <p:blipFill>
          <a:blip r:embed="rId1"/>
          <a:stretch/>
        </p:blipFill>
        <p:spPr>
          <a:xfrm>
            <a:off x="468360" y="76500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050920" y="476280"/>
            <a:ext cx="6934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ечно же, название конкурса связано с далекой Австралией.    Но почему?      Ведь массовые математические  соревнования  проводятся  во многих  странах   уже  не  одно  десятилетие,  а  Европа,  в которой  зародилось  новое  соревнование,  так    далека   от   Австралии!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       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о  в  том,  что  в  начале   80-х   годов   ХХ столетия  известный  австралийский  математик  и педагог  Питер  Холлоран  (1931 – 1994)   придумал   два   очень  существенных   новшества,   которые  заметно  изменили  традиционные   школьные  олимпиады.    Он   разделил   все  задачи  олимпиады   на три   категории  сложности,   причем   простые   задачи   должны      были    быть  доступны  буквально   каждому   школьнику.     А   кроме  того,   задания  предлагались   в   форме    теста   с   выбором   ответов,    ориентированного   на    компьютерную   обработку  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2_3_1"/>
          <p:cNvPicPr/>
          <p:nvPr/>
        </p:nvPicPr>
        <p:blipFill>
          <a:blip r:embed="rId1"/>
          <a:stretch/>
        </p:blipFill>
        <p:spPr>
          <a:xfrm>
            <a:off x="0" y="54936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курс  «Кенгуру»  -  массовое  международное  математическое соревнование,  которое  проходит  под  девизом  «Математика  для  всех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го  основная  цель  -  привлечь  как  можно  больше  ребят  к   решению  математических   задач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ует  конкурс  ассоциация  «КЕНГУРУ без  границ», в  которую  входит  около  40  стран  Европы,  Азии  и  Америки.  Каждый  год  организаторы  конкурса из  различных  стран собираются на  несколько  дней  вместе,  и  вырабатывают  международный  вариант  заданий  конкурс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visual_search_teaser"/>
          <p:cNvPicPr/>
          <p:nvPr/>
        </p:nvPicPr>
        <p:blipFill>
          <a:blip r:embed="rId2"/>
          <a:stretch/>
        </p:blipFill>
        <p:spPr>
          <a:xfrm>
            <a:off x="6877080" y="4797360"/>
            <a:ext cx="18525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?id=70927610&amp;tov=5"/>
          <p:cNvPicPr/>
          <p:nvPr/>
        </p:nvPicPr>
        <p:blipFill>
          <a:blip r:embed="rId3"/>
          <a:stretch/>
        </p:blipFill>
        <p:spPr>
          <a:xfrm>
            <a:off x="324000" y="4941720"/>
            <a:ext cx="18730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й математический конкурс-игра «Кенгуру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 «Кенгуру» проводится с 1994 года.  Конкурс рассчитан на самых обыкновенных школьников и поэтому быстро завоевал симпатии и ребят, и учителей. Задания конкурса составлены так, чтобы каждый ученик нашёл для себя интересные и доступные вопросы. Ведь главная цель этого соревнования — заинтересовать ребят, вселить в них уверенность в своих возможностях, а девиз— «Математика для все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в нем участвует около 5 миллионов школьников во всем мир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3_3_2"/>
          <p:cNvPicPr/>
          <p:nvPr/>
        </p:nvPicPr>
        <p:blipFill>
          <a:blip r:embed="rId1"/>
          <a:stretch/>
        </p:blipFill>
        <p:spPr>
          <a:xfrm>
            <a:off x="4788000" y="217800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 rot="20440800">
            <a:off x="2428920" y="595440"/>
            <a:ext cx="599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Наш  маленький  конкур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«КЕНГУРУ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5_3_1"/>
          <p:cNvPicPr/>
          <p:nvPr/>
        </p:nvPicPr>
        <p:blipFill>
          <a:blip r:embed="rId2"/>
          <a:stretch/>
        </p:blipFill>
        <p:spPr>
          <a:xfrm>
            <a:off x="179280" y="260280"/>
            <a:ext cx="2190960" cy="2190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11280" y="4106520"/>
            <a:ext cx="51130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33"/>
                </a:solidFill>
                <a:latin typeface="Georgia"/>
              </a:rPr>
              <a:t>20 марта 2014 год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Стоимость участия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50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Срок подачи заявк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14.02.201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50920" y="692280"/>
            <a:ext cx="83818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умножить количество различных гласных  букв  в  слове  КЕНГУРУ  на количество согласных букв в этом слове, то получитс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(А)  5           (В)  8           (С)  9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(Д)  10             (Е)  12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  (Б) 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508464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9280" y="4149720"/>
            <a:ext cx="288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кенгуру (2)"/>
          <p:cNvPicPr/>
          <p:nvPr/>
        </p:nvPicPr>
        <p:blipFill>
          <a:blip r:embed="rId1"/>
          <a:stretch/>
        </p:blipFill>
        <p:spPr>
          <a:xfrm>
            <a:off x="5076720" y="4221000"/>
            <a:ext cx="266544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404640"/>
            <a:ext cx="91440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 слове  КЕНГУРУ  стёрли  4  буквы                                               (может быть, среди  них  был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динаковые).  Оставшиеся  буквы                                                  переписали  в  обратном  порядк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  могло  получитьс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РУГУ    (В) УГУ     (С) РКУ    (Д) РУН    (Е) ГЕ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   (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У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кенгуру"/>
          <p:cNvPicPr/>
          <p:nvPr/>
        </p:nvPicPr>
        <p:blipFill>
          <a:blip r:embed="rId1"/>
          <a:stretch/>
        </p:blipFill>
        <p:spPr>
          <a:xfrm>
            <a:off x="468360" y="4076640"/>
            <a:ext cx="1584360" cy="2087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cc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9640" y="549360"/>
            <a:ext cx="7980480" cy="71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з какого количества одинаковы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ичек невозможно сложит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реугольник,  если спички нельз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омать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 7             (В)  6             (С)  5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 4             (Е) 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 (Д) 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треугольник"/>
          <p:cNvPicPr/>
          <p:nvPr/>
        </p:nvPicPr>
        <p:blipFill>
          <a:blip r:embed="rId1"/>
          <a:stretch/>
        </p:blipFill>
        <p:spPr>
          <a:xfrm>
            <a:off x="6732720" y="2924280"/>
            <a:ext cx="169380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Безымянный2"/>
          <p:cNvPicPr/>
          <p:nvPr/>
        </p:nvPicPr>
        <p:blipFill>
          <a:blip r:embed="rId2"/>
          <a:stretch/>
        </p:blipFill>
        <p:spPr>
          <a:xfrm>
            <a:off x="539640" y="4581360"/>
            <a:ext cx="2087640" cy="18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47840" y="595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95280" y="404640"/>
            <a:ext cx="724392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ерез шесть с половиной часов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дет четыре часа после полуноч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торый  сейчас  час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) 21:30           (В) 04:30           (С) 22:0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) 02:30          (Е) 10: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  (А) 21: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аним часы"/>
          <p:cNvPicPr/>
          <p:nvPr/>
        </p:nvPicPr>
        <p:blipFill>
          <a:blip r:embed="rId1"/>
          <a:stretch/>
        </p:blipFill>
        <p:spPr>
          <a:xfrm>
            <a:off x="5724360" y="3284640"/>
            <a:ext cx="23767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7:17:41Z</dcterms:created>
  <dc:creator>AYO Office</dc:creator>
  <dc:description/>
  <dc:language>en-US</dc:language>
  <cp:lastModifiedBy>Лариса</cp:lastModifiedBy>
  <dcterms:modified xsi:type="dcterms:W3CDTF">2013-10-06T15:35:26Z</dcterms:modified>
  <cp:revision>54</cp:revision>
  <dc:subject/>
  <dc:title>Слайд 1</dc:title>
</cp:coreProperties>
</file>