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967-826A-46E3-93DA-90ACF04D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C5F-404F-428B-8986-D99F778E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5B7-1E65-4446-B992-B83F20BF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5FE-4B58-4FA2-9912-D1C2DD98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0AA1-B7CB-4474-9B50-CE6A0B8D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9EBB-4C41-43C3-B108-643BC6EF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BF57-A29F-4C87-9C53-F6B54EA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4CF-8CC3-44B1-9F28-02C433F1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7B8-95D4-4ECE-98BF-D42A6DEB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2829-879F-4FE3-A355-A84CFF1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695D-E7F0-4959-947F-38F5341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CE7-E602-4D5D-8F6E-50C70284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B8D9-37E1-4910-8AF9-0600D71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7C6B-D6BB-4D3F-B426-07319F1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104D-DEAF-45A1-A39E-873B68FF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D9C-15BD-4FC3-AA59-87607559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E51-8D70-4AC5-928B-E09271A1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9F2-9B9E-4F54-ABF3-9E32998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05A-E9E7-434F-9DDF-B4407EF8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A6B-BD1D-4C6C-9A08-2A8FCDE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807-E0BD-4879-9BDB-1AB9985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348-0460-4D3B-B324-AE7A3F02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78F-6295-44E1-A575-01EC806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B52-58FC-4511-90E6-DE05E7C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2ECD-9395-4C8B-AD59-8E1DDC5CF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5C21-66C9-44E0-8F40-D26D2E9B2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ДЕЛОЧНЫЕ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АМН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67816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Ульяновская обл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ОДГОТОВИЛИ Махмутов Ильнур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Ефремов Дмитр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МБОУ СОШ №3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857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Симбирцит</a:t>
            </a: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 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   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это уникальный древний камень, хотя название свое он получил только в 1985 году - в честь единственного в мире месторождения под Симбирском (Ульяновском). На протяжении многих миллионов лет минералы заполняли пустоты в раковинах древних огромных головоногих моллюсков-аммонитов, современников динозавров, создавая при этом неповторимые сказочные узоры и гамму цветов - от лимонно-желтого до темно-коричневого с блестящими прожилками пирита и огненно-красными вкраплениями перламутра. Симбирцит - теплый камень. Он отдает свою энергию, и когда прикасаешься к нему, кажется, берешь в руки маленькое солнышко. Изделия из симбирцита являются символами достатка, семейного благополучия и счастья, способными восстановить душевное спокойствие и равновесие. Камень привлекает своим сиянием удачу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77080" y="5084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ммони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507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9276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бирцит – Ульяновский самоцв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048120" cy="272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64040" y="177804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увениры из симбирци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5079960" cy="507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64040" y="177804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Сенгилит (пласт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уникальная разновидность,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имбирцита,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торый в свою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чередь,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является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зно-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идностью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льцита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00360" y="26668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4085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крашения из сенгили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64788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55640" y="1844640"/>
            <a:ext cx="3927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04960" cy="475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20000" y="2924280"/>
            <a:ext cx="1863720" cy="210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360" y="4275000"/>
            <a:ext cx="34448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21:33Z</dcterms:created>
  <dc:creator>Солодовникова</dc:creator>
  <dc:description/>
  <dc:language>en-US</dc:language>
  <cp:lastModifiedBy>Каб. 203</cp:lastModifiedBy>
  <dcterms:modified xsi:type="dcterms:W3CDTF">2012-12-27T11:53:33Z</dcterms:modified>
  <cp:revision>3</cp:revision>
  <dc:subject/>
  <dc:title>Слайд 1</dc:title>
</cp:coreProperties>
</file>