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E8C-2D59-4C05-A687-039E373A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570-9B85-40BE-BA9F-CFB7CD8E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C72-B30D-45E6-A10A-FE6BAAA0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75E-C972-4F15-8870-EE471A60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BC3-8E58-48E5-ACC3-6E8773DF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2AD9-6827-459B-81E8-72A5E638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9E3-96D3-4FDE-BF61-BF4B88C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29F7-318C-49BB-B009-0CCE61B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010-1BB6-4F21-A9F2-8CD752A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E2F9-8D81-497B-8E40-5710CD05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C1C9-4829-4C18-AD99-661BCD3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23D-C73B-4D70-A595-BD6F9B31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BEAD-2C51-4B46-B4BA-6A97FD2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CA7C-6553-44FD-8F24-B5BDBD2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B86-352E-4F39-8768-0AF5B5E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544-CA64-41EE-A729-D60B7D4C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9098-B169-4DA1-8E1F-8DD5FD0D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3A0-58D8-480E-85C9-B459A3DA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578-DA1A-4EBB-B508-635D7A31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6F2-8B20-483D-B0E1-1421E6AF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5B5-AA70-4E52-A1FF-1E0EE90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A1B-CC11-4588-A7F4-576312B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829-2B44-42DC-815F-8E288EB7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444-6D13-41E0-962B-1ECF683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EDE-7CD0-4BDF-A4D6-C453B37ACA5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D8E-99F9-4A8C-8805-360C1DD822E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084640"/>
            <a:ext cx="7772400" cy="1470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Подключение к Интернету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715000" y="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еляева Зоя Викторовна, учитель информатики МОУ «Новоураль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Интернет-провайдеры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печивают подключение пользователей к Интернету, серверы имеют несколько высокоскоростных линий связ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Услуг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едоставляемые Интернет-провайдером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 в Интернет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еление дискового пространства для хранения и обеспечения работы сайтов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боты почтовых ящиков и т.д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825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Monotype Corsiva"/>
              </a:rPr>
              <a:t>Dial-up </a:t>
            </a: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подключение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Group 42"/>
          <p:cNvGrpSpPr/>
          <p:nvPr/>
        </p:nvGrpSpPr>
        <p:grpSpPr>
          <a:xfrm>
            <a:off x="539640" y="1844280"/>
            <a:ext cx="7961400" cy="1017720"/>
            <a:chOff x="539640" y="1844280"/>
            <a:chExt cx="7961400" cy="1017720"/>
          </a:xfrm>
        </p:grpSpPr>
        <p:sp>
          <p:nvSpPr>
            <p:cNvPr id="91" name="laptop"/>
            <p:cNvSpPr/>
            <p:nvPr/>
          </p:nvSpPr>
          <p:spPr>
            <a:xfrm>
              <a:off x="539640" y="1844640"/>
              <a:ext cx="904680" cy="609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aptop"/>
            <p:cNvSpPr/>
            <p:nvPr/>
          </p:nvSpPr>
          <p:spPr>
            <a:xfrm>
              <a:off x="7596000" y="1844640"/>
              <a:ext cx="905040" cy="609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331640" y="1917720"/>
              <a:ext cx="6337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1331640" y="227808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1"/>
            <a:stretch/>
          </p:blipFill>
          <p:spPr>
            <a:xfrm>
              <a:off x="2628720" y="1844640"/>
              <a:ext cx="79524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0" descr=""/>
            <p:cNvPicPr/>
            <p:nvPr/>
          </p:nvPicPr>
          <p:blipFill>
            <a:blip r:embed="rId2"/>
            <a:stretch/>
          </p:blipFill>
          <p:spPr>
            <a:xfrm>
              <a:off x="5652720" y="1844640"/>
              <a:ext cx="7956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Line 11"/>
            <p:cNvSpPr/>
            <p:nvPr/>
          </p:nvSpPr>
          <p:spPr>
            <a:xfrm>
              <a:off x="3708360" y="1917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>
              <a:off x="5364000" y="1917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>
              <a:off x="3708360" y="2421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916000" y="249372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елефонная ли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26"/>
            <p:cNvGrpSpPr/>
            <p:nvPr/>
          </p:nvGrpSpPr>
          <p:grpSpPr>
            <a:xfrm>
              <a:off x="6445080" y="1844280"/>
              <a:ext cx="1224000" cy="360720"/>
              <a:chOff x="6445080" y="1844280"/>
              <a:chExt cx="1224000" cy="360720"/>
            </a:xfrm>
          </p:grpSpPr>
          <p:sp>
            <p:nvSpPr>
              <p:cNvPr id="102" name="Line 15"/>
              <p:cNvSpPr/>
              <p:nvPr/>
            </p:nvSpPr>
            <p:spPr>
              <a:xfrm flipV="1">
                <a:off x="6445080" y="191556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6"/>
              <p:cNvSpPr/>
              <p:nvPr/>
            </p:nvSpPr>
            <p:spPr>
              <a:xfrm>
                <a:off x="6445080" y="1915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>
                <a:off x="6661080" y="1915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661080" y="2205000"/>
                <a:ext cx="7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 flipV="1">
                <a:off x="6732360" y="1844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0"/>
              <p:cNvSpPr/>
              <p:nvPr/>
            </p:nvSpPr>
            <p:spPr>
              <a:xfrm>
                <a:off x="6732360" y="1844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1"/>
              <p:cNvSpPr/>
              <p:nvPr/>
            </p:nvSpPr>
            <p:spPr>
              <a:xfrm>
                <a:off x="7164360" y="1844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2"/>
              <p:cNvSpPr/>
              <p:nvPr/>
            </p:nvSpPr>
            <p:spPr>
              <a:xfrm>
                <a:off x="7164360" y="22050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3"/>
              <p:cNvSpPr/>
              <p:nvPr/>
            </p:nvSpPr>
            <p:spPr>
              <a:xfrm flipV="1">
                <a:off x="7380000" y="1844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4"/>
              <p:cNvSpPr/>
              <p:nvPr/>
            </p:nvSpPr>
            <p:spPr>
              <a:xfrm>
                <a:off x="7380000" y="184464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5"/>
              <p:cNvSpPr/>
              <p:nvPr/>
            </p:nvSpPr>
            <p:spPr>
              <a:xfrm>
                <a:off x="7669080" y="1844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331640" y="1844280"/>
              <a:ext cx="1224000" cy="360720"/>
              <a:chOff x="1331640" y="1844280"/>
              <a:chExt cx="1224000" cy="360720"/>
            </a:xfrm>
          </p:grpSpPr>
          <p:sp>
            <p:nvSpPr>
              <p:cNvPr id="114" name="Line 28"/>
              <p:cNvSpPr/>
              <p:nvPr/>
            </p:nvSpPr>
            <p:spPr>
              <a:xfrm flipV="1">
                <a:off x="1331640" y="191556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1331640" y="1915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1547640" y="1915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1547640" y="2205000"/>
                <a:ext cx="7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1618920" y="1844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1618920" y="1844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2050920" y="1844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2050920" y="22050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 flipV="1">
                <a:off x="2266560" y="1844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7"/>
              <p:cNvSpPr/>
              <p:nvPr/>
            </p:nvSpPr>
            <p:spPr>
              <a:xfrm>
                <a:off x="2266560" y="184464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8"/>
              <p:cNvSpPr/>
              <p:nvPr/>
            </p:nvSpPr>
            <p:spPr>
              <a:xfrm>
                <a:off x="2555640" y="18446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Freeform 40"/>
            <p:cNvSpPr/>
            <p:nvPr/>
          </p:nvSpPr>
          <p:spPr>
            <a:xfrm>
              <a:off x="3852720" y="1917720"/>
              <a:ext cx="1368360" cy="347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1"/>
          <p:cNvSpPr/>
          <p:nvPr/>
        </p:nvSpPr>
        <p:spPr>
          <a:xfrm>
            <a:off x="61128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оговый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мод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еспечивает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м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яцию и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д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ляцию сигнала при его передаче по телефонным ли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Monotype Corsiva"/>
              </a:rPr>
              <a:t>ADSL</a:t>
            </a: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-подключение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S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тся для подключения отдельных компьютеров или небольших локальных сете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оедин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ебуется дв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модема – один у Интернет-провайдера, другой у пользователя. Между модемами – обычный телефонный провод. На линии организуется 3 информационных канал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ал обычной телефонной связи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ящий поток передачи данных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ходящий поток передачи данны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69000"/>
            <a:ext cx="20797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Подключение через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мобильный телефон</a:t>
            </a:r>
            <a:endParaRPr b="1" lang="en-US" sz="4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лючение компьютера к Интернету через мобильный телефон осуществляется по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технологии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GPR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беспроводного доступа с мобильных телефонов к Интернету используется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протокол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W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айты располагаю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ерверах и представлены в специальном формате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W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4920" y="2133720"/>
            <a:ext cx="1542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Monotype Corsiva"/>
              </a:rPr>
              <a:t>Wi-Fi</a:t>
            </a: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-подключение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бщественных местах устанавливаются точки беспроводного доступа в Интернет. Посетители с ноутбука (с сетевой карто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-F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могут соединиться на скорости до 54 Мбит/с. Скорость зависит от расстояния до точки доступа, наличия препятствий для прохождения электромагнитных волн и от количество подключенных компьютеров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лючение по локальной сети – витая пара проводов (кабель) подключается к сетевой карте компьютера пользовател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окальной сети Интернет-провайдера можно найти музыку, множество видеороликов и фильмов, файловый архив и другую полезную информацию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Локальная сеть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Интернет-провайдера</a:t>
            </a:r>
            <a:endParaRPr b="1" lang="en-US" sz="48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Оптоволоконная линия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ется для подключения больших локальных сетей. Оптоволокно передает информацию на большие расстояния и с высокой скоростью (до десятков Гбит/с). Используются оптические модемы (преобразуют электрические импульсы в оптический сигнал и обратно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23241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Monotype Corsiva"/>
              </a:rPr>
              <a:t>Спутниковый канал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симетричный доступ в Интернет использует приемную антенну для реализации высокоскоростного канала (до десятков Мбит/с), по которому поступают данные через спутник. Исходящие от пользователя данные передаются через наземный канал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направленный спутников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уп использует приемопередающ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енну для реализации высо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остных каналов для приема/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ачи данных из Интернета через спутник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22575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08:15Z</dcterms:created>
  <dc:creator>Беялева</dc:creator>
  <dc:description/>
  <dc:language>en-US</dc:language>
  <cp:lastModifiedBy>Пользователь</cp:lastModifiedBy>
  <dcterms:modified xsi:type="dcterms:W3CDTF">2013-10-06T13:22:52Z</dcterms:modified>
  <cp:revision>3</cp:revision>
  <dc:subject/>
  <dc:title>Слайд 1</dc:title>
</cp:coreProperties>
</file>