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9.png" ContentType="image/png"/>
  <Override PartName="/ppt/media/image7.gif" ContentType="image/gif"/>
  <Override PartName="/ppt/media/image5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3.png" ContentType="image/png"/>
  <Override PartName="/ppt/media/image23.gif" ContentType="image/gi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80CB-4D75-45A3-9AB2-A846B49D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6FBC-4C64-4DF1-A147-5C3E1EA6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A1E-76E7-4EFE-A856-A9EC399C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90D8-5138-4763-8A32-14C734AB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FB93-14A5-4004-9C05-2E938639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0F42-6C5F-4375-A048-BBF50C6E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7445-9554-4425-9404-AF61EB80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7ED3-3E3D-4375-A009-9A532ED1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21CC-A4BF-444F-ADAE-BB21DE85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513A-5D71-45AE-AA05-83F4A229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839E-8D90-4BFD-A7F7-21EEC172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B7F-DB13-4821-9157-47423434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DDC0-5209-4096-A589-69EDF9E6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4584-26A0-4B05-A388-5E94815E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FE71-9528-42DF-BFD5-A8DC7994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FB0F-0382-48D1-B8BC-225A0D4D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E8DE-7B8D-48A8-8BF1-1A792887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8D314-F9BA-49F1-92B1-7FBB658E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E6E4D-012A-49DA-958A-B0EE9396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A8FAE-71F2-48E0-A05C-2C5210BE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5A746-3ADF-41AE-B6B6-0D97299C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B0478-9ED5-4646-A238-5DC9A108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935-57B3-4A82-AC66-AF43E422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0FCCA-17F2-4BA8-A80E-B67B8F52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01127-B67C-4448-BD5A-AF27C74C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27954-94E4-4E5E-BCEF-B0E04AE0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10F8E-54FF-4B96-999A-3540C680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03076-6B68-4538-94B3-60F68080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88FCB-F4D0-4E13-9C5E-82DDE22D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F8E7C-1A93-497B-9F76-795275B8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EB8E1-08E0-4322-8555-F93F64FD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48146-EC69-4F32-8D5E-408310A3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6EBA6-3FF2-4394-9849-49DCC4E7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7175-6270-4DD6-BAC9-ED20A5F0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28210-3764-474F-B20F-9488AACF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CA3D5-55C3-4968-8399-DA0689B9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98662-A189-4DC3-9810-D737D3EE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2ABF6-7C81-45D5-910D-2C61F0A9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11A7C-D817-4A02-82ED-8F836B9B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F43E4-3519-45EF-9B8F-D6BAD4C0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B9618-2B64-4752-BC81-92C3C32C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D3A8C-3F24-4F76-87FE-9B9749A3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B8BD3-AF6F-4D8D-8CB6-4E092ABD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5A73F-17E2-4503-A35E-58B97D94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D73C-6C80-457E-9CFB-BF09FF2E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CD6DC-A879-45E7-9625-A673C35F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6CC97-4A2E-4FA4-B827-A564EBD7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45165-EDC7-4D23-B494-AB979D65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2A793-5480-4ECA-96E2-BD2E03AE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D660A-E6A1-4EC1-A531-A12F2C97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1AE6A-7435-49AA-877D-F3D97D19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D2771-BCE1-47F0-9000-FBACA7A9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05169-2139-4F31-8FFD-A8FE1838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76195-B565-4179-958A-247EAFE2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E390E-DAF7-4B04-8A9A-7F235EFF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AF6-1090-4181-83A8-878AEC3A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F9D9F-1624-4E70-B36A-91FAEE41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DDBCF-685E-4423-BF18-A0B2AF98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93621-5F2D-42E9-943B-D6B7FA14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51FA3-74BD-4529-913A-6D962060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BDE0E-0B80-48F0-B30E-A18823F9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AD423-13F2-4B0D-A7AF-8CF77FE2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B9E81-477C-4662-90BC-15D03C01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E01CC-AE18-482B-9312-1FE12D5D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FBD4B-9466-4BE7-B620-55A16FF2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AF241-C97F-4A2D-A6C3-414C370D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C17-D65C-4B91-89CF-E8A84FB2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60F28-E9A2-42E4-8982-85C057AB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C83C4-8F99-44E8-81B0-693E5B40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BB96A-A98B-4C7D-9A6D-D09C32159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96933-CC8B-489B-8B1C-F2396A5A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D1F05-5959-4B41-AE90-4AB6D2FD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29BFE-5A97-4138-8BD1-E79173C1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5204D-062B-471D-A029-47351F43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0F356-08AA-4689-8CFF-90C49CF4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998F3-5B5D-4831-8E55-EF3661DF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0C45A-8EB5-4F7B-9AC1-7194F85A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7959-4F8E-4CA8-AA95-A813AF81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A989D-7D20-4319-860A-3A2F334F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F8A64-611C-4F35-9C9F-6CA76650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C524E-4F32-4A58-B6D8-FFBE1973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44D49-6A83-475D-A5F6-BA718C0B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26941-09DE-4387-83EF-70F028CE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F64F3-048A-4055-8F87-A0703FED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F66CF-2C67-468E-A2E4-545FB469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CA413-F0F9-4304-B390-016EDD76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3FBCF-71A0-4716-A41C-50A4180D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31DA3-63AB-490A-A3B0-7F0F2642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C9FC-99DF-44F2-97ED-D8C71B10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D9224-31A6-4B48-87B5-34561F9A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161F5-E8B7-45FF-965A-846A105C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4C043-D786-4DEB-BA46-3195B3E7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D6B3A-D258-4710-88C0-50E2D80B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C7929-A989-4AB3-AA81-372BB059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F1125-9220-4FB6-90F4-935B46DA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78F0D-41F8-4751-84DA-E9C2CD6C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8B85-8CE7-47E0-B504-0557FC395C1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686B-B995-4E29-B1DC-995E545257B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8F8F-93FA-46BF-A9D8-3AFE8879AC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8F26-15BD-4EA9-8871-94D1728D20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6633-B327-44D5-B1CC-852B01806D1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29A1-AF81-4D30-B2D2-CEE9EB9F35E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3763-23B5-4919-A6B2-9E62BB09CA0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D696-BDDA-4995-8362-C493FECC883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143680" y="549360"/>
            <a:ext cx="400032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Bookman Old Style"/>
              </a:rPr>
              <a:t>В природе есть солнц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Bookman Old Style"/>
              </a:rPr>
              <a:t>Оно светит и всех нас любит и греет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Bookman Old Style"/>
              </a:rPr>
              <a:t>Так пусть же каждый его лучи</a:t>
            </a:r>
            <a:r>
              <a:rPr b="1" lang="ru-RU" sz="2800" spc="-1" strike="noStrike">
                <a:solidFill>
                  <a:srgbClr val="0b5395"/>
                </a:solidFill>
                <a:latin typeface="Arial"/>
              </a:rPr>
              <a:t>к</a:t>
            </a:r>
            <a:r>
              <a:rPr b="1" lang="ru-RU" sz="2800" spc="-1" strike="noStrike">
                <a:solidFill>
                  <a:srgbClr val="0b5395"/>
                </a:solidFill>
                <a:latin typeface="Bookman Old Style"/>
              </a:rPr>
              <a:t> заглянет к нам в класс и не только обогреет вас своим теплом, но и придаст сил и уверенности в знаниях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Picture 8" descr="image922"/>
          <p:cNvPicPr/>
          <p:nvPr/>
        </p:nvPicPr>
        <p:blipFill>
          <a:blip r:embed="rId1"/>
          <a:stretch/>
        </p:blipFill>
        <p:spPr>
          <a:xfrm>
            <a:off x="0" y="981000"/>
            <a:ext cx="47912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Заголовок 1" descr=""/>
          <p:cNvPicPr/>
          <p:nvPr/>
        </p:nvPicPr>
        <p:blipFill>
          <a:blip r:embed="rId1"/>
          <a:stretch/>
        </p:blipFill>
        <p:spPr>
          <a:xfrm>
            <a:off x="0" y="620640"/>
            <a:ext cx="7864560" cy="1908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2" descr="гном"/>
          <p:cNvPicPr/>
          <p:nvPr/>
        </p:nvPicPr>
        <p:blipFill>
          <a:blip r:embed="rId2"/>
          <a:stretch/>
        </p:blipFill>
        <p:spPr>
          <a:xfrm>
            <a:off x="3092400" y="2924280"/>
            <a:ext cx="272880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Заголовок 1" descr=""/>
          <p:cNvPicPr/>
          <p:nvPr/>
        </p:nvPicPr>
        <p:blipFill>
          <a:blip r:embed="rId1"/>
          <a:stretch/>
        </p:blipFill>
        <p:spPr>
          <a:xfrm>
            <a:off x="317520" y="0"/>
            <a:ext cx="8826480" cy="21654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гном4"/>
          <p:cNvPicPr/>
          <p:nvPr/>
        </p:nvPicPr>
        <p:blipFill>
          <a:blip r:embed="rId2"/>
          <a:stretch/>
        </p:blipFill>
        <p:spPr>
          <a:xfrm>
            <a:off x="3143160" y="2500200"/>
            <a:ext cx="407196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E:\Documents and Settings\Администратор\Рабочий стол\фоны\golub129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Прямоугольник 4"/>
          <p:cNvSpPr/>
          <p:nvPr/>
        </p:nvSpPr>
        <p:spPr>
          <a:xfrm>
            <a:off x="2286000" y="42876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8119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3"/>
          <p:cNvSpPr/>
          <p:nvPr/>
        </p:nvSpPr>
        <p:spPr>
          <a:xfrm>
            <a:off x="142920" y="1571760"/>
            <a:ext cx="1509840" cy="1643040"/>
          </a:xfrm>
          <a:prstGeom prst="smileyFace">
            <a:avLst>
              <a:gd name="adj" fmla="val 36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0"/>
          <p:cNvSpPr/>
          <p:nvPr/>
        </p:nvSpPr>
        <p:spPr>
          <a:xfrm>
            <a:off x="2143080" y="1571760"/>
            <a:ext cx="1509840" cy="1571400"/>
          </a:xfrm>
          <a:prstGeom prst="smileyFace">
            <a:avLst>
              <a:gd name="adj" fmla="val -58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9"/>
          <p:cNvSpPr/>
          <p:nvPr/>
        </p:nvSpPr>
        <p:spPr>
          <a:xfrm>
            <a:off x="4071960" y="1571760"/>
            <a:ext cx="1509840" cy="1571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оугольник 8"/>
          <p:cNvSpPr/>
          <p:nvPr/>
        </p:nvSpPr>
        <p:spPr>
          <a:xfrm>
            <a:off x="5929200" y="2071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Times New Roman"/>
              </a:rPr>
              <a:t>Настро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gnom27"/>
          <p:cNvPicPr/>
          <p:nvPr/>
        </p:nvPicPr>
        <p:blipFill>
          <a:blip r:embed="rId2"/>
          <a:stretch/>
        </p:blipFill>
        <p:spPr>
          <a:xfrm>
            <a:off x="1571760" y="3786120"/>
            <a:ext cx="39751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682560" y="328680"/>
            <a:ext cx="7785000" cy="13111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99680" y="2071800"/>
            <a:ext cx="7272360" cy="256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3300"/>
                </a:solidFill>
                <a:latin typeface="Lucida Sans Unicode"/>
              </a:rPr>
              <a:t>Имя  прилагательное</a:t>
            </a: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 – это  самостоятельная  часть  речи,  которая  обозначает  </a:t>
            </a:r>
            <a:r>
              <a:rPr b="1" lang="ru-RU" sz="2700" spc="-1" strike="noStrike">
                <a:solidFill>
                  <a:srgbClr val="3366ff"/>
                </a:solidFill>
                <a:latin typeface="Lucida Sans Unicode"/>
              </a:rPr>
              <a:t>признак  предмета</a:t>
            </a: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  и  отвечает  на  вопросы  </a:t>
            </a:r>
            <a:r>
              <a:rPr b="1" lang="ru-RU" sz="2700" spc="-1" strike="noStrike">
                <a:solidFill>
                  <a:srgbClr val="3366ff"/>
                </a:solidFill>
                <a:latin typeface="Lucida Sans Unicode"/>
              </a:rPr>
              <a:t>какой? какая? какое? каки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4" name="Group 17"/>
          <p:cNvGrpSpPr/>
          <p:nvPr/>
        </p:nvGrpSpPr>
        <p:grpSpPr>
          <a:xfrm>
            <a:off x="6061320" y="3643200"/>
            <a:ext cx="2829240" cy="2768400"/>
            <a:chOff x="6061320" y="3643200"/>
            <a:chExt cx="2829240" cy="2768400"/>
          </a:xfrm>
        </p:grpSpPr>
        <p:pic>
          <p:nvPicPr>
            <p:cNvPr id="375" name="Picture 18" descr="Копия (4) гном4"/>
            <p:cNvPicPr/>
            <p:nvPr/>
          </p:nvPicPr>
          <p:blipFill>
            <a:blip r:embed="rId2"/>
            <a:stretch/>
          </p:blipFill>
          <p:spPr>
            <a:xfrm flipH="1">
              <a:off x="6531480" y="3643200"/>
              <a:ext cx="2359080" cy="27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Rectangle 19"/>
            <p:cNvSpPr/>
            <p:nvPr/>
          </p:nvSpPr>
          <p:spPr>
            <a:xfrm rot="5400000">
              <a:off x="6065640" y="4590000"/>
              <a:ext cx="1942920" cy="201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20"/>
            <p:cNvGrpSpPr/>
            <p:nvPr/>
          </p:nvGrpSpPr>
          <p:grpSpPr>
            <a:xfrm>
              <a:off x="6061320" y="4059720"/>
              <a:ext cx="1650600" cy="1703880"/>
              <a:chOff x="6061320" y="4059720"/>
              <a:chExt cx="1650600" cy="1703880"/>
            </a:xfrm>
          </p:grpSpPr>
          <p:sp>
            <p:nvSpPr>
              <p:cNvPr id="378" name="AutoShape 21"/>
              <p:cNvSpPr/>
              <p:nvPr/>
            </p:nvSpPr>
            <p:spPr>
              <a:xfrm rot="13737600">
                <a:off x="6154920" y="4454280"/>
                <a:ext cx="146268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2"/>
              <p:cNvSpPr/>
              <p:nvPr/>
            </p:nvSpPr>
            <p:spPr>
              <a:xfrm rot="13737600">
                <a:off x="6184800" y="4494960"/>
                <a:ext cx="1405440" cy="86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3"/>
              <p:cNvSpPr/>
              <p:nvPr/>
            </p:nvSpPr>
            <p:spPr>
              <a:xfrm rot="13737600">
                <a:off x="6452280" y="4651560"/>
                <a:ext cx="856080" cy="5713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4"/>
              <p:cNvSpPr/>
              <p:nvPr/>
            </p:nvSpPr>
            <p:spPr>
              <a:xfrm rot="13737600">
                <a:off x="6595920" y="4733280"/>
                <a:ext cx="815400" cy="48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5"/>
              <p:cNvSpPr/>
              <p:nvPr/>
            </p:nvSpPr>
            <p:spPr>
              <a:xfrm rot="13737600">
                <a:off x="6354360" y="4642560"/>
                <a:ext cx="835920" cy="51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6"/>
              <p:cNvSpPr/>
              <p:nvPr/>
            </p:nvSpPr>
            <p:spPr>
              <a:xfrm rot="13737600">
                <a:off x="6595200" y="4107600"/>
                <a:ext cx="253440" cy="29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27"/>
              <p:cNvSpPr/>
              <p:nvPr/>
            </p:nvSpPr>
            <p:spPr>
              <a:xfrm rot="13737600">
                <a:off x="6689880" y="4097520"/>
                <a:ext cx="138240" cy="1011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8"/>
              <p:cNvSpPr/>
              <p:nvPr/>
            </p:nvSpPr>
            <p:spPr>
              <a:xfrm rot="13737600">
                <a:off x="6703560" y="4453200"/>
                <a:ext cx="24588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29"/>
              <p:cNvSpPr/>
              <p:nvPr/>
            </p:nvSpPr>
            <p:spPr>
              <a:xfrm rot="13737600">
                <a:off x="6857640" y="5253480"/>
                <a:ext cx="1936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0"/>
              <p:cNvSpPr/>
              <p:nvPr/>
            </p:nvSpPr>
            <p:spPr>
              <a:xfrm rot="13737600">
                <a:off x="6864120" y="5360040"/>
                <a:ext cx="226800" cy="19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1"/>
              <p:cNvSpPr/>
              <p:nvPr/>
            </p:nvSpPr>
            <p:spPr>
              <a:xfrm rot="13737600">
                <a:off x="6931800" y="5346360"/>
                <a:ext cx="145800" cy="19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32"/>
              <p:cNvSpPr/>
              <p:nvPr/>
            </p:nvSpPr>
            <p:spPr>
              <a:xfrm rot="13737600">
                <a:off x="6975720" y="5484600"/>
                <a:ext cx="172080" cy="25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33"/>
              <p:cNvSpPr/>
              <p:nvPr/>
            </p:nvSpPr>
            <p:spPr>
              <a:xfrm rot="13737600">
                <a:off x="6519960" y="4746960"/>
                <a:ext cx="770040" cy="47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34"/>
              <p:cNvSpPr/>
              <p:nvPr/>
            </p:nvSpPr>
            <p:spPr>
              <a:xfrm rot="13737600">
                <a:off x="6909480" y="5214960"/>
                <a:ext cx="141840" cy="20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35"/>
              <p:cNvSpPr/>
              <p:nvPr/>
            </p:nvSpPr>
            <p:spPr>
              <a:xfrm rot="13737600">
                <a:off x="7020000" y="5429880"/>
                <a:ext cx="27720" cy="4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36"/>
              <p:cNvSpPr/>
              <p:nvPr/>
            </p:nvSpPr>
            <p:spPr>
              <a:xfrm rot="13737600">
                <a:off x="6937920" y="5439960"/>
                <a:ext cx="2916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37"/>
              <p:cNvSpPr/>
              <p:nvPr/>
            </p:nvSpPr>
            <p:spPr>
              <a:xfrm rot="13737600">
                <a:off x="6815880" y="5504760"/>
                <a:ext cx="156960" cy="82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38"/>
              <p:cNvSpPr/>
              <p:nvPr/>
            </p:nvSpPr>
            <p:spPr>
              <a:xfrm rot="13737600">
                <a:off x="6631200" y="4207320"/>
                <a:ext cx="392040" cy="14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39"/>
              <p:cNvSpPr/>
              <p:nvPr/>
            </p:nvSpPr>
            <p:spPr>
              <a:xfrm rot="13737600">
                <a:off x="6641640" y="4733640"/>
                <a:ext cx="659520" cy="37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40"/>
              <p:cNvSpPr/>
              <p:nvPr/>
            </p:nvSpPr>
            <p:spPr>
              <a:xfrm rot="13737600">
                <a:off x="6689520" y="4335480"/>
                <a:ext cx="78480" cy="83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41"/>
              <p:cNvSpPr/>
              <p:nvPr/>
            </p:nvSpPr>
            <p:spPr>
              <a:xfrm rot="13737600">
                <a:off x="6687720" y="4308840"/>
                <a:ext cx="272520" cy="11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7785000" cy="1092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727236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900000" y="1484280"/>
            <a:ext cx="1800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а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2484360" y="1484280"/>
            <a:ext cx="2087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как</a:t>
            </a: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о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как</a:t>
            </a: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о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как</a:t>
            </a: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о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643280" y="1484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ёп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5651640" y="14842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4646160" y="234936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д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9"/>
          <p:cNvSpPr/>
          <p:nvPr/>
        </p:nvSpPr>
        <p:spPr>
          <a:xfrm>
            <a:off x="5796000" y="2349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"/>
          <p:cNvSpPr/>
          <p:nvPr/>
        </p:nvSpPr>
        <p:spPr>
          <a:xfrm>
            <a:off x="4716360" y="3068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5580000" y="3068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2"/>
          <p:cNvSpPr/>
          <p:nvPr/>
        </p:nvSpPr>
        <p:spPr>
          <a:xfrm>
            <a:off x="2556000" y="393372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ый, -ий, -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7"/>
          <p:cNvGrpSpPr/>
          <p:nvPr/>
        </p:nvGrpSpPr>
        <p:grpSpPr>
          <a:xfrm>
            <a:off x="6703560" y="1773360"/>
            <a:ext cx="2258640" cy="2334960"/>
            <a:chOff x="6703560" y="1773360"/>
            <a:chExt cx="2258640" cy="2334960"/>
          </a:xfrm>
        </p:grpSpPr>
        <p:pic>
          <p:nvPicPr>
            <p:cNvPr id="411" name="Picture 18" descr="Копия (4) гном4"/>
            <p:cNvPicPr/>
            <p:nvPr/>
          </p:nvPicPr>
          <p:blipFill>
            <a:blip r:embed="rId2"/>
            <a:stretch/>
          </p:blipFill>
          <p:spPr>
            <a:xfrm flipH="1">
              <a:off x="7100640" y="1773360"/>
              <a:ext cx="1861560" cy="23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Rectangle 19"/>
            <p:cNvSpPr/>
            <p:nvPr/>
          </p:nvSpPr>
          <p:spPr>
            <a:xfrm rot="5400000">
              <a:off x="6679800" y="2577240"/>
              <a:ext cx="1638720" cy="158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Group 20"/>
            <p:cNvGrpSpPr/>
            <p:nvPr/>
          </p:nvGrpSpPr>
          <p:grpSpPr>
            <a:xfrm>
              <a:off x="6703560" y="2140920"/>
              <a:ext cx="1354320" cy="1404360"/>
              <a:chOff x="6703560" y="2140920"/>
              <a:chExt cx="1354320" cy="1404360"/>
            </a:xfrm>
          </p:grpSpPr>
          <p:sp>
            <p:nvSpPr>
              <p:cNvPr id="414" name="AutoShape 21"/>
              <p:cNvSpPr/>
              <p:nvPr/>
            </p:nvSpPr>
            <p:spPr>
              <a:xfrm rot="13737600">
                <a:off x="6763680" y="2481840"/>
                <a:ext cx="1233720" cy="72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2"/>
              <p:cNvSpPr/>
              <p:nvPr/>
            </p:nvSpPr>
            <p:spPr>
              <a:xfrm rot="13737600">
                <a:off x="6788880" y="2514600"/>
                <a:ext cx="1185480" cy="678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23"/>
              <p:cNvSpPr/>
              <p:nvPr/>
            </p:nvSpPr>
            <p:spPr>
              <a:xfrm rot="13737600">
                <a:off x="7015320" y="2638800"/>
                <a:ext cx="722160" cy="4507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24"/>
              <p:cNvSpPr/>
              <p:nvPr/>
            </p:nvSpPr>
            <p:spPr>
              <a:xfrm rot="13737600">
                <a:off x="7133760" y="2707560"/>
                <a:ext cx="687600" cy="38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5"/>
              <p:cNvSpPr/>
              <p:nvPr/>
            </p:nvSpPr>
            <p:spPr>
              <a:xfrm rot="13737600">
                <a:off x="6935040" y="2627280"/>
                <a:ext cx="704880" cy="40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6"/>
              <p:cNvSpPr/>
              <p:nvPr/>
            </p:nvSpPr>
            <p:spPr>
              <a:xfrm rot="13737600">
                <a:off x="7122600" y="2184120"/>
                <a:ext cx="21384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7"/>
              <p:cNvSpPr/>
              <p:nvPr/>
            </p:nvSpPr>
            <p:spPr>
              <a:xfrm rot="13737600">
                <a:off x="7198200" y="2172960"/>
                <a:ext cx="116640" cy="79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8"/>
              <p:cNvSpPr/>
              <p:nvPr/>
            </p:nvSpPr>
            <p:spPr>
              <a:xfrm rot="13737600">
                <a:off x="7217280" y="2466720"/>
                <a:ext cx="207360" cy="72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9"/>
              <p:cNvSpPr/>
              <p:nvPr/>
            </p:nvSpPr>
            <p:spPr>
              <a:xfrm rot="13737600">
                <a:off x="7366320" y="3128040"/>
                <a:ext cx="163440" cy="14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0"/>
              <p:cNvSpPr/>
              <p:nvPr/>
            </p:nvSpPr>
            <p:spPr>
              <a:xfrm rot="13737600">
                <a:off x="7373520" y="3216240"/>
                <a:ext cx="191160" cy="15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31"/>
              <p:cNvSpPr/>
              <p:nvPr/>
            </p:nvSpPr>
            <p:spPr>
              <a:xfrm rot="13737600">
                <a:off x="7429680" y="3206160"/>
                <a:ext cx="122760" cy="151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32"/>
              <p:cNvSpPr/>
              <p:nvPr/>
            </p:nvSpPr>
            <p:spPr>
              <a:xfrm rot="13737600">
                <a:off x="7469640" y="3321000"/>
                <a:ext cx="145080" cy="202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33"/>
              <p:cNvSpPr/>
              <p:nvPr/>
            </p:nvSpPr>
            <p:spPr>
              <a:xfrm rot="13737600">
                <a:off x="7072920" y="2715840"/>
                <a:ext cx="64944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34"/>
              <p:cNvSpPr/>
              <p:nvPr/>
            </p:nvSpPr>
            <p:spPr>
              <a:xfrm rot="13737600">
                <a:off x="7408440" y="3097440"/>
                <a:ext cx="119520" cy="15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5"/>
              <p:cNvSpPr/>
              <p:nvPr/>
            </p:nvSpPr>
            <p:spPr>
              <a:xfrm rot="13737600">
                <a:off x="7503120" y="3273120"/>
                <a:ext cx="23400" cy="3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6"/>
              <p:cNvSpPr/>
              <p:nvPr/>
            </p:nvSpPr>
            <p:spPr>
              <a:xfrm rot="13737600">
                <a:off x="7436520" y="3278520"/>
                <a:ext cx="244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7"/>
              <p:cNvSpPr/>
              <p:nvPr/>
            </p:nvSpPr>
            <p:spPr>
              <a:xfrm rot="13737600">
                <a:off x="7338240" y="3331080"/>
                <a:ext cx="13248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38"/>
              <p:cNvSpPr/>
              <p:nvPr/>
            </p:nvSpPr>
            <p:spPr>
              <a:xfrm rot="13737600">
                <a:off x="7150320" y="2266200"/>
                <a:ext cx="330480" cy="11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39"/>
              <p:cNvSpPr/>
              <p:nvPr/>
            </p:nvSpPr>
            <p:spPr>
              <a:xfrm rot="13737600">
                <a:off x="7171920" y="2705400"/>
                <a:ext cx="556200" cy="29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40"/>
              <p:cNvSpPr/>
              <p:nvPr/>
            </p:nvSpPr>
            <p:spPr>
              <a:xfrm rot="13737600">
                <a:off x="7205040" y="2367720"/>
                <a:ext cx="66240" cy="6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41"/>
              <p:cNvSpPr/>
              <p:nvPr/>
            </p:nvSpPr>
            <p:spPr>
              <a:xfrm rot="13737600">
                <a:off x="7200360" y="2348640"/>
                <a:ext cx="22968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79236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57120" y="85680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4930200" y="1143000"/>
            <a:ext cx="12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ёп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6000840" y="1143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4932000" y="228600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д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6073560" y="228600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1"/>
          <p:cNvSpPr/>
          <p:nvPr/>
        </p:nvSpPr>
        <p:spPr>
          <a:xfrm>
            <a:off x="4930920" y="328608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5716440" y="328608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я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3"/>
          <p:cNvSpPr/>
          <p:nvPr/>
        </p:nvSpPr>
        <p:spPr>
          <a:xfrm>
            <a:off x="3348720" y="4221000"/>
            <a:ext cx="215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ая, -я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4"/>
          <p:cNvSpPr/>
          <p:nvPr/>
        </p:nvSpPr>
        <p:spPr>
          <a:xfrm>
            <a:off x="583560" y="571680"/>
            <a:ext cx="208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ре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6763680" y="2060640"/>
            <a:ext cx="2143080" cy="1974960"/>
            <a:chOff x="6763680" y="2060640"/>
            <a:chExt cx="2143080" cy="1974960"/>
          </a:xfrm>
        </p:grpSpPr>
        <p:pic>
          <p:nvPicPr>
            <p:cNvPr id="446" name="Picture 18" descr="Копия (4) гном4"/>
            <p:cNvPicPr/>
            <p:nvPr/>
          </p:nvPicPr>
          <p:blipFill>
            <a:blip r:embed="rId2"/>
            <a:stretch/>
          </p:blipFill>
          <p:spPr>
            <a:xfrm flipH="1">
              <a:off x="7098480" y="2060640"/>
              <a:ext cx="1808280" cy="19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Rectangle 19"/>
            <p:cNvSpPr/>
            <p:nvPr/>
          </p:nvSpPr>
          <p:spPr>
            <a:xfrm rot="5400000">
              <a:off x="6792840" y="2730600"/>
              <a:ext cx="1386000" cy="154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Group 20"/>
            <p:cNvGrpSpPr/>
            <p:nvPr/>
          </p:nvGrpSpPr>
          <p:grpSpPr>
            <a:xfrm>
              <a:off x="6763680" y="2341800"/>
              <a:ext cx="1213920" cy="1247400"/>
              <a:chOff x="6763680" y="2341800"/>
              <a:chExt cx="1213920" cy="1247400"/>
            </a:xfrm>
          </p:grpSpPr>
          <p:sp>
            <p:nvSpPr>
              <p:cNvPr id="449" name="AutoShape 21"/>
              <p:cNvSpPr/>
              <p:nvPr/>
            </p:nvSpPr>
            <p:spPr>
              <a:xfrm rot="13737600">
                <a:off x="6849000" y="2614680"/>
                <a:ext cx="1043280" cy="70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2"/>
              <p:cNvSpPr/>
              <p:nvPr/>
            </p:nvSpPr>
            <p:spPr>
              <a:xfrm rot="13737600">
                <a:off x="6869160" y="2645640"/>
                <a:ext cx="1002600" cy="65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3"/>
              <p:cNvSpPr/>
              <p:nvPr/>
            </p:nvSpPr>
            <p:spPr>
              <a:xfrm rot="13737600">
                <a:off x="7059960" y="2765880"/>
                <a:ext cx="610560" cy="438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"/>
              <p:cNvSpPr/>
              <p:nvPr/>
            </p:nvSpPr>
            <p:spPr>
              <a:xfrm rot="13737600">
                <a:off x="7165440" y="2824200"/>
                <a:ext cx="581400" cy="37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5"/>
              <p:cNvSpPr/>
              <p:nvPr/>
            </p:nvSpPr>
            <p:spPr>
              <a:xfrm rot="13737600">
                <a:off x="6987960" y="2762640"/>
                <a:ext cx="596160" cy="39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6"/>
              <p:cNvSpPr/>
              <p:nvPr/>
            </p:nvSpPr>
            <p:spPr>
              <a:xfrm rot="13737600">
                <a:off x="7175160" y="2373840"/>
                <a:ext cx="180720" cy="22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27"/>
              <p:cNvSpPr/>
              <p:nvPr/>
            </p:nvSpPr>
            <p:spPr>
              <a:xfrm rot="13737600">
                <a:off x="7246440" y="2368080"/>
                <a:ext cx="98640" cy="774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8"/>
              <p:cNvSpPr/>
              <p:nvPr/>
            </p:nvSpPr>
            <p:spPr>
              <a:xfrm rot="13737600">
                <a:off x="7249680" y="2628000"/>
                <a:ext cx="17532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9"/>
              <p:cNvSpPr/>
              <p:nvPr/>
            </p:nvSpPr>
            <p:spPr>
              <a:xfrm rot="13737600">
                <a:off x="7340760" y="3212640"/>
                <a:ext cx="138240" cy="14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30"/>
              <p:cNvSpPr/>
              <p:nvPr/>
            </p:nvSpPr>
            <p:spPr>
              <a:xfrm rot="13737600">
                <a:off x="7343280" y="3290760"/>
                <a:ext cx="161640" cy="14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31"/>
              <p:cNvSpPr/>
              <p:nvPr/>
            </p:nvSpPr>
            <p:spPr>
              <a:xfrm rot="13737600">
                <a:off x="7392960" y="3279960"/>
                <a:ext cx="10368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32"/>
              <p:cNvSpPr/>
              <p:nvPr/>
            </p:nvSpPr>
            <p:spPr>
              <a:xfrm rot="13737600">
                <a:off x="7421040" y="3378960"/>
                <a:ext cx="122760" cy="19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33"/>
              <p:cNvSpPr/>
              <p:nvPr/>
            </p:nvSpPr>
            <p:spPr>
              <a:xfrm rot="13737600">
                <a:off x="7108200" y="2836800"/>
                <a:ext cx="549000" cy="36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34"/>
              <p:cNvSpPr/>
              <p:nvPr/>
            </p:nvSpPr>
            <p:spPr>
              <a:xfrm rot="13737600">
                <a:off x="7379280" y="3183120"/>
                <a:ext cx="101160" cy="153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35"/>
              <p:cNvSpPr/>
              <p:nvPr/>
            </p:nvSpPr>
            <p:spPr>
              <a:xfrm rot="13737600">
                <a:off x="7455240" y="3342600"/>
                <a:ext cx="19800" cy="3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36"/>
              <p:cNvSpPr/>
              <p:nvPr/>
            </p:nvSpPr>
            <p:spPr>
              <a:xfrm rot="13737600">
                <a:off x="7394400" y="3352680"/>
                <a:ext cx="20880" cy="22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37"/>
              <p:cNvSpPr/>
              <p:nvPr/>
            </p:nvSpPr>
            <p:spPr>
              <a:xfrm rot="13737600">
                <a:off x="7303680" y="3400920"/>
                <a:ext cx="11196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38"/>
              <p:cNvSpPr/>
              <p:nvPr/>
            </p:nvSpPr>
            <p:spPr>
              <a:xfrm rot="13737600">
                <a:off x="7203600" y="2446560"/>
                <a:ext cx="279360" cy="111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39"/>
              <p:cNvSpPr/>
              <p:nvPr/>
            </p:nvSpPr>
            <p:spPr>
              <a:xfrm rot="13737600">
                <a:off x="7198200" y="2826720"/>
                <a:ext cx="470520" cy="28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0"/>
              <p:cNvSpPr/>
              <p:nvPr/>
            </p:nvSpPr>
            <p:spPr>
              <a:xfrm rot="13737600">
                <a:off x="7238880" y="2544120"/>
                <a:ext cx="56160" cy="6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41"/>
              <p:cNvSpPr/>
              <p:nvPr/>
            </p:nvSpPr>
            <p:spPr>
              <a:xfrm rot="13737600">
                <a:off x="7241760" y="2521440"/>
                <a:ext cx="194400" cy="84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TextBox 39"/>
          <p:cNvSpPr/>
          <p:nvPr/>
        </p:nvSpPr>
        <p:spPr>
          <a:xfrm>
            <a:off x="2714760" y="1143000"/>
            <a:ext cx="242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как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как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как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93204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1042920" y="1197000"/>
            <a:ext cx="176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т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ат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5149440" y="1197000"/>
            <a:ext cx="12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ёп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6229440" y="11970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222520" y="227664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д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6359400" y="22860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5294520" y="3357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6157440" y="3357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3565800" y="4221000"/>
            <a:ext cx="213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ое, -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17"/>
          <p:cNvGrpSpPr/>
          <p:nvPr/>
        </p:nvGrpSpPr>
        <p:grpSpPr>
          <a:xfrm>
            <a:off x="7051320" y="1989000"/>
            <a:ext cx="1855440" cy="1903680"/>
            <a:chOff x="7051320" y="1989000"/>
            <a:chExt cx="1855440" cy="1903680"/>
          </a:xfrm>
        </p:grpSpPr>
        <p:pic>
          <p:nvPicPr>
            <p:cNvPr id="482" name="Picture 18" descr="Копия (4) гном4"/>
            <p:cNvPicPr/>
            <p:nvPr/>
          </p:nvPicPr>
          <p:blipFill>
            <a:blip r:embed="rId2"/>
            <a:stretch/>
          </p:blipFill>
          <p:spPr>
            <a:xfrm flipH="1">
              <a:off x="7374960" y="1989000"/>
              <a:ext cx="1531800" cy="190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Rectangle 19"/>
            <p:cNvSpPr/>
            <p:nvPr/>
          </p:nvSpPr>
          <p:spPr>
            <a:xfrm rot="5400000">
              <a:off x="7035120" y="2643840"/>
              <a:ext cx="1335960" cy="130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20"/>
            <p:cNvGrpSpPr/>
            <p:nvPr/>
          </p:nvGrpSpPr>
          <p:grpSpPr>
            <a:xfrm>
              <a:off x="7051320" y="2286720"/>
              <a:ext cx="1108800" cy="1148760"/>
              <a:chOff x="7051320" y="2286720"/>
              <a:chExt cx="1108800" cy="1148760"/>
            </a:xfrm>
          </p:grpSpPr>
          <p:sp>
            <p:nvSpPr>
              <p:cNvPr id="485" name="AutoShape 21"/>
              <p:cNvSpPr/>
              <p:nvPr/>
            </p:nvSpPr>
            <p:spPr>
              <a:xfrm rot="13737600">
                <a:off x="7102800" y="2563920"/>
                <a:ext cx="1005840" cy="5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"/>
              <p:cNvSpPr/>
              <p:nvPr/>
            </p:nvSpPr>
            <p:spPr>
              <a:xfrm rot="13737600">
                <a:off x="7122960" y="2590920"/>
                <a:ext cx="966600" cy="559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3"/>
              <p:cNvSpPr/>
              <p:nvPr/>
            </p:nvSpPr>
            <p:spPr>
              <a:xfrm rot="13737600">
                <a:off x="7307280" y="2692800"/>
                <a:ext cx="588960" cy="3711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4"/>
              <p:cNvSpPr/>
              <p:nvPr/>
            </p:nvSpPr>
            <p:spPr>
              <a:xfrm rot="13737600">
                <a:off x="7404840" y="2749680"/>
                <a:ext cx="560520" cy="31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5"/>
              <p:cNvSpPr/>
              <p:nvPr/>
            </p:nvSpPr>
            <p:spPr>
              <a:xfrm rot="13737600">
                <a:off x="7242120" y="2684160"/>
                <a:ext cx="574560" cy="33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6"/>
              <p:cNvSpPr/>
              <p:nvPr/>
            </p:nvSpPr>
            <p:spPr>
              <a:xfrm rot="13737600">
                <a:off x="7396560" y="2322000"/>
                <a:ext cx="174240" cy="19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7"/>
              <p:cNvSpPr/>
              <p:nvPr/>
            </p:nvSpPr>
            <p:spPr>
              <a:xfrm rot="13737600">
                <a:off x="7458480" y="2313360"/>
                <a:ext cx="95040" cy="655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8"/>
              <p:cNvSpPr/>
              <p:nvPr/>
            </p:nvSpPr>
            <p:spPr>
              <a:xfrm rot="13737600">
                <a:off x="7473600" y="2553480"/>
                <a:ext cx="168840" cy="5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9"/>
              <p:cNvSpPr/>
              <p:nvPr/>
            </p:nvSpPr>
            <p:spPr>
              <a:xfrm rot="13737600">
                <a:off x="7592760" y="3094200"/>
                <a:ext cx="13320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30"/>
              <p:cNvSpPr/>
              <p:nvPr/>
            </p:nvSpPr>
            <p:spPr>
              <a:xfrm rot="13737600">
                <a:off x="7598520" y="3166200"/>
                <a:ext cx="155880" cy="12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31"/>
              <p:cNvSpPr/>
              <p:nvPr/>
            </p:nvSpPr>
            <p:spPr>
              <a:xfrm rot="13737600">
                <a:off x="7644240" y="3157200"/>
                <a:ext cx="100080" cy="12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32"/>
              <p:cNvSpPr/>
              <p:nvPr/>
            </p:nvSpPr>
            <p:spPr>
              <a:xfrm rot="13737600">
                <a:off x="7676640" y="3251880"/>
                <a:ext cx="118440" cy="16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33"/>
              <p:cNvSpPr/>
              <p:nvPr/>
            </p:nvSpPr>
            <p:spPr>
              <a:xfrm rot="13737600">
                <a:off x="7354800" y="2756160"/>
                <a:ext cx="529560" cy="31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4"/>
              <p:cNvSpPr/>
              <p:nvPr/>
            </p:nvSpPr>
            <p:spPr>
              <a:xfrm rot="13737600">
                <a:off x="7627320" y="3068280"/>
                <a:ext cx="97560" cy="13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5"/>
              <p:cNvSpPr/>
              <p:nvPr/>
            </p:nvSpPr>
            <p:spPr>
              <a:xfrm rot="13737600">
                <a:off x="7704360" y="3212640"/>
                <a:ext cx="1908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6"/>
              <p:cNvSpPr/>
              <p:nvPr/>
            </p:nvSpPr>
            <p:spPr>
              <a:xfrm rot="13737600">
                <a:off x="7649640" y="3217680"/>
                <a:ext cx="20160" cy="1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7"/>
              <p:cNvSpPr/>
              <p:nvPr/>
            </p:nvSpPr>
            <p:spPr>
              <a:xfrm rot="13737600">
                <a:off x="7568640" y="3260880"/>
                <a:ext cx="108000" cy="53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8"/>
              <p:cNvSpPr/>
              <p:nvPr/>
            </p:nvSpPr>
            <p:spPr>
              <a:xfrm rot="13737600">
                <a:off x="7419240" y="2389320"/>
                <a:ext cx="26964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9"/>
              <p:cNvSpPr/>
              <p:nvPr/>
            </p:nvSpPr>
            <p:spPr>
              <a:xfrm rot="13737600">
                <a:off x="7435440" y="2747520"/>
                <a:ext cx="453600" cy="242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40"/>
              <p:cNvSpPr/>
              <p:nvPr/>
            </p:nvSpPr>
            <p:spPr>
              <a:xfrm rot="13737600">
                <a:off x="7463520" y="2472480"/>
                <a:ext cx="540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41"/>
              <p:cNvSpPr/>
              <p:nvPr/>
            </p:nvSpPr>
            <p:spPr>
              <a:xfrm rot="13737600">
                <a:off x="7460280" y="2456640"/>
                <a:ext cx="187200" cy="7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6" name="TextBox 39"/>
          <p:cNvSpPr/>
          <p:nvPr/>
        </p:nvSpPr>
        <p:spPr>
          <a:xfrm>
            <a:off x="3214800" y="121428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как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как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как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Заголовок 1" descr=""/>
          <p:cNvPicPr/>
          <p:nvPr/>
        </p:nvPicPr>
        <p:blipFill>
          <a:blip r:embed="rId1"/>
          <a:stretch/>
        </p:blipFill>
        <p:spPr>
          <a:xfrm>
            <a:off x="146160" y="281160"/>
            <a:ext cx="8632800" cy="119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8" name=""/>
          <p:cNvGraphicFramePr/>
          <p:nvPr/>
        </p:nvGraphicFramePr>
        <p:xfrm>
          <a:off x="250920" y="2000160"/>
          <a:ext cx="8713800" cy="373536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b5395"/>
                          </a:solidFill>
                          <a:latin typeface="Bookman Old Style"/>
                        </a:rPr>
                        <a:t>Мужской ро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b5395"/>
                          </a:solidFill>
                          <a:latin typeface="Bookman Old Style"/>
                        </a:rPr>
                        <a:t>Женский ро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b5395"/>
                          </a:solidFill>
                          <a:latin typeface="Bookman Old Style"/>
                        </a:rPr>
                        <a:t>Средний ро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21b2c9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кой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кая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кое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ый,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й, -ой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ая, -яя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ое, -ее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рямоугольник 13"/>
          <p:cNvSpPr/>
          <p:nvPr/>
        </p:nvSpPr>
        <p:spPr>
          <a:xfrm>
            <a:off x="428760" y="428760"/>
            <a:ext cx="5224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Морозн</a:t>
            </a:r>
            <a:r>
              <a:rPr b="1" lang="ru-RU" sz="4800" spc="-1" strike="noStrike">
                <a:solidFill>
                  <a:srgbClr val="cc2f04"/>
                </a:solidFill>
                <a:latin typeface="Calibri"/>
              </a:rPr>
              <a:t>…</a:t>
            </a: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 утро, высок</a:t>
            </a:r>
            <a:r>
              <a:rPr b="1" lang="ru-RU" sz="4800" spc="-1" strike="noStrike">
                <a:solidFill>
                  <a:srgbClr val="cc2f04"/>
                </a:solidFill>
                <a:latin typeface="Calibri"/>
              </a:rPr>
              <a:t>…</a:t>
            </a: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 дом, сильн</a:t>
            </a:r>
            <a:r>
              <a:rPr b="1" lang="ru-RU" sz="4800" spc="-1" strike="noStrike">
                <a:solidFill>
                  <a:srgbClr val="cc2f04"/>
                </a:solidFill>
                <a:latin typeface="Calibri"/>
              </a:rPr>
              <a:t>…</a:t>
            </a: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 буря, зимн</a:t>
            </a:r>
            <a:r>
              <a:rPr b="1" lang="ru-RU" sz="4800" spc="-1" strike="noStrike">
                <a:solidFill>
                  <a:srgbClr val="cc2f04"/>
                </a:solidFill>
                <a:latin typeface="Calibri"/>
              </a:rPr>
              <a:t>…</a:t>
            </a: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 стужа, ярк</a:t>
            </a:r>
            <a:r>
              <a:rPr b="1" lang="ru-RU" sz="4800" spc="-1" strike="noStrike">
                <a:solidFill>
                  <a:srgbClr val="cc2f04"/>
                </a:solidFill>
                <a:latin typeface="Calibri"/>
              </a:rPr>
              <a:t>…</a:t>
            </a: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 солнце, холодн</a:t>
            </a:r>
            <a:r>
              <a:rPr b="1" lang="ru-RU" sz="4800" spc="-1" strike="noStrike">
                <a:solidFill>
                  <a:srgbClr val="cc2f04"/>
                </a:solidFill>
                <a:latin typeface="Calibri"/>
              </a:rPr>
              <a:t>…</a:t>
            </a: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 вете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Object 6"/>
          <p:cNvGraphicFramePr/>
          <p:nvPr/>
        </p:nvGraphicFramePr>
        <p:xfrm>
          <a:off x="928800" y="5500800"/>
          <a:ext cx="369576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5500800"/>
                    <a:ext cx="36957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2" name="Picture 8" descr="гном6"/>
          <p:cNvPicPr/>
          <p:nvPr/>
        </p:nvPicPr>
        <p:blipFill>
          <a:blip r:embed="rId3"/>
          <a:stretch/>
        </p:blipFill>
        <p:spPr>
          <a:xfrm>
            <a:off x="4857840" y="1571760"/>
            <a:ext cx="41702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Прямоугольник 13"/>
          <p:cNvSpPr/>
          <p:nvPr/>
        </p:nvSpPr>
        <p:spPr>
          <a:xfrm>
            <a:off x="428760" y="428760"/>
            <a:ext cx="5224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Морозн</a:t>
            </a:r>
            <a:r>
              <a:rPr b="1" lang="ru-RU" sz="4800" spc="-1" strike="noStrike">
                <a:solidFill>
                  <a:srgbClr val="cc2f04"/>
                </a:solidFill>
                <a:latin typeface="Arial"/>
              </a:rPr>
              <a:t>ое</a:t>
            </a: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 утро, высок</a:t>
            </a:r>
            <a:r>
              <a:rPr b="1" lang="ru-RU" sz="4800" spc="-1" strike="noStrike">
                <a:solidFill>
                  <a:srgbClr val="cc2f04"/>
                </a:solidFill>
                <a:latin typeface="Arial"/>
              </a:rPr>
              <a:t>ий</a:t>
            </a: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 дом, сильн</a:t>
            </a:r>
            <a:r>
              <a:rPr b="1" lang="ru-RU" sz="4800" spc="-1" strike="noStrike">
                <a:solidFill>
                  <a:srgbClr val="cc2f04"/>
                </a:solidFill>
                <a:latin typeface="Arial"/>
              </a:rPr>
              <a:t>ая</a:t>
            </a: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 буря, зимн</a:t>
            </a:r>
            <a:r>
              <a:rPr b="1" lang="ru-RU" sz="4800" spc="-1" strike="noStrike">
                <a:solidFill>
                  <a:srgbClr val="cc2f04"/>
                </a:solidFill>
                <a:latin typeface="Arial"/>
              </a:rPr>
              <a:t>яя</a:t>
            </a: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 стужа, ярк</a:t>
            </a:r>
            <a:r>
              <a:rPr b="1" lang="ru-RU" sz="4800" spc="-1" strike="noStrike">
                <a:solidFill>
                  <a:srgbClr val="cc2f04"/>
                </a:solidFill>
                <a:latin typeface="Arial"/>
              </a:rPr>
              <a:t>ое</a:t>
            </a: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 солнце, холодн</a:t>
            </a:r>
            <a:r>
              <a:rPr b="1" lang="ru-RU" sz="4800" spc="-1" strike="noStrike">
                <a:solidFill>
                  <a:srgbClr val="cc2f04"/>
                </a:solidFill>
                <a:latin typeface="Arial"/>
              </a:rPr>
              <a:t>ый</a:t>
            </a: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 вете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Object 6"/>
          <p:cNvGraphicFramePr/>
          <p:nvPr/>
        </p:nvGraphicFramePr>
        <p:xfrm>
          <a:off x="928800" y="5500800"/>
          <a:ext cx="369576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5500800"/>
                    <a:ext cx="36957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6" name="Picture 8" descr="гном6"/>
          <p:cNvPicPr/>
          <p:nvPr/>
        </p:nvPicPr>
        <p:blipFill>
          <a:blip r:embed="rId3"/>
          <a:stretch/>
        </p:blipFill>
        <p:spPr>
          <a:xfrm>
            <a:off x="4857840" y="1571760"/>
            <a:ext cx="4170240" cy="321444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6"/>
          <p:cNvSpPr/>
          <p:nvPr/>
        </p:nvSpPr>
        <p:spPr>
          <a:xfrm>
            <a:off x="1477440" y="26028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2f04"/>
                </a:solidFill>
                <a:latin typeface="Arial"/>
              </a:rPr>
              <a:t>ср.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1404000" y="10526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2f04"/>
                </a:solidFill>
                <a:latin typeface="Arial"/>
              </a:rPr>
              <a:t>м.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1333080" y="184464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2f04"/>
                </a:solidFill>
                <a:latin typeface="Arial"/>
              </a:rPr>
              <a:t>ж.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1188720" y="256536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2f04"/>
                </a:solidFill>
                <a:latin typeface="Arial"/>
              </a:rPr>
              <a:t>ж.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0"/>
          <p:cNvSpPr/>
          <p:nvPr/>
        </p:nvSpPr>
        <p:spPr>
          <a:xfrm>
            <a:off x="972720" y="321300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2f04"/>
                </a:solidFill>
                <a:latin typeface="Arial"/>
              </a:rPr>
              <a:t>ср.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1188000" y="40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2f04"/>
                </a:solidFill>
                <a:latin typeface="Arial"/>
              </a:rPr>
              <a:t>м.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Заголовок 1" descr=""/>
          <p:cNvPicPr/>
          <p:nvPr/>
        </p:nvPicPr>
        <p:blipFill>
          <a:blip r:embed="rId1"/>
          <a:stretch/>
        </p:blipFill>
        <p:spPr>
          <a:xfrm>
            <a:off x="0" y="549360"/>
            <a:ext cx="7864560" cy="1901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gnom23"/>
          <p:cNvPicPr/>
          <p:nvPr/>
        </p:nvPicPr>
        <p:blipFill>
          <a:blip r:embed="rId2"/>
          <a:stretch/>
        </p:blipFill>
        <p:spPr>
          <a:xfrm>
            <a:off x="2843280" y="2997360"/>
            <a:ext cx="34560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7:30:53Z</dcterms:created>
  <dc:creator>Mars</dc:creator>
  <dc:description/>
  <dc:language>en-US</dc:language>
  <cp:lastModifiedBy>АЛИНА</cp:lastModifiedBy>
  <dcterms:modified xsi:type="dcterms:W3CDTF">2013-10-01T14:59:16Z</dcterms:modified>
  <cp:revision>16</cp:revision>
  <dc:subject/>
  <dc:title>Дайте определение имени прилагательному</dc:title>
</cp:coreProperties>
</file>