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5.wmf" ContentType="image/x-wmf"/>
  <Override PartName="/ppt/media/image14.png" ContentType="image/png"/>
  <Override PartName="/ppt/media/image5.png" ContentType="image/png"/>
  <Override PartName="/ppt/media/image10.png" ContentType="image/png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226-2ADD-4A90-A4C3-19FFFB84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15D-18CE-4C58-B2DD-9E85F512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FD6-6D9B-473C-B43F-435543F7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61F-D3DD-4D74-A63F-29F20561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646-4E88-48CD-90A7-F0B6D175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2A5-53DF-4383-8169-53CA11B0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C65-0209-4D49-9F4C-CB5C5976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203-A708-4CB8-A71B-9F29E6C5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9F7-A51B-4F85-B688-E7C0CB18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0C8-9BE2-4D39-B204-DA977678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A42-4731-40FA-8A99-9F616AC2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B39-47D2-4F16-805E-EEAF5BB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D53C-30F0-4FD3-AA49-55F92DC3F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сновная общеобразовательная школа №3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: Егидаров Степ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ющийся 3 «А»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БОУ «ООШ №31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: Кадникова М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гидарова Т.В. учитель биолог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09480" y="1219320"/>
            <a:ext cx="8077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ОНОСНАЯ  ПЧЕЛ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2438280" y="3962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152280" y="3541680"/>
            <a:ext cx="4648320" cy="306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91120" cy="3197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3"/>
          <a:stretch/>
        </p:blipFill>
        <p:spPr>
          <a:xfrm>
            <a:off x="4876920" y="352440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449568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Анк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равствуйте! Прошу принять участие в моём исследовании и ответить на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:______Класс: __________Пол: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наблюдали хоть раз за работой насекомых?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знаете  представителей отряда перепончатокры- лые? (перечислите) 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ли ли вы пчел и сможете отличить от других насекомых?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челы полезные насекомые? (объясните почему) 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значение пчел в природе?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значение пчел для человека?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асибо за участие в исслед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Результаты анке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0" y="1600200"/>
          <a:ext cx="461952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46195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2"/>
          <p:cNvSpPr/>
          <p:nvPr/>
        </p:nvSpPr>
        <p:spPr>
          <a:xfrm>
            <a:off x="228600" y="48769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аграмма №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центное соотношение ребят, наблюдавших за жизнью насеко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13"/>
          <p:cNvGraphicFramePr/>
          <p:nvPr/>
        </p:nvGraphicFramePr>
        <p:xfrm>
          <a:off x="4648320" y="1523880"/>
          <a:ext cx="4495680" cy="32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23880"/>
                    <a:ext cx="449568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5"/>
          <p:cNvSpPr/>
          <p:nvPr/>
        </p:nvSpPr>
        <p:spPr>
          <a:xfrm>
            <a:off x="5410080" y="480060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аграмма № 2. Процентное соотношение знаний представителей отряда 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езультаты анке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7"/>
          <p:cNvGraphicFramePr/>
          <p:nvPr/>
        </p:nvGraphicFramePr>
        <p:xfrm>
          <a:off x="0" y="1219320"/>
          <a:ext cx="41911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1911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9"/>
          <p:cNvSpPr/>
          <p:nvPr/>
        </p:nvSpPr>
        <p:spPr>
          <a:xfrm>
            <a:off x="152280" y="53341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аграмма №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челы полезные насеком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0"/>
          <p:cNvGraphicFramePr/>
          <p:nvPr/>
        </p:nvGraphicFramePr>
        <p:xfrm>
          <a:off x="3657600" y="1219320"/>
          <a:ext cx="586728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219320"/>
                    <a:ext cx="58672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12"/>
          <p:cNvSpPr/>
          <p:nvPr/>
        </p:nvSpPr>
        <p:spPr>
          <a:xfrm>
            <a:off x="4724280" y="541008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аграмма №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центное соотношение значения пчел для природы 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209680" y="17136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67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4572000" cy="3109680"/>
          </a:xfrm>
          <a:prstGeom prst="rect">
            <a:avLst/>
          </a:prstGeom>
          <a:ln w="0">
            <a:noFill/>
          </a:ln>
        </p:spPr>
      </p:pic>
      <p:sp>
        <p:nvSpPr>
          <p:cNvPr id="97" name="WordArt 8"/>
          <p:cNvSpPr txBox="1"/>
          <p:nvPr/>
        </p:nvSpPr>
        <p:spPr>
          <a:xfrm>
            <a:off x="533520" y="457200"/>
            <a:ext cx="83055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 ЗА  ВНИМАНИЕ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DSC00652"/>
          <p:cNvPicPr/>
          <p:nvPr/>
        </p:nvPicPr>
        <p:blipFill>
          <a:blip r:embed="rId1"/>
          <a:stretch/>
        </p:blipFill>
        <p:spPr>
          <a:xfrm>
            <a:off x="380880" y="263520"/>
            <a:ext cx="4114800" cy="308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SC00896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"/>
          <p:cNvPicPr/>
          <p:nvPr/>
        </p:nvPicPr>
        <p:blipFill>
          <a:blip r:embed="rId3"/>
          <a:srcRect l="0" t="0" r="22808" b="0"/>
          <a:stretch/>
        </p:blipFill>
        <p:spPr>
          <a:xfrm>
            <a:off x="304920" y="3403440"/>
            <a:ext cx="4190760" cy="325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"/>
          <p:cNvPicPr/>
          <p:nvPr/>
        </p:nvPicPr>
        <p:blipFill>
          <a:blip r:embed="rId4"/>
          <a:stretch/>
        </p:blipFill>
        <p:spPr>
          <a:xfrm>
            <a:off x="4800600" y="3444840"/>
            <a:ext cx="4114800" cy="323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робл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овы особенности строения; значения п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Цель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зучение особенностей  жизнедеятельности пчелиной семьи и  значения медоносных пчел для природы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Объект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яд Перепончатокрыл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редмет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ид Медоносная пч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Гипотеза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иносит ли пользу человеку и природе медоносная пч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иться с особенности строения и жизнедеятельности медоносной пчелы представителя  отряда Перепончатокрылые класса Насеком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устройство пчелиной  семьи и  особенности  жизнедеятельности пче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значение пчел для человека и природы и выявить  осведомленность  обучающихся 4-х классов МБОУ «ООШ №31» по данному вопро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литературными и электронными источниками, анкетирование, сбор, анализ и обобщение полученной информации, наблю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азнообразие класса Насеко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rcRect l="0" t="11538" r="0" b="0"/>
          <a:stretch/>
        </p:blipFill>
        <p:spPr>
          <a:xfrm>
            <a:off x="457200" y="846000"/>
            <a:ext cx="8229600" cy="6034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тряд Перепончатокры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rcRect l="0" t="7389" r="0" b="0"/>
          <a:stretch/>
        </p:blipFill>
        <p:spPr>
          <a:xfrm>
            <a:off x="0" y="925560"/>
            <a:ext cx="8991720" cy="593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емья термитов и ее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5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61000" cy="31244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8" descr=""/>
          <p:cNvPicPr/>
          <p:nvPr/>
        </p:nvPicPr>
        <p:blipFill>
          <a:blip r:embed="rId2"/>
          <a:stretch/>
        </p:blipFill>
        <p:spPr>
          <a:xfrm>
            <a:off x="5105520" y="880920"/>
            <a:ext cx="3886200" cy="3081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533520" y="4800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 1. Рабочие термиты ухаживают за цари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800600" y="61722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 2. Терми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ЧЕЛА  МЕДОНО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9" descr=""/>
          <p:cNvPicPr/>
          <p:nvPr/>
        </p:nvPicPr>
        <p:blipFill>
          <a:blip r:embed="rId1"/>
          <a:stretch/>
        </p:blipFill>
        <p:spPr>
          <a:xfrm>
            <a:off x="2743200" y="89064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-1080" y="214200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60" y="4590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остав пчелиной сем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625760" y="914400"/>
            <a:ext cx="751824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762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м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886200" y="6095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тру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6248520" y="6095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рабочая п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3-10-06T09:58:4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