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7E4-7F9F-46DC-9D6E-3A39B37D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388-B598-430B-B151-FB630EE2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671-6C1B-437A-898B-D1E4B9E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B6-FD9E-4095-9178-0BBFB70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686-1BF9-4A56-B2C0-FA3A9B02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326-3386-4791-B03B-188CE4C3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56F-DFE0-4ECB-B84A-62A8DF6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840-FD34-4368-9262-92EF4CE8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32F-C71B-47A4-9654-C630D58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293-E362-490D-8731-2EF01B6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F0F-7B7B-44D2-92CB-D652EB3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16E-DAA7-4D89-9557-20D0E13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9D8E-C640-490F-BE76-A56657A1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дготовка учащихся к олимпиадам через использование интерактивных форм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51055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бунова Еле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географии высшей квалификационной категории, мето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У ОШИ «Губернаторский многопрофильный лицей-интернат для одаренных детей Оренбурж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и олимпиа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пуляризация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иление интереса учащихся к предмету, повышение мотивации получения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ирование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ширение кругозор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витие творческих и интеллектуальны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для одаренных детей атмосферы соревн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паганда научн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витие сотрудничества с ВУ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истема подготовк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197000"/>
            <a:ext cx="3456000" cy="18003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тбор мотивиров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4076640"/>
            <a:ext cx="3456000" cy="18003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Работа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4038480"/>
            <a:ext cx="3456000" cy="19116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ружков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060640"/>
            <a:ext cx="733320" cy="2305080"/>
          </a:xfrm>
          <a:custGeom>
            <a:avLst/>
            <a:gdLst>
              <a:gd name="textAreaLeft" fmla="*/ 98280 w 733320"/>
              <a:gd name="textAreaRight" fmla="*/ 635040 w 7333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2133720"/>
            <a:ext cx="733320" cy="223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391320 h 2232000"/>
              <a:gd name="textAreaBottom" fmla="*/ 1617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79" stAng="-5400000" swAng="-5400000"/>
                <a:lnTo>
                  <a:pt x="0" y="11861"/>
                </a:lnTo>
                <a:arcTo wR="21600" hR="7579" stAng="10800000" swAng="-1041403"/>
                <a:lnTo>
                  <a:pt x="5471" y="19062"/>
                </a:lnTo>
                <a:lnTo>
                  <a:pt x="21600" y="17299"/>
                </a:lnTo>
                <a:lnTo>
                  <a:pt x="5471" y="10460"/>
                </a:lnTo>
                <a:lnTo>
                  <a:pt x="5471" y="12620"/>
                </a:lnTo>
                <a:arcTo wR="21600" hR="7579" stAng="9758597" swAng="687440"/>
                <a:lnTo>
                  <a:pt x="880" y="9720"/>
                </a:lnTo>
                <a:arcTo wR="21600" hR="7579" stAng="-10446037" swAng="5046037"/>
                <a:close/>
              </a:path>
              <a:path fill="darkenLess" w="21600" h="21600">
                <a:moveTo>
                  <a:pt x="21600" y="0"/>
                </a:moveTo>
                <a:arcTo wR="21600" hR="7579" stAng="-5400000" swAng="-5400000"/>
                <a:lnTo>
                  <a:pt x="0" y="7579"/>
                </a:lnTo>
                <a:arcTo wR="21600" hR="7579" stAng="10800000" swAng="-353963"/>
                <a:lnTo>
                  <a:pt x="880" y="9720"/>
                </a:lnTo>
                <a:arcTo wR="21600" hR="7579" stAng="-10446037" swAng="504603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ские методические пособия, с которыми учащиеся работают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ы олимпиадных задач, решаемые учащимися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4880" y="1600200"/>
            <a:ext cx="71928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19656600">
            <a:off x="131400" y="3195720"/>
            <a:ext cx="1587600" cy="237960"/>
          </a:xfrm>
          <a:prstGeom prst="rightArrow">
            <a:avLst>
              <a:gd name="adj1" fmla="val 50000"/>
              <a:gd name="adj2" fmla="val 166793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56600">
            <a:off x="-20520" y="4889520"/>
            <a:ext cx="1544400" cy="225360"/>
          </a:xfrm>
          <a:prstGeom prst="rightArrow">
            <a:avLst>
              <a:gd name="adj1" fmla="val 50000"/>
              <a:gd name="adj2" fmla="val 171326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9657200">
            <a:off x="20160" y="5433120"/>
            <a:ext cx="1513080" cy="254160"/>
          </a:xfrm>
          <a:prstGeom prst="rightArrow">
            <a:avLst>
              <a:gd name="adj1" fmla="val 50000"/>
              <a:gd name="adj2" fmla="val 148831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66760" y="914400"/>
            <a:ext cx="50022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 в группах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навязчивость и добровольность посещения внеурочных занятий и выполнения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ая мотивация обучения – балльная система оценивания заданий и выставление рейтинга по итогам каждого соревн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уманность и систематичность занятий – программа обязательн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ограмма кру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3842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312920"/>
            <a:ext cx="11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197000"/>
            <a:ext cx="2498760" cy="152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924280"/>
            <a:ext cx="2498760" cy="152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Знакомство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ар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653000"/>
            <a:ext cx="2498760" cy="152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асел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тдельны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 регионов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2041200" y="3367080"/>
            <a:ext cx="5112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Игры, сорев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844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3500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508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2852640"/>
            <a:ext cx="3240360" cy="16574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429000"/>
            <a:ext cx="288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ОЛИМПИА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342900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ды задач по направлению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онимание и нахождение причинно-следственных свя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оде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 выявление умения проводить анализ пробл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нание географической кар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аспознавание обра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опоставление (выбор) географических объек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Обычно легче изменить индивидов, собранных в группу, чем изменить любого из них в отдельности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урт Левин,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американский 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 на понимание и нахождение причинно-следственных связ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реди каучуконосов Бразилии самым распространенным является гевея, которая встречается в бассейне реки Амазонки. Начало развития каучуковой промышленности относится к 30-м годам 19 века. Однако гегемония Бразилии на каучук  окончилась раз и навсегда в 1911 году. Это и был закатом ее производства кауч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 на 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868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едположим, что Австралия была бы сдвинута на 10º к северу и 90º к востоку по сравнению со своим современным положением. Какие природные зоны располагались бы тогда на этом материке? Свой ответ проиллюстрируйте схематической картой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 на знание географической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зовите город и государство, столицей которого он является, если здесь в течение суток Солнце выше всего над горизонтом около 4 часов по Гринвичу и в течение года высота Солнца в полдень изменяется от 52º до 90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 на 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ин российский филателист переписывался с коллекционерами из разных стран. Он попросил каждого прислать ему марку с изображением растений, являющихся символом данной стр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 филателистами из каких стран он переписывался, если в его коллекции оказались марки с изображениями Тюльпана, Лилии, Сакуры, Лотоса, Кедра, Клена и Эвкалипт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 на выбор географически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30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Найди лишне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ждой цепочке четыре страны имеют какой-либо общий признак. Ваша задача– выбрать «лишнюю» стра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ема «Типология стран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) Австралия, Канада, Турция, Израиль, Ю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) Япония, ФРГ, Италия, Бельгия, С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) Норвегия, Великобритания, Швеция, Нидерланды, Авс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) Мексика, Бразилия, Монголия, Индия, 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) Венесуэла, Ливия, Саудовская Аравия, Катар, Ботсв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957400" cy="453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3640" y="1557360"/>
            <a:ext cx="2928960" cy="446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658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лектронные ресурсы для подготовки к олимпиа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etodist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лаборатория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olimp.mgo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российская олимпиада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su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ий факультет М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altinfor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мпиады Калинингра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p.minsk.edu.b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публиканская олимпиада по географии (Белорус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ы и итог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рмула развивающе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автор – В.А. Блаженов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МЫШЛЕНИЯ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АМЯТИ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ВНИМАНИЯ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ТИВАЦИЯ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ЛЛЕКТУАЛЬНАЯ ЛИ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 время работы в Губернаторском лицее (12 лет) выпущено две монографии, посвященных развитию познавательной активности у учащих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Большое научное открытие отличается от хорошей олимпиадной задачи только тем, что для решения олимпиадной задачи требуется 5 часов, а получение крупного научного результата требует затраты 5000 часов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Б.Н. Делон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член-корреспондент АН СССР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атематик и альпин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2011-12 учебного г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ок за 1 место по географии и туризму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ждународной олимпиаде в Анталии по основам на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уреат Всероссийского конкурса «Познание и творчество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призеров и победителей муниципального этапа Всероссийской олимпиады по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призера Регионального этапа Всероссийской олимпиады по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активное обуч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диалоговое бучение, в ходе которого осуществляется взаимодейст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аче говоря, обучение, погруженное в 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 интерактивного обуч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таких комфортных условий обучения, при которых обучаемый чувствует свою успешность, свою интеллектуальную состоятельность, что делает продуктивным и эффективным весь процесс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интерактивные методы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ый стол, дискуссия, деб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зговой штурм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е и деловые иг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ер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угие интер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е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в малых групп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ортфоли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активная экскурс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еоконференц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ический диалог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«Займи позицию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«Дерево решений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«Попс-формула»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ючевые компетенции, формирующиеся с помощью интерактивных методов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познават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уникатив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чностного совершенств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ностно-смысл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апы Всероссийской олимпи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ый (район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иональный (2 т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оретически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и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 зна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rk</cp:lastModifiedBy>
  <dcterms:modified xsi:type="dcterms:W3CDTF">2013-10-06T05:08:0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