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9245-57B5-4981-AAED-B9493234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536-BE76-4EEF-9514-F03DC5E7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4BD6-8934-4E64-9A43-A6D7FD43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77A6-D855-4DF3-97AD-0DE65D9B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1DE43-12FC-4EEC-83BD-305BA3EE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85F88-6C8F-4A6C-9623-BFD6C0B1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7479A-DCA7-4F17-A1B3-5CC8FB15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F8DAF-0791-41F8-BF6D-EEA47CA7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9ACC0-577B-40CE-988F-9C25A91A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C850A-F56E-484C-AC98-7CB790FB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A44EF-DECF-4CC7-BACB-94F24C40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1255-4BC6-4382-B044-C3FF8AD3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DD6F4-1019-44A1-BBE4-56544DA1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F7A1A-8A42-41A9-BE85-10119CE3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82002-369B-43D2-B358-34927AC1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CF50B-6C92-40E4-A480-A56E51FD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EBBCA-FA52-4533-9227-50D6A563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2A29-3E46-42BE-9E6B-9EFFFEE2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9762-1572-4FDA-8C1F-A961903F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B26-C6D7-4E1C-B0E8-E85B6DEB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544F-54DE-4118-9998-1F63C314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FF48-BEE9-4BDD-BC80-2D982CDA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5F7-ADDB-449D-8938-8124C77C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D1E4-D0B4-4287-9A30-459A25F8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464F-B290-4E0F-93C6-E0D9AEB0DD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3D66-6254-4649-AF8E-3CB0844190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Художник Ставрополья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Павел Моисеевич Гречишки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ндия.Город Варанаси. 198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епал 1984г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Окрестности Ставрополя. 2001г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413000"/>
            <a:ext cx="82296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Мэтр пейзажа П.ГРЕЧИШКИН подарил родному Ставрополю несколько сотен своих карти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00720" y="1628640"/>
            <a:ext cx="4186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600"/>
                </a:solidFill>
                <a:latin typeface="Tahoma"/>
              </a:rPr>
              <a:t>В   1987 году в Ставрополе на открытии персональной выставки пейзажей П. М. Гречишкин передал в дар городу 167 своих произведений живописи. Выставка стала отделом «Картинная галерея» Ставропольского государственного краеведческого музея им. Г. Н. Прозрителева и Г. К. Прав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4079880" cy="49690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есценный дар Ставропольца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291600"/>
            <a:ext cx="849780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600"/>
                </a:solidFill>
                <a:latin typeface="Tahoma"/>
              </a:rPr>
              <a:t>Экспозиция работ П. М. Гречишкина развернута в здании в стиле мечети, являющемся отделом краеведческого музея. Сегодня эта картинная галерея насчитывает около 500 живописных произведений художника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7200" y="2276640"/>
            <a:ext cx="82296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651280" y="260280"/>
            <a:ext cx="30351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дательство СНЕГ выпустило  - Альбом Ставропольского художника П.М. Гречишки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033800" cy="4249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556000" y="4076640"/>
            <a:ext cx="53895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7200" y="291960"/>
            <a:ext cx="8229600" cy="3857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422064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 музее работают постоянные экспозици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* Времена го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* Что за чудо, Индия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* Название: Величие гор Кавказ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* Седьмое чудо света - Египе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* Пейзажи Ставрополь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* Байкал - жемчужина Росс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* Лирический образ Родины в пейзажах П.М. Гречишки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Потревоженные музыкой пейзажи</a:t>
            </a: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ишину и умиротворение картинной галереи пейзажей П.М. Гречишкина нарушила классическая немецкая музыка. Год Германии в России в культурной жизни города был отмечен  концертом «Музыкальная палитра Германии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942320" cy="38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360" y="2084400"/>
            <a:ext cx="79912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Многие культурные мероприятия города проходят в галерее П.М.Гречишкина. Картинная галерея пейзажей П.М. Гречишкина уже давно сотрудничает с концертно-творческим объединением «Аккорд». Вокалисты отмечают, что именно в этом зале акустика позволяет выступать без микрофо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79280" y="2349360"/>
            <a:ext cx="8785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Павел Моисеевич Гречишкин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-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один из самых известных художников-пейзажистов Юга Росс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8713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В преддверии Дня защитника Отечества на Ставрополье в картинной галерее пейзажей заслуженного художника России Павла Гречишкина  по традиции состоялось чествование военнослужащих срочной служб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89647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" y="291960"/>
            <a:ext cx="2027160" cy="26323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3212640"/>
            <a:ext cx="8229600" cy="28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авропольский край  гордится прекрасным собранием произведений Павла Моисеевича Гречишкина,  замечательного мастера, участника Великой Отечественной войны рядового  31-го  отдельного автомобильного полка, ветерана войны и труда, удостоенного боевых наград: медалей «За оборону Кавказа», «За победу над Германией». В  мирное время П.М.Гречишкин  награжден орденами «Знак Почёта» и Октябрьской Революции. В 1980 году П. М. Гречишкину присвоено почётное звание «Заслуженный художник РСФСР», в 1998 году — звание «Почётный гражданин г. Ставрополя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мер П.М.Гречишкин 26 июня 2009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843280" y="404640"/>
            <a:ext cx="2305080" cy="2519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508720" y="260280"/>
            <a:ext cx="19699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Память о художнике П.М.Гречишкине в сердцах земля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82072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211280" y="404640"/>
            <a:ext cx="44751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600"/>
                </a:solidFill>
                <a:latin typeface="Tahoma"/>
              </a:rPr>
              <a:t>Завершить обзор творчества П. М. Гречишкина хочется словами заслуженного художника В. В. Сек-люцкого, обращёнными к Павлу Моисеевичу: "Ваша живопись поэтична и задушевна. Это песня, сложенная из запахов весны, снежных горных вершин, цветущих малиновым цветом альпийских лугов, манящих голубых далей, прощальных взглядов поздней осени и студёной зимы Ставрополья. Это Ваше счастливое открытие, и за это Вам русское спасибо"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60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"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Заслуженный художника РСФСР",  "Почётный гражданин г.Ставрополя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"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348000" y="1773000"/>
            <a:ext cx="5616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cc"/>
                </a:solidFill>
                <a:latin typeface="Tahoma"/>
              </a:rPr>
              <a:t>Павел Моисеевич Гречишкин родился 16 января 1922 г. в живописной местности селе Татарке, близ города Ставрополя. Он был самоучкой, и первую картину под названием «Бабушка» художник написал еще до войны - это был портрет его бабуш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cc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33cccc"/>
                </a:solidFill>
                <a:latin typeface="Tahoma"/>
              </a:rPr>
              <a:t>Известность пришла к нему в 50-х годах прошлого века, его произведения хранятся не только в России, но и за рубежом, главным образом в Индии и Египт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ccff"/>
                </a:solidFill>
                <a:latin typeface="Tahoma"/>
              </a:rPr>
              <a:t>Картины П.М.Гречишкина хранятся в музеях и частных коллекциях 40 стран мира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2879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560" y="5373720"/>
            <a:ext cx="84358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00c600"/>
                </a:solidFill>
                <a:latin typeface="Tahoma"/>
              </a:rPr>
              <a:t>На протяжении всей жизни П.М. Гречишкин сохранял верность пейзажной тематике. Его кисти принадлежат более двух тысяч пейзажей, написанных в самых разных уголках планеты. Он открыл зрителям красоту Кавказских гор, степей Ставрополья. Широко известны его пейзажи Урала, средней полосы России, Русского Севера и Байкал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есное озеро. Остров Валаам. 198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8478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000" y="4724280"/>
            <a:ext cx="849636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Кавказ. Клухорскоское ущелье. 199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600"/>
                </a:solidFill>
                <a:latin typeface="Tahoma"/>
              </a:rPr>
              <a:t>П.М.Гречишкин открыл зрителям красоту Кавказских гор, степей Ставрополья. Своеобразие живописи Гречишкина заключается не только в географии изображаемых мест, но и в местном колорите. У художника имеются пейзажи Урала, Средней полосы России, Русского Севера, Байкала, и в них он остаётся самим собой, непохожим ни на кого другого - творческой личностью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291960"/>
            <a:ext cx="850752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ижний Новгород. 198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ыс Хобой. 199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селок Катунь. 199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 Байкалу. 1998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2T17:19:44Z</dcterms:created>
  <dc:creator>Admin</dc:creator>
  <dc:description/>
  <dc:language>en-US</dc:language>
  <cp:lastModifiedBy>Admin</cp:lastModifiedBy>
  <dcterms:modified xsi:type="dcterms:W3CDTF">2013-10-06T10:13:41Z</dcterms:modified>
  <cp:revision>6</cp:revision>
  <dc:subject/>
  <dc:title>Павел Моисеевич Гречишкин  - один из самых известных художников-пейзажистов Юга России </dc:title>
</cp:coreProperties>
</file>