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6B3-A521-4EA7-8415-35C2C3AC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D72-9F64-4D78-BACD-E5FF1D0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40A-57BC-4594-8B09-D1B44102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9C9-7562-4283-9BEE-C4FB962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AA16-28E8-4AD6-87BC-72C8653A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E11-567D-480F-A37D-0E276A75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035-5543-4231-B92A-BE03CE2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87C-43C9-41B1-9A84-327C1D0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9F1A-1605-43AF-A5B4-D3E02BE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B06C-D78F-42A6-88AD-D49C9FF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ECE-5E66-49F4-8B7B-A69118E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3B7-B035-4E0D-98A6-1BA9CED0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EAB9-266A-41A4-926A-FA21E97E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923-12F5-487A-8D4D-CE48921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F073-A76E-4BA7-8C2D-4A3F34B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1E7-1E82-4D29-B9D1-A30203E5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F636-AAA0-459F-A27B-45BE8E44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A1F-B8BA-4284-AACB-EEF36BDD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D1-50A5-4079-A017-4F52A3A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358-9795-48C4-92E8-840EF24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7C2-E911-4D2E-9E71-2E6C386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F1A-F99F-4045-8577-B5852DD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1A4-338D-4181-B62F-3DFC7E6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16C-6D11-448C-B5BC-885F409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E78-F49C-4A58-A5C9-F2F6A26402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0EB-0B0B-4E12-A9AD-44636D9F71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нит и его тайн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2" descr="I:\Мои рисунки\1 класс\CIMG1270.JPG"/>
          <p:cNvPicPr/>
          <p:nvPr/>
        </p:nvPicPr>
        <p:blipFill>
          <a:blip r:embed="rId1"/>
          <a:stretch/>
        </p:blipFill>
        <p:spPr>
          <a:xfrm>
            <a:off x="1428840" y="114300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857760" y="5929200"/>
            <a:ext cx="48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  2 «А» класса Плотникова  Артё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Надточиева Гали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2960" y="142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мназия № 8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49291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магнитные свойства передаются через бумагу и пластик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3" name="Picture 3" descr="C:\Documents and Settings\Admin\Рабочий стол\презентация Магниты\Фотоотчет о магнитах 034.jpg"/>
          <p:cNvPicPr/>
          <p:nvPr/>
        </p:nvPicPr>
        <p:blipFill>
          <a:blip r:embed="rId1"/>
          <a:stretch/>
        </p:blipFill>
        <p:spPr>
          <a:xfrm>
            <a:off x="5286240" y="171468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№ 5. «Просто волшеб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500040" y="8571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хранит ли магнит свое свойство притягивать железосодержащие предметы через бумагу и пласт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№ 6. «Опять волшебство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7" name="Picture 2" descr="C:\Documents and Settings\Admin\Рабочий стол\презентация Магниты\Фотоотчет о магнитах 036.jpg"/>
          <p:cNvPicPr/>
          <p:nvPr/>
        </p:nvPicPr>
        <p:blipFill>
          <a:blip r:embed="rId1"/>
          <a:stretch/>
        </p:blipFill>
        <p:spPr>
          <a:xfrm>
            <a:off x="357120" y="1214280"/>
            <a:ext cx="3286080" cy="438156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1"/>
          <p:cNvSpPr/>
          <p:nvPr/>
        </p:nvSpPr>
        <p:spPr>
          <a:xfrm>
            <a:off x="3857760" y="1071720"/>
            <a:ext cx="5086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генде говорилось, что если потереть о магнит железное тело, то оно само начнет к себе притягивать другие железные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это проверим на опы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большую булавку и лёгкую иголк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ём булавку о большой магнит в одном направлении, и “подцепляем” булавкой игол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357120" y="5715000"/>
            <a:ext cx="8786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трением о магнит можно намагнитить         железное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№ 7. «Когда вместе, а когда врозь»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1" name="Picture 2" descr="C:\Documents and Settings\Admin\Рабочий стол\презентация Магниты\Фотоотчет о магнитах 044.jpg"/>
          <p:cNvPicPr/>
          <p:nvPr/>
        </p:nvPicPr>
        <p:blipFill>
          <a:blip r:embed="rId1"/>
          <a:stretch/>
        </p:blipFill>
        <p:spPr>
          <a:xfrm>
            <a:off x="571680" y="1285920"/>
            <a:ext cx="3519360" cy="435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Admin\Рабочий стол\презентация Магниты\Фотоотчет о магнитах 049.jpg"/>
          <p:cNvPicPr/>
          <p:nvPr/>
        </p:nvPicPr>
        <p:blipFill>
          <a:blip r:embed="rId2"/>
          <a:stretch/>
        </p:blipFill>
        <p:spPr>
          <a:xfrm>
            <a:off x="4786200" y="1285920"/>
            <a:ext cx="3643560" cy="437832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214200" y="5286240"/>
            <a:ext cx="8929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магниты могут притягиваться или отталкиваться в зависимости от того, какой стороной подносить их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76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3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Как поведут себя два магнита, если их поднести друг к д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я ряд опытов, я выявил удивительные свойства магнит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 притягивает к себе только железосодержащие предм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притяжение зависит от массы предмета. Разные магниты имеют разную силу, эта сила зависит от размера магни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 сохраняет свои свойства в воде, через бумагу и пласти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 трением способен намагничивать железные предм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 имеет магнитное пол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гнита могут притягиваться и отталкиватьс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того, как их подносит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к друг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Picture 3" descr="D:\WINDOWS\Users\Aida\Рабочий стол\МОИ проекты на разработке\электромагниты\s51442.jpg"/>
          <p:cNvPicPr/>
          <p:nvPr/>
        </p:nvPicPr>
        <p:blipFill>
          <a:blip r:embed="rId1"/>
          <a:stretch/>
        </p:blipFill>
        <p:spPr>
          <a:xfrm>
            <a:off x="7143840" y="4643280"/>
            <a:ext cx="185724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моего исследования я узнал много интересного о магните и о его свойствах. Магнит и человек тесно взаимосвязаны, поэтому его нужно изучать  и применять свои знания на практик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учая эту тему,  я узнал, чт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объект, сделанный из определенного материала, который создает магнитное пол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ая сила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с которой предметы притягиваются к магни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ы обладают способностью притягивать предметы из различных метал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магнита влияет на его сил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ая сила может проходить через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и веще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ы притягивают даже на расстоян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используют свойства магни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их цел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715080" y="4143240"/>
            <a:ext cx="20480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857160"/>
            <a:ext cx="366228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Цель работы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2920" y="1642680"/>
            <a:ext cx="42865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и</a:t>
            </a: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зучить  свойства магнита и возможности использования его в быту</a:t>
            </a:r>
            <a:r>
              <a:rPr b="0" lang="ru-RU" sz="2600" spc="-1" strike="noStrike">
                <a:solidFill>
                  <a:srgbClr val="003300"/>
                </a:solidFill>
                <a:latin typeface="Constantia"/>
              </a:rPr>
              <a:t>.</a:t>
            </a:r>
            <a:r>
              <a:rPr b="0" lang="ru-RU" sz="2400" spc="-1" strike="noStrike">
                <a:solidFill>
                  <a:srgbClr val="00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1000080" y="421272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выяснить, что такое магнит и магнитная си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узнать, какими свойствами обладают магни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выявить, каким образом люди использ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магниты в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3"/>
          <p:cNvSpPr/>
          <p:nvPr/>
        </p:nvSpPr>
        <p:spPr>
          <a:xfrm>
            <a:off x="3714840" y="3571920"/>
            <a:ext cx="493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:\DCIM\100CASIO\CIMG2101.JPG"/>
          <p:cNvPicPr/>
          <p:nvPr/>
        </p:nvPicPr>
        <p:blipFill>
          <a:blip r:embed="rId1"/>
          <a:stretch/>
        </p:blipFill>
        <p:spPr>
          <a:xfrm>
            <a:off x="285840" y="928800"/>
            <a:ext cx="43495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7862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атериал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785520"/>
            <a:ext cx="90010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ля исследования данной темы мне понадобились материал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ы разного размера, металлические и не металлические предметы, стакан с водой, прозрачный пластмассовый лоток с разными телами (скрепка, мелок, булавка, кнопка, пуговицы железная, алюминиевая и пластмассовая, иголка, бумажка), магнит на деревянной палочке, линей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072040" y="398196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изучение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п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оиск в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эксперимент, 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214960" y="3286080"/>
            <a:ext cx="3643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Documents and Settings\Admin\Рабочий стол\презентация Магниты\Фотоотчет о магнитах 004.jpg"/>
          <p:cNvPicPr/>
          <p:nvPr/>
        </p:nvPicPr>
        <p:blipFill>
          <a:blip r:embed="rId1"/>
          <a:stretch/>
        </p:blipFill>
        <p:spPr>
          <a:xfrm>
            <a:off x="214200" y="3071880"/>
            <a:ext cx="4635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3880" y="499680"/>
            <a:ext cx="72867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ыт 1. «Что притягивает магнит?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928800" y="0"/>
            <a:ext cx="739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войства магн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28840" y="3929040"/>
          <a:ext cx="6095880" cy="2214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 притягив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тягив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ре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етлая металлическая пуг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л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стмассовая пуг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но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ма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мная металлическая кно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и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о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1" descr="H:\DCIM\100CASIO\CIMG2074.JPG"/>
          <p:cNvPicPr/>
          <p:nvPr/>
        </p:nvPicPr>
        <p:blipFill>
          <a:blip r:embed="rId1"/>
          <a:stretch/>
        </p:blipFill>
        <p:spPr>
          <a:xfrm>
            <a:off x="2627280" y="981000"/>
            <a:ext cx="3992760" cy="2928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42920" y="62161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бщего у предметов, которые притягиваются к магни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5720" y="142560"/>
            <a:ext cx="73911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д эксперимен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214560" y="5429160"/>
            <a:ext cx="9644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ывод: магниты обладают способностью притягивать предметы из железа и некоторых других металлов.      Дерево, пластмасса, бумага, мел не реагируют на магни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3" descr="C:\Documents and Settings\Admin\Рабочий стол\презентация Магниты\Фотоотчет о магнитах 020.jpg"/>
          <p:cNvPicPr/>
          <p:nvPr/>
        </p:nvPicPr>
        <p:blipFill>
          <a:blip r:embed="rId1"/>
          <a:stretch/>
        </p:blipFill>
        <p:spPr>
          <a:xfrm>
            <a:off x="5500800" y="27860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Admin\Рабочий стол\презентация Магниты\Фотоотчет о магнитах 018.jpg"/>
          <p:cNvPicPr/>
          <p:nvPr/>
        </p:nvPicPr>
        <p:blipFill>
          <a:blip r:embed="rId2"/>
          <a:stretch/>
        </p:blipFill>
        <p:spPr>
          <a:xfrm>
            <a:off x="142920" y="2571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Admin\Рабочий стол\презентация Магниты\Фотоотчет о магнитах 016.jpg"/>
          <p:cNvPicPr/>
          <p:nvPr/>
        </p:nvPicPr>
        <p:blipFill>
          <a:blip r:embed="rId3"/>
          <a:stretch/>
        </p:blipFill>
        <p:spPr>
          <a:xfrm>
            <a:off x="3143160" y="71424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9001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2. «От чего зависит сила притяжения?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Admin\Рабочий стол\презентация Магниты\Фотоотчет о магнитах 021.jpg"/>
          <p:cNvPicPr/>
          <p:nvPr/>
        </p:nvPicPr>
        <p:blipFill>
          <a:blip r:embed="rId1"/>
          <a:stretch/>
        </p:blipFill>
        <p:spPr>
          <a:xfrm>
            <a:off x="3286080" y="714240"/>
            <a:ext cx="5472000" cy="410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Admin\Рабочий стол\презентация Магниты\Фотоотчет о магнитах 024.jpg"/>
          <p:cNvPicPr/>
          <p:nvPr/>
        </p:nvPicPr>
        <p:blipFill>
          <a:blip r:embed="rId2"/>
          <a:stretch/>
        </p:blipFill>
        <p:spPr>
          <a:xfrm>
            <a:off x="500040" y="491184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Admin\Рабочий стол\презентация Магниты\Фотоотчет о магнитах 025.jpg"/>
          <p:cNvPicPr/>
          <p:nvPr/>
        </p:nvPicPr>
        <p:blipFill>
          <a:blip r:embed="rId3"/>
          <a:stretch/>
        </p:blipFill>
        <p:spPr>
          <a:xfrm>
            <a:off x="3429000" y="4929120"/>
            <a:ext cx="2349360" cy="176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Admin\Рабочий стол\презентация Магниты\Фотоотчет о магнитах 023.jpg"/>
          <p:cNvPicPr/>
          <p:nvPr/>
        </p:nvPicPr>
        <p:blipFill>
          <a:blip r:embed="rId4"/>
          <a:stretch/>
        </p:blipFill>
        <p:spPr>
          <a:xfrm>
            <a:off x="6357960" y="492912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214200" y="10000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Интересен вопрос, все ли тела, которые притягивались магнитом, одинаково притягивались или по-разному. И от чего зависит притя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опы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54288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притяжение зависит от массы тела. Чем легче предмет, тем раньше он притягивается на большем расстоя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2" descr="H:\DCIM\100CASIO\CIMG2067.JPG"/>
          <p:cNvPicPr/>
          <p:nvPr/>
        </p:nvPicPr>
        <p:blipFill>
          <a:blip r:embed="rId1"/>
          <a:stretch/>
        </p:blipFill>
        <p:spPr>
          <a:xfrm>
            <a:off x="857160" y="785880"/>
            <a:ext cx="73850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3. «Сравнение сил магнитов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2" name="Picture 2" descr="C:\Documents and Settings\Admin\Рабочий стол\презентация Магниты\Фотоотчет о магнитах 041.jpg"/>
          <p:cNvPicPr/>
          <p:nvPr/>
        </p:nvPicPr>
        <p:blipFill>
          <a:blip r:embed="rId1"/>
          <a:stretch/>
        </p:blipFill>
        <p:spPr>
          <a:xfrm>
            <a:off x="3500280" y="1571760"/>
            <a:ext cx="2757600" cy="3000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Admin\Рабочий стол\презентация Магниты\Фотоотчет о магнитах 042.jpg"/>
          <p:cNvPicPr/>
          <p:nvPr/>
        </p:nvPicPr>
        <p:blipFill>
          <a:blip r:embed="rId2"/>
          <a:stretch/>
        </p:blipFill>
        <p:spPr>
          <a:xfrm>
            <a:off x="6429240" y="1571760"/>
            <a:ext cx="2571840" cy="302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Admin\Рабочий стол\презентация Магниты\Фотоотчет о магнитах 037.jpg"/>
          <p:cNvPicPr/>
          <p:nvPr/>
        </p:nvPicPr>
        <p:blipFill>
          <a:blip r:embed="rId3"/>
          <a:stretch/>
        </p:blipFill>
        <p:spPr>
          <a:xfrm>
            <a:off x="142920" y="1571760"/>
            <a:ext cx="3171960" cy="300024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214200" y="4500720"/>
            <a:ext cx="878688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магниты притягивают даже на расстоянии. Разные магниты имеют разную силу, эта сила зависит от размера магнита. Чем больше магнит, тем больше сила притяжения и тем больше расстояние, на котором магнит оказывает свое воз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642960" y="7858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Зависит ли сила притяжения от размера магн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500"/>
            </a:b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№ 4. «Подводный магнетизм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2" descr="C:\Documents and Settings\Admin\Рабочий стол\презентация Магниты\Фотоотчет о магнитах 026.jpg"/>
          <p:cNvPicPr/>
          <p:nvPr/>
        </p:nvPicPr>
        <p:blipFill>
          <a:blip r:embed="rId1"/>
          <a:stretch/>
        </p:blipFill>
        <p:spPr>
          <a:xfrm>
            <a:off x="571680" y="1500120"/>
            <a:ext cx="3292200" cy="438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Admin\Рабочий стол\презентация Магниты\Фотоотчет о магнитах 030.jpg"/>
          <p:cNvPicPr/>
          <p:nvPr/>
        </p:nvPicPr>
        <p:blipFill>
          <a:blip r:embed="rId2"/>
          <a:stretch/>
        </p:blipFill>
        <p:spPr>
          <a:xfrm>
            <a:off x="4357800" y="1571760"/>
            <a:ext cx="4116240" cy="435744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571680" y="6000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магнитные свойства сохраняются и в воде.  Воздух и вода – те среды, в которых магнит действу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577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Сохранит ли магнит свое свойство притягивать железосодержащие предметы, если их поместить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0:22Z</dcterms:created>
  <dc:creator>Плотникоff</dc:creator>
  <dc:description/>
  <dc:language>en-US</dc:language>
  <cp:lastModifiedBy>hp</cp:lastModifiedBy>
  <dcterms:modified xsi:type="dcterms:W3CDTF">2013-10-06T05:54:46Z</dcterms:modified>
  <cp:revision>12</cp:revision>
  <dc:subject>Магнит и его тайны</dc:subject>
  <dc:title>МАОУ "Гимназия №87" Плотников Артем 2А</dc:title>
</cp:coreProperties>
</file>