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547C-6421-405D-8EE7-39F720F3D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4191840"/>
            <a:ext cx="7769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0ED3-0E97-42D7-8E08-72166FE73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419184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6680" y="419184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FBE6-21FA-4CF3-BB9A-B02E37882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419184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2000" y="419184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8920" y="419184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B2E1-577A-4F92-8757-8B6530B1E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104F7-9B12-4B5C-9DA9-57517C3E3A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AA48C-45CF-4BF9-9945-6D8B4D4020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05F93-E125-453D-9DD4-3929281CF2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03C2E-7284-486D-844F-3F9E0331D7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8227D-1897-4099-A6D7-59B8B491ED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465120"/>
            <a:ext cx="77691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DEAAA-E3DA-4E81-AF38-5B0BDA2E87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419184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6D369-D8F8-4959-AF71-D8DF4E58B0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D06C-3273-4968-8B48-59C6805C1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6680" y="419184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6F116-69AF-4C82-BFD1-6204CBE657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91840"/>
            <a:ext cx="7769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9802B-F58F-43D0-9FF9-0324EB4D6B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440" y="4191840"/>
            <a:ext cx="7769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0172F-5B85-47E0-9C87-171AE36AC4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440" y="419184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6680" y="419184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1A972-3BD8-4B19-A7F8-970E1D2A1B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440" y="419184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2000" y="419184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38920" y="419184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CF6EA-18C2-4B24-96BF-CCF6E5B994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6FD4-8E1F-45DC-B998-58B637EB8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2137-2A95-4F52-86E1-492A8EE3D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4DFCC-B7A9-4D2D-8BE8-D040275B0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465120"/>
            <a:ext cx="77691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A5BD2-6648-446D-93A0-DDA64CB55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419184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1BC7-2E6A-4174-B83D-B631D2E02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6680" y="419184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ECE4-61EC-4F95-AC9E-409D3A2A9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191840"/>
            <a:ext cx="7769160" cy="20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C860-CF13-440C-A245-E475270DE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100000">
                <a:srgbClr val="0066cc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101f"/>
              </a:gs>
              <a:gs pos="100000">
                <a:srgbClr val="0066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141960"/>
            <a:ext cx="190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7" name=""/>
          <p:cNvSpPr/>
          <p:nvPr/>
        </p:nvSpPr>
        <p:spPr>
          <a:xfrm>
            <a:off x="3124080" y="6141960"/>
            <a:ext cx="289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2720" y="6141960"/>
            <a:ext cx="1901880" cy="5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208FC-E17F-4267-8903-DE88C51F479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101f"/>
              </a:gs>
              <a:gs pos="100000">
                <a:srgbClr val="0066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6552720" y="61718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56734B3-F445-4398-AE53-2F93C70563F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3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cc3300"/>
                </a:solidFill>
                <a:latin typeface="Times New Roman"/>
              </a:rPr>
              <a:t>Введение </a:t>
            </a:r>
            <a:br>
              <a:rPr sz="8000"/>
            </a:br>
            <a:r>
              <a:rPr b="1" lang="ru-RU" sz="8000" spc="-1" strike="noStrike">
                <a:solidFill>
                  <a:srgbClr val="cc3300"/>
                </a:solidFill>
                <a:latin typeface="Times New Roman"/>
              </a:rPr>
              <a:t>ФГОС НОО.</a:t>
            </a:r>
            <a:endParaRPr b="0" lang="en-US" sz="8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1125360"/>
            <a:ext cx="3935520" cy="51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С каждым точным выбором, верным решением, победой  лидер становится сильнее, а мир вокруг него лучше. Важно совершать эти выборы, принимать решения, видеть и достигать свои цели – а этому можно и нужно учиться.</a:t>
            </a: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  <a:p>
            <a:pPr marL="3430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391000" y="1268280"/>
            <a:ext cx="3214800" cy="4824720"/>
            <a:chOff x="5391000" y="1268280"/>
            <a:chExt cx="3214800" cy="4824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5391000" y="1268280"/>
              <a:ext cx="3214800" cy="48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391000" y="1268280"/>
              <a:ext cx="3214800" cy="48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cbcbcb"/>
                </a:solidFill>
                <a:latin typeface="Georgi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Требования к современному уроку в условиях введения ФГОС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рошо организованный урок  в хорошо оборудованном кабинете должен иметь хорошее начало и хорошее окончание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ель должен спланировать свою деятельность и деятельность учащихся, четко сформулировать тему, цель, задачи урока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ок должен быть проблемным и развивающим: учитель сам нацеливается на сотрудничество с учениками и умеет направлять учеников на сотрудничество с учителем и одноклассниками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7915320" cy="659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итель организует проблемные и поисковые ситуации, активизирует деятельность учащихся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вод делают сами учащиеся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нимум репродукции и максимум творчества и сотворчества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центре внимания урока - дети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т уровня и возможностей учащихся, в котором учтены  такие аспекты, как профиль класса, стремление учащихся, настроение детей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ение демонстрировать методическое искусство учителя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ирование обратной связи;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рок должен быть добрым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РЕЛАКСАЦ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0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75280" cy="41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Будьте первыми!</a:t>
            </a:r>
            <a:endParaRPr b="0" lang="en-US" sz="4400" spc="-1" strike="noStrike">
              <a:solidFill>
                <a:srgbClr val="cbcbcb"/>
              </a:solidFill>
              <a:latin typeface="Georgi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067280" y="2732040"/>
            <a:ext cx="4317840" cy="2874960"/>
            <a:chOff x="4067280" y="2732040"/>
            <a:chExt cx="4317840" cy="287496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4067280" y="2732040"/>
              <a:ext cx="4317840" cy="28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067280" y="2732040"/>
              <a:ext cx="4317840" cy="28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cbcbcb"/>
                </a:solidFill>
                <a:latin typeface="Georgia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116000" y="1711440"/>
            <a:ext cx="2446200" cy="49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Если вы есть – будьте первыми!</a:t>
            </a: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Первыми, кем бы вы ни были.</a:t>
            </a: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Из песен – лучшими песнями,</a:t>
            </a: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Из книг – лучшими книгами.</a:t>
            </a:r>
            <a:br>
              <a:rPr sz="1100"/>
            </a:b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Первыми будьте, и только!</a:t>
            </a: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Пенными, как моря.</a:t>
            </a: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Лучше второго художника – </a:t>
            </a: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Первый маляр.</a:t>
            </a:r>
            <a:br>
              <a:rPr sz="1100"/>
            </a:b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Спросят вас оробело:</a:t>
            </a: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- Что же тогда окажется:</a:t>
            </a: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Если все будут первыми,</a:t>
            </a: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Кто пойдет замыкающим?</a:t>
            </a:r>
            <a:br>
              <a:rPr sz="1100"/>
            </a:b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А вы трусливых не слушайте,</a:t>
            </a: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А вы их сдуйте, как пену.</a:t>
            </a: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Если вы есть – будьте лучшими!</a:t>
            </a: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Если вы есть – будьте первыми!</a:t>
            </a:r>
            <a:br>
              <a:rPr sz="1100"/>
            </a:b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Если вы есть – попробуйте</a:t>
            </a: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Горечь зеленых побегов.</a:t>
            </a: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Примериваясь, попробуйте</a:t>
            </a: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Великую ношу первых!</a:t>
            </a:r>
            <a:br>
              <a:rPr sz="1100"/>
            </a:b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Как самое неизбежное, </a:t>
            </a: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Взвалите ее на плечи.</a:t>
            </a: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Если вы есть – будьте первыми!</a:t>
            </a:r>
            <a:br>
              <a:rPr sz="1100"/>
            </a:br>
            <a:r>
              <a:rPr b="0" i="1" lang="ru-RU" sz="1100" spc="-1" strike="noStrike">
                <a:solidFill>
                  <a:srgbClr val="cbcbcb"/>
                </a:solidFill>
                <a:latin typeface="Tahoma"/>
              </a:rPr>
              <a:t>Первым трудней и легче.</a:t>
            </a:r>
            <a:r>
              <a:rPr b="0" lang="ru-RU" sz="1100" spc="-1" strike="noStrike">
                <a:solidFill>
                  <a:srgbClr val="cbcbcb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cbcbcb"/>
              </a:solidFill>
              <a:latin typeface="Georg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Times New Roman"/>
              </a:rPr>
              <a:t>Качества лидера</a:t>
            </a:r>
            <a:endParaRPr b="0" lang="en-US" sz="44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2060640"/>
            <a:ext cx="3456000" cy="431640"/>
          </a:xfrm>
          <a:prstGeom prst="flowChartAlternateProcess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коммуникабельность</a:t>
            </a: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637000"/>
            <a:ext cx="2665440" cy="431640"/>
          </a:xfrm>
          <a:prstGeom prst="flowChartAlternateProcess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ответственность</a:t>
            </a: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106" name=""/>
          <p:cNvSpPr/>
          <p:nvPr/>
        </p:nvSpPr>
        <p:spPr>
          <a:xfrm>
            <a:off x="1258920" y="5516640"/>
            <a:ext cx="936720" cy="431640"/>
          </a:xfrm>
          <a:prstGeom prst="flowChartAlternateProcess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и др.</a:t>
            </a: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3213000"/>
            <a:ext cx="4032360" cy="432000"/>
          </a:xfrm>
          <a:prstGeom prst="flowChartAlternateProcess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творческий подход к делу</a:t>
            </a: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3789360"/>
            <a:ext cx="5400720" cy="431640"/>
          </a:xfrm>
          <a:prstGeom prst="flowChartAlternateProcess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умение отвечать за свои поступки</a:t>
            </a: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4365720"/>
            <a:ext cx="4321080" cy="431640"/>
          </a:xfrm>
          <a:prstGeom prst="flowChartAlternateProcess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умение работать в команде</a:t>
            </a: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4941720"/>
            <a:ext cx="2952720" cy="432000"/>
          </a:xfrm>
          <a:prstGeom prst="flowChartAlternateProcess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организованность</a:t>
            </a: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419640" y="4005360"/>
            <a:ext cx="3668400" cy="2514600"/>
            <a:chOff x="3419640" y="4005360"/>
            <a:chExt cx="3668400" cy="251460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3419640" y="4005360"/>
              <a:ext cx="366840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19640" y="4005360"/>
              <a:ext cx="36684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cbcbcb"/>
                </a:solidFill>
                <a:latin typeface="Georgia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476360" y="677880"/>
            <a:ext cx="62866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Харизма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2197080"/>
            <a:ext cx="705672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cbcbcb"/>
                </a:solidFill>
                <a:latin typeface="Times New Roman"/>
              </a:rPr>
              <a:t>Специфическая черта лидера – </a:t>
            </a:r>
            <a:r>
              <a:rPr b="0" i="1" lang="ru-RU" sz="2800" spc="-1" strike="noStrike">
                <a:solidFill>
                  <a:srgbClr val="ff6600"/>
                </a:solidFill>
                <a:latin typeface="Times New Roman"/>
              </a:rPr>
              <a:t>харизма</a:t>
            </a:r>
            <a:r>
              <a:rPr b="0" i="1" lang="ru-RU" sz="2800" spc="-1" strike="noStrike">
                <a:solidFill>
                  <a:srgbClr val="cbcbcb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Это исключительная одарённость человека, которая производит особое впечатление на окружающих его людей.</a:t>
            </a: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549360"/>
            <a:ext cx="8342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Лидерство как жизненный проект</a:t>
            </a:r>
            <a:endParaRPr b="0" lang="en-US" sz="44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997360"/>
            <a:ext cx="51134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Сегодня самые современные исследования в области психологии говорят о том, что все люди, все без исключения являются потенциальными лидерами в своей жизни. Каждый из нас имеет способности, таланты, силы, чтобы быть 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первым и лучшим в своей области.</a:t>
            </a:r>
            <a:endParaRPr b="0" lang="en-US" sz="24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1981080"/>
            <a:ext cx="77738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Лидерство это не только умение вести за собой других, но и 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умение управлять собственной жизнью.</a:t>
            </a:r>
            <a:endParaRPr b="0" lang="en-US" sz="2400" spc="-1" strike="noStrike">
              <a:solidFill>
                <a:srgbClr val="cbcbcb"/>
              </a:solidFill>
              <a:latin typeface="Georgi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580000" y="3429000"/>
            <a:ext cx="3309840" cy="2349360"/>
            <a:chOff x="5580000" y="3429000"/>
            <a:chExt cx="3309840" cy="234936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5580000" y="3429000"/>
              <a:ext cx="330984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580000" y="3429000"/>
              <a:ext cx="3309840" cy="23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cbcbcb"/>
                </a:solidFill>
                <a:latin typeface="Georgi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7:42:48Z</dcterms:created>
  <dc:creator>Psy.5igorsk.ru - первый психологический портал г.Пятигорска</dc:creator>
  <dc:description/>
  <dc:language>en-US</dc:language>
  <cp:lastModifiedBy>Olga</cp:lastModifiedBy>
  <dcterms:modified xsi:type="dcterms:W3CDTF">2012-03-23T12:15:44Z</dcterms:modified>
  <cp:revision>86</cp:revision>
  <dc:subject/>
  <dc:title>На шаг впереди!</dc:title>
</cp:coreProperties>
</file>