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8B9-C30A-4663-B557-06895BA0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615-2190-418D-B340-DAAABD39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65D-D0C8-4C61-AD5B-BBE1AF7E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261-C0CC-4C13-B28E-4C2708AA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FDA-C691-4C43-BFE0-4454514F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786-677E-4CC5-B500-035B2AF8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2F4-9598-4D44-99C6-DD98E7D4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716-A804-49F2-918C-28A12BA0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3EC-3BAC-4869-9521-4749002E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4E3-F2F6-46EA-9C0D-77CAE05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E9D-39CF-4011-A698-2F3F4DBB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B2E-50E1-4F08-853D-CE0B2688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DB10-8016-4082-AEA9-B70CA3B88AF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9A25-D707-471E-AE67-0EE076D7080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0" y="5429160"/>
            <a:ext cx="6643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Автор: Жигулина Е.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БОУ СОШ №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Г. Нижнего Таг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D:\клипарты\школа\8f177b70799c.png"/>
          <p:cNvPicPr/>
          <p:nvPr/>
        </p:nvPicPr>
        <p:blipFill>
          <a:blip r:embed="rId1"/>
          <a:stretch/>
        </p:blipFill>
        <p:spPr>
          <a:xfrm rot="21540000">
            <a:off x="-82440" y="-61920"/>
            <a:ext cx="9277200" cy="7010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13"/>
          <p:cNvSpPr/>
          <p:nvPr/>
        </p:nvSpPr>
        <p:spPr>
          <a:xfrm>
            <a:off x="2730960" y="1357200"/>
            <a:ext cx="36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3510720" y="5716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октяб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клипарты\школа\8f177b70799c.png"/>
          <p:cNvPicPr/>
          <p:nvPr/>
        </p:nvPicPr>
        <p:blipFill>
          <a:blip r:embed="rId1"/>
          <a:stretch/>
        </p:blipFill>
        <p:spPr>
          <a:xfrm rot="21540000">
            <a:off x="-82440" y="-61920"/>
            <a:ext cx="9277200" cy="701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1571760" y="928800"/>
          <a:ext cx="5857920" cy="3070080"/>
        </p:xfrm>
        <a:graphic>
          <a:graphicData uri="http://schemas.openxmlformats.org/drawingml/2006/table">
            <a:tbl>
              <a:tblPr/>
              <a:tblGrid>
                <a:gridCol w="1171440"/>
                <a:gridCol w="1171440"/>
                <a:gridCol w="1171800"/>
                <a:gridCol w="1171440"/>
                <a:gridCol w="1171800"/>
              </a:tblGrid>
              <a:tr h="153504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oboi.kards.qip.ru/images/wallpaper/a3/5c/23715_800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571760" y="928800"/>
          <a:ext cx="5857920" cy="3070080"/>
        </p:xfrm>
        <a:graphic>
          <a:graphicData uri="http://schemas.openxmlformats.org/drawingml/2006/table">
            <a:tbl>
              <a:tblPr/>
              <a:tblGrid>
                <a:gridCol w="1171440"/>
                <a:gridCol w="1171440"/>
                <a:gridCol w="1171800"/>
                <a:gridCol w="1171440"/>
                <a:gridCol w="1171800"/>
              </a:tblGrid>
              <a:tr h="153504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img-fotki.yandex.ru/get/4525/92007029.9d/0_71d3c_e7dd8105_XL"/>
          <p:cNvPicPr/>
          <p:nvPr/>
        </p:nvPicPr>
        <p:blipFill>
          <a:blip r:embed="rId1"/>
          <a:stretch/>
        </p:blipFill>
        <p:spPr>
          <a:xfrm>
            <a:off x="0" y="0"/>
            <a:ext cx="10014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stat20.privet.ru/lr/0b2ff924042f1785d754c3a9e45f2f4f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клипарты\школа\8f177b70799c.png"/>
          <p:cNvPicPr/>
          <p:nvPr/>
        </p:nvPicPr>
        <p:blipFill>
          <a:blip r:embed="rId1"/>
          <a:stretch/>
        </p:blipFill>
        <p:spPr>
          <a:xfrm rot="21540000">
            <a:off x="-133200" y="-77760"/>
            <a:ext cx="9277200" cy="701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D:\клипарты\школа\ccfd251061b6.png"/>
          <p:cNvPicPr/>
          <p:nvPr/>
        </p:nvPicPr>
        <p:blipFill>
          <a:blip r:embed="rId2"/>
          <a:stretch/>
        </p:blipFill>
        <p:spPr>
          <a:xfrm>
            <a:off x="357120" y="4214880"/>
            <a:ext cx="212724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1002240" y="107172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СЛА 1–5. СОСТАВ ЧИСЕЛ 2–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www.clipartheaven.com/clipart/seasons_&amp;_weather/rain_background.gif"/>
          <p:cNvPicPr/>
          <p:nvPr/>
        </p:nvPicPr>
        <p:blipFill>
          <a:blip r:embed="rId1"/>
          <a:stretch/>
        </p:blipFill>
        <p:spPr>
          <a:xfrm>
            <a:off x="4500720" y="357120"/>
            <a:ext cx="4429080" cy="5600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clipartheaven.com/clipart/seasons_&amp;_weather/rain_background.gif"/>
          <p:cNvPicPr/>
          <p:nvPr/>
        </p:nvPicPr>
        <p:blipFill>
          <a:blip r:embed="rId2"/>
          <a:stretch/>
        </p:blipFill>
        <p:spPr>
          <a:xfrm>
            <a:off x="0" y="428760"/>
            <a:ext cx="4429080" cy="5600520"/>
          </a:xfrm>
          <a:prstGeom prst="rect">
            <a:avLst/>
          </a:prstGeom>
          <a:ln w="0">
            <a:noFill/>
          </a:ln>
        </p:spPr>
      </p:pic>
      <p:grpSp>
        <p:nvGrpSpPr>
          <p:cNvPr id="57" name="Группа 8"/>
          <p:cNvGrpSpPr/>
          <p:nvPr/>
        </p:nvGrpSpPr>
        <p:grpSpPr>
          <a:xfrm>
            <a:off x="214200" y="2786040"/>
            <a:ext cx="1897200" cy="2071800"/>
            <a:chOff x="214200" y="2786040"/>
            <a:chExt cx="1897200" cy="2071800"/>
          </a:xfrm>
        </p:grpSpPr>
        <p:pic>
          <p:nvPicPr>
            <p:cNvPr id="58" name="Picture 7" descr="C:\Users\Пользователь\Desktop\зз.png"/>
            <p:cNvPicPr/>
            <p:nvPr/>
          </p:nvPicPr>
          <p:blipFill>
            <a:blip r:embed="rId3"/>
            <a:stretch/>
          </p:blipFill>
          <p:spPr>
            <a:xfrm>
              <a:off x="214200" y="2786040"/>
              <a:ext cx="189720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7"/>
            <p:cNvSpPr/>
            <p:nvPr/>
          </p:nvSpPr>
          <p:spPr>
            <a:xfrm>
              <a:off x="650160" y="3000240"/>
              <a:ext cx="104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1+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Группа 10"/>
          <p:cNvGrpSpPr/>
          <p:nvPr/>
        </p:nvGrpSpPr>
        <p:grpSpPr>
          <a:xfrm>
            <a:off x="2428920" y="3500280"/>
            <a:ext cx="1896840" cy="2071800"/>
            <a:chOff x="2428920" y="3500280"/>
            <a:chExt cx="1896840" cy="2071800"/>
          </a:xfrm>
        </p:grpSpPr>
        <p:pic>
          <p:nvPicPr>
            <p:cNvPr id="61" name="Picture 7" descr="C:\Users\Пользователь\Desktop\зз.png"/>
            <p:cNvPicPr/>
            <p:nvPr/>
          </p:nvPicPr>
          <p:blipFill>
            <a:blip r:embed="rId4"/>
            <a:stretch/>
          </p:blipFill>
          <p:spPr>
            <a:xfrm>
              <a:off x="2428920" y="3500280"/>
              <a:ext cx="189684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2"/>
            <p:cNvSpPr/>
            <p:nvPr/>
          </p:nvSpPr>
          <p:spPr>
            <a:xfrm>
              <a:off x="2864520" y="3714480"/>
              <a:ext cx="104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2+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3"/>
          <p:cNvGrpSpPr/>
          <p:nvPr/>
        </p:nvGrpSpPr>
        <p:grpSpPr>
          <a:xfrm>
            <a:off x="4857840" y="2786040"/>
            <a:ext cx="1896840" cy="2071800"/>
            <a:chOff x="4857840" y="2786040"/>
            <a:chExt cx="1896840" cy="2071800"/>
          </a:xfrm>
        </p:grpSpPr>
        <p:pic>
          <p:nvPicPr>
            <p:cNvPr id="64" name="Picture 7" descr="C:\Users\Пользователь\Desktop\зз.png"/>
            <p:cNvPicPr/>
            <p:nvPr/>
          </p:nvPicPr>
          <p:blipFill>
            <a:blip r:embed="rId5"/>
            <a:stretch/>
          </p:blipFill>
          <p:spPr>
            <a:xfrm>
              <a:off x="4857840" y="2786040"/>
              <a:ext cx="189684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15"/>
            <p:cNvSpPr/>
            <p:nvPr/>
          </p:nvSpPr>
          <p:spPr>
            <a:xfrm>
              <a:off x="5293440" y="2928600"/>
              <a:ext cx="104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3+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16"/>
          <p:cNvGrpSpPr/>
          <p:nvPr/>
        </p:nvGrpSpPr>
        <p:grpSpPr>
          <a:xfrm>
            <a:off x="6929280" y="3500280"/>
            <a:ext cx="1897200" cy="2071800"/>
            <a:chOff x="6929280" y="3500280"/>
            <a:chExt cx="1897200" cy="2071800"/>
          </a:xfrm>
        </p:grpSpPr>
        <p:pic>
          <p:nvPicPr>
            <p:cNvPr id="67" name="Picture 7" descr="C:\Users\Пользователь\Desktop\зз.png"/>
            <p:cNvPicPr/>
            <p:nvPr/>
          </p:nvPicPr>
          <p:blipFill>
            <a:blip r:embed="rId6"/>
            <a:stretch/>
          </p:blipFill>
          <p:spPr>
            <a:xfrm>
              <a:off x="6929280" y="3500280"/>
              <a:ext cx="189720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18"/>
            <p:cNvSpPr/>
            <p:nvPr/>
          </p:nvSpPr>
          <p:spPr>
            <a:xfrm>
              <a:off x="7365240" y="3714480"/>
              <a:ext cx="104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4+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9" descr="http://openclipart.org/image/800px/svg_to_png/20603/kattekrab_Clouds.png"/>
          <p:cNvPicPr/>
          <p:nvPr/>
        </p:nvPicPr>
        <p:blipFill>
          <a:blip r:embed="rId7"/>
          <a:stretch/>
        </p:blipFill>
        <p:spPr>
          <a:xfrm>
            <a:off x="1428840" y="0"/>
            <a:ext cx="6143400" cy="2428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796400" y="100008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5219640" y="2142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Пользователь\Desktop\1.PNG"/>
          <p:cNvPicPr/>
          <p:nvPr/>
        </p:nvPicPr>
        <p:blipFill>
          <a:blip r:embed="rId1"/>
          <a:stretch/>
        </p:blipFill>
        <p:spPr>
          <a:xfrm>
            <a:off x="41400" y="1438200"/>
            <a:ext cx="9059760" cy="398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клипарты\школа\8f177b70799c.png"/>
          <p:cNvPicPr/>
          <p:nvPr/>
        </p:nvPicPr>
        <p:blipFill>
          <a:blip r:embed="rId1"/>
          <a:stretch/>
        </p:blipFill>
        <p:spPr>
          <a:xfrm rot="21540000">
            <a:off x="-82440" y="-61920"/>
            <a:ext cx="9277200" cy="7010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465709-480.jpg"/>
          <p:cNvPicPr/>
          <p:nvPr/>
        </p:nvPicPr>
        <p:blipFill>
          <a:blip r:embed="rId2"/>
          <a:stretch/>
        </p:blipFill>
        <p:spPr>
          <a:xfrm>
            <a:off x="428760" y="857160"/>
            <a:ext cx="2814480" cy="3624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286080" y="1642680"/>
            <a:ext cx="47512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не захотело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 меня получило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Я понял, ч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6:41:44Z</dcterms:created>
  <dc:creator>Elena</dc:creator>
  <dc:description/>
  <dc:language>en-US</dc:language>
  <cp:lastModifiedBy>Пользователь</cp:lastModifiedBy>
  <dcterms:modified xsi:type="dcterms:W3CDTF">2013-10-06T15:16:27Z</dcterms:modified>
  <cp:revision>38</cp:revision>
  <dc:subject/>
  <dc:title>Слайд 1</dc:title>
</cp:coreProperties>
</file>