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31A-9653-4BD3-A9C5-A452875D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9CE-0B52-4EA1-AC41-CAD02E66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69B-32B9-4F3D-9BE9-2B13D68F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9D9-C198-4C24-A917-6C40622D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A46C-6B09-4249-9662-812FC7B1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86AA-D2D7-4411-ADF2-B779814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0AF9-95A9-4033-9758-8AFA52F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EC26-D192-4022-917E-22C4BE9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CB9D-1EA4-485D-A602-EFACD61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0FEF-9254-4F2D-841A-061C708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8067-1695-42DB-A5F2-7B12159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4AC-7A7F-48B1-BDB9-91B95E2F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CDC-77FC-4980-8B02-355FDB8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E837-63B7-4B25-AE00-63AEA69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E7E-2FDB-49F9-9965-56CA4570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88A2-0A3C-4B8E-B357-513765E0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453-6D91-4011-A89F-29CEAD73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5762-E555-4496-BC95-F28082DD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17BA-C329-416D-8842-2F939160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99AE-54A2-40B4-932F-3D1730E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BC59-DAF2-47F7-9584-DC2BF688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E08C-9550-4DA0-8D70-232953BE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A85-A506-43EA-88E0-94A82AF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1EF1-F9FD-4777-82F7-FD80396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333A-96BC-48B1-ABA7-FE00754E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CBAF-F9DF-4397-BF33-1E319BC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C081-E9DA-4B94-B8D9-A27F23C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F34E-AADC-456B-BB92-DA3C5CDF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B39B-0358-4755-9475-6661C9F0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6737-88DE-4609-9AFD-9BC17FEF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018-FA7A-46D4-B598-727A6C76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49A-B18C-408F-9A1E-1787A9A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68C-D92E-4EB0-8EB6-F8DD75B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FE1-CB1C-486F-AAE2-EC7558CC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E9C-9959-4FB6-8E5D-7697CEC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E4C-AF3E-4729-9694-D042EEA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1CB-1500-4835-AC7F-14CAB397D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342A-C509-42E8-AF16-FCA952227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mboo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C6B-13B9-4232-99C2-423E81DA4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b76"/>
            </a:gs>
            <a:gs pos="50000">
              <a:srgbClr val="a7e8ff"/>
            </a:gs>
            <a:gs pos="100000">
              <a:srgbClr val="4d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ahoma"/>
              </a:rPr>
              <a:t>Дизайн-анализ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Tahoma"/>
              </a:rPr>
              <a:t>юбк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изайн интерь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Picture 4" descr="teen-room-1"/>
          <p:cNvPicPr/>
          <p:nvPr/>
        </p:nvPicPr>
        <p:blipFill>
          <a:blip r:embed="rId1"/>
          <a:stretch/>
        </p:blipFill>
        <p:spPr>
          <a:xfrm>
            <a:off x="250920" y="1197000"/>
            <a:ext cx="3657600" cy="2813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163010201002039"/>
          <p:cNvPicPr/>
          <p:nvPr/>
        </p:nvPicPr>
        <p:blipFill>
          <a:blip r:embed="rId2"/>
          <a:stretch/>
        </p:blipFill>
        <p:spPr>
          <a:xfrm flipH="1" rot="33000">
            <a:off x="5292000" y="1340640"/>
            <a:ext cx="3613320" cy="2295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832815136_88231c1067_o"/>
          <p:cNvPicPr/>
          <p:nvPr/>
        </p:nvPicPr>
        <p:blipFill>
          <a:blip r:embed="rId3"/>
          <a:stretch/>
        </p:blipFill>
        <p:spPr>
          <a:xfrm>
            <a:off x="2843280" y="3860640"/>
            <a:ext cx="3657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хитектурный диза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Picture 4" descr="china-national-highways-shangh_IMGR8Cy8M_image"/>
          <p:cNvPicPr/>
          <p:nvPr/>
        </p:nvPicPr>
        <p:blipFill>
          <a:blip r:embed="rId1"/>
          <a:stretch/>
        </p:blipFill>
        <p:spPr>
          <a:xfrm>
            <a:off x="3708360" y="184464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0" y="20606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бществен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роизводствен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ания), инженерные соору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Ювелирный диза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0" name="Picture 4" descr="a59a6b28e4780a295b30d6b08971f3ee"/>
          <p:cNvPicPr/>
          <p:nvPr/>
        </p:nvPicPr>
        <p:blipFill>
          <a:blip r:embed="rId1"/>
          <a:stretch/>
        </p:blipFill>
        <p:spPr>
          <a:xfrm>
            <a:off x="1476360" y="836640"/>
            <a:ext cx="62168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андшафтный диза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4" descr="14_b"/>
          <p:cNvPicPr/>
          <p:nvPr/>
        </p:nvPicPr>
        <p:blipFill>
          <a:blip r:embed="rId1"/>
          <a:stretch/>
        </p:blipFill>
        <p:spPr>
          <a:xfrm>
            <a:off x="0" y="1101600"/>
            <a:ext cx="92170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Дизайн одежд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4" name="Picture 4" descr="13"/>
          <p:cNvPicPr/>
          <p:nvPr/>
        </p:nvPicPr>
        <p:blipFill>
          <a:blip r:embed="rId1"/>
          <a:stretch/>
        </p:blipFill>
        <p:spPr>
          <a:xfrm>
            <a:off x="826920" y="1120680"/>
            <a:ext cx="732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a4db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1600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Человека, занимающегося художественно-технической деятельностью в рамках какой-либо из отраслей дизайна называют в общем случае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дизайнером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(в том числе архитектора, проектировщика, иллюстратора, дизайнера плакатной и прочей рекламной графики, веб-дизайнера, дизайнера одежд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P1000805"/>
          <p:cNvPicPr/>
          <p:nvPr/>
        </p:nvPicPr>
        <p:blipFill>
          <a:blip r:embed="rId1"/>
          <a:stretch/>
        </p:blipFill>
        <p:spPr>
          <a:xfrm>
            <a:off x="179280" y="476280"/>
            <a:ext cx="6369120" cy="5864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6516720" y="155736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женщина должна обязательно иметь джинсы,эффектную юбку, белую блузку, классический жакет и красивый пулов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588000" y="3068640"/>
            <a:ext cx="25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Times New Roman"/>
              </a:rPr>
              <a:t>Юбка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15"/>
          <p:cNvPicPr/>
          <p:nvPr/>
        </p:nvPicPr>
        <p:blipFill>
          <a:blip r:embed="rId1"/>
          <a:stretch/>
        </p:blipFill>
        <p:spPr>
          <a:xfrm>
            <a:off x="2340000" y="88920"/>
            <a:ext cx="4492440" cy="6769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042920" y="1125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Дизайнер одежды- Слава Зайце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Дизайн-анализ юб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Picture 4" descr="P1000806"/>
          <p:cNvPicPr/>
          <p:nvPr/>
        </p:nvPicPr>
        <p:blipFill>
          <a:blip r:embed="rId1"/>
          <a:stretch/>
        </p:blipFill>
        <p:spPr>
          <a:xfrm>
            <a:off x="320760" y="692280"/>
            <a:ext cx="8823240" cy="3838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250920" y="4508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Критерии оцен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Эстетическое воспри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Функциона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Удобство эксплуа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ff"/>
            </a:gs>
            <a:gs pos="50000">
              <a:srgbClr val="66ffff"/>
            </a:gs>
            <a:gs pos="100000">
              <a:srgbClr val="b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Критерии оценки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Эстетическое восприят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(красивая, модная, цвет, фасо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Функциона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Для чего? Для к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Удобство эксплуат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Выбор материалов и технологии изгото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ecfb"/>
            </a:gs>
            <a:gs pos="100000">
              <a:srgbClr val="4f6d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Дизайн — творческий процесс создания вещи, в котором эстетика определяет содержимое , а технологии -форму вещ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Подготовить к следующему урок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Тетра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Чертеж прямой юб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Чертежные принадлежно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76360" y="1557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Times New Roman"/>
              </a:rPr>
              <a:t>Используемые ресурс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mages.yandex.r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Дизайн как творческий процесс можно разделить на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художественный дизай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— создание вещного мира с точки зрения эстетики вос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2920" y="2492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техническую эстети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—учитывающую конструктивность , функциональность , комфортность производства, эксплуатации, ути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6"/>
          <p:cNvSpPr/>
          <p:nvPr/>
        </p:nvSpPr>
        <p:spPr>
          <a:xfrm flipH="1">
            <a:off x="1835280" y="1341360"/>
            <a:ext cx="25207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4859280" y="1413000"/>
            <a:ext cx="20890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Основные категории объекта дизай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30000" y="1827360"/>
            <a:ext cx="3661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Образ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— идеаль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едставл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 объек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511600" y="1700280"/>
            <a:ext cx="3740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Функция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— рабо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которую долж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ыполнять издел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95720" y="3703680"/>
            <a:ext cx="305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Морф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тро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формы издел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2163960" y="5589720"/>
            <a:ext cx="565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Технологическая фор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пособ производства вещ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3851280" y="3284640"/>
            <a:ext cx="1716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ahoma"/>
              </a:rPr>
              <a:t>Эстетическая цен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тепень соответств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ъекта эстетическ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идеалу субъ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ahoma"/>
              </a:rPr>
              <a:t>О каких видах дизайна вы слышали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мышленный диза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Picture 6" descr="Fernwarmewerk_Spittelau_Wien"/>
          <p:cNvPicPr/>
          <p:nvPr/>
        </p:nvPicPr>
        <p:blipFill>
          <a:blip r:embed="rId1"/>
          <a:stretch/>
        </p:blipFill>
        <p:spPr>
          <a:xfrm>
            <a:off x="611280" y="1557360"/>
            <a:ext cx="2975040" cy="410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ooles-auto-design"/>
          <p:cNvPicPr/>
          <p:nvPr/>
        </p:nvPicPr>
        <p:blipFill>
          <a:blip r:embed="rId2"/>
          <a:stretch/>
        </p:blipFill>
        <p:spPr>
          <a:xfrm>
            <a:off x="4500720" y="3284640"/>
            <a:ext cx="4316400" cy="3238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3708360" y="1557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соросжигательны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од в Ве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040360" y="24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р дизайна автомоби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41200" y="188640"/>
            <a:ext cx="620244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изайн сре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Picture 4" descr="10967_3_singapore20ccc3big"/>
          <p:cNvPicPr/>
          <p:nvPr/>
        </p:nvPicPr>
        <p:blipFill>
          <a:blip r:embed="rId1"/>
          <a:stretch/>
        </p:blipFill>
        <p:spPr>
          <a:xfrm>
            <a:off x="3851280" y="1413000"/>
            <a:ext cx="4905360" cy="544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odeGakuenSpiralTowers2"/>
          <p:cNvPicPr/>
          <p:nvPr/>
        </p:nvPicPr>
        <p:blipFill>
          <a:blip r:embed="rId2"/>
          <a:stretch/>
        </p:blipFill>
        <p:spPr>
          <a:xfrm>
            <a:off x="-20520" y="0"/>
            <a:ext cx="346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260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рафический диза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Picture 4" descr="f01_графический01"/>
          <p:cNvPicPr/>
          <p:nvPr/>
        </p:nvPicPr>
        <p:blipFill>
          <a:blip r:embed="rId1"/>
          <a:stretch/>
        </p:blipFill>
        <p:spPr>
          <a:xfrm>
            <a:off x="250920" y="2421000"/>
            <a:ext cx="3889440" cy="263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афический2old"/>
          <p:cNvPicPr/>
          <p:nvPr/>
        </p:nvPicPr>
        <p:blipFill>
          <a:blip r:embed="rId2"/>
          <a:stretch/>
        </p:blipFill>
        <p:spPr>
          <a:xfrm>
            <a:off x="4716360" y="1125360"/>
            <a:ext cx="41497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3D дизай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lest1"/>
          <p:cNvPicPr/>
          <p:nvPr/>
        </p:nvPicPr>
        <p:blipFill>
          <a:blip r:embed="rId1"/>
          <a:stretch/>
        </p:blipFill>
        <p:spPr>
          <a:xfrm>
            <a:off x="4859280" y="765000"/>
            <a:ext cx="4089600" cy="3410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ex5"/>
          <p:cNvPicPr/>
          <p:nvPr/>
        </p:nvPicPr>
        <p:blipFill>
          <a:blip r:embed="rId2"/>
          <a:stretch/>
        </p:blipFill>
        <p:spPr>
          <a:xfrm>
            <a:off x="179280" y="2781360"/>
            <a:ext cx="4632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04:23:31Z</dcterms:created>
  <dc:creator>Zver</dc:creator>
  <dc:description/>
  <dc:language>en-US</dc:language>
  <cp:lastModifiedBy>Владелец</cp:lastModifiedBy>
  <dcterms:modified xsi:type="dcterms:W3CDTF">2013-10-06T19:13:49Z</dcterms:modified>
  <cp:revision>28</cp:revision>
  <dc:subject/>
  <dc:title>Презентация PowerPoint</dc:title>
</cp:coreProperties>
</file>