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9364-958E-4B5B-9978-C2FCC162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7022-9748-4125-B161-EE23982B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6011-C24C-4A56-84A2-2B18E5AF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E43F-C7D9-44D1-9344-96A2C792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9246-7FEE-48E8-A0BD-14199AD4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4228-88CA-4706-BE9F-4FED6C7E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7637-11AD-4648-B6F4-D05C5BDE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EAB9-AC73-4E7B-8EFC-9C87F527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2AEF-B8A5-4EE1-A39A-7AE73B36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01D8-1456-47C2-837E-74C55016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7D39-FDC4-4350-B791-B1E2FD8E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98E5-1ADF-41EC-988F-EE3F377C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1E86-5ED0-48C8-B496-5CB40AC7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4F4B-8CA8-4646-8D8E-87A9D22B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0033-BD61-4404-86D7-74D8FB11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1696-9AC8-424F-8954-71E400BE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9D8A-ED94-47FB-8FDF-E03BCD6C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9F521-58F9-4AE5-BCEC-95EF5BE8E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4B83D-578E-4EC1-901B-5B1EC648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3E06E-19D4-4C2A-B183-53C49681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88568-A760-4BF6-8546-3FDC9C94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8AC19-708F-4BE1-8465-F56BB6B4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3AAE-71C8-4D3F-938D-5D0C4665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51828-4105-45DA-ACD1-79BC6647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2425D-A718-4A2F-AE75-29FAE16B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7273C-4540-4474-87CC-BE3D5C51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44F4F-D2DC-4E17-9907-3C1FA4D1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F88F3-1321-476C-AC47-E7FF3E2C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B026D-EC35-4795-8E80-B241F3E5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D37D9-F3EC-45B0-92F9-80881374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77F9D-C42E-47DA-B30B-DF6D2567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C4ED1-BD36-4568-94FD-F1671560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3D508-99F1-4765-A070-A8596225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2BBB-B960-4618-8584-04EC60B3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A3C58-7684-4F02-AE16-BFC07128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52937-D069-4C95-89DB-36D949D3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80A6B-F79B-4C1B-BA80-C2DCC7FB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660BA-3809-48B3-B9A6-E45333DF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848EA-01CE-43E3-87A1-FBB9016D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FD349-6631-4C85-A784-48ED760F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7887D-3CD8-44C1-B3B5-E2AE2056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0C3D5-4289-47B5-8AC7-627C2806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D226A-AFF4-41BF-9146-4BC6ED2A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69341-D40E-4157-88C3-88A76627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8A49-062F-43FA-9677-FECA9C5E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313F0-9EFC-4885-AF6C-206A19A8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F7770-04BE-49A6-89FC-19DF67F1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733FB-7F37-43A0-B067-EEB282E0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A564A-E6D6-46B3-9E17-B8DB49C7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50238-68F7-43CE-8015-5077E37C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B88FB-3AA1-4126-92D8-9F9B22A0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BE65B-2B90-463B-A2AF-4D49AAE7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550D8-AD1C-40A4-98F5-29574416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AB8D8-D710-46F9-B5C2-6309AD48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43B2D-D593-491F-8F05-D18833A8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F55B-09B8-4737-A5B3-16AD16C2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F2B1A-F464-49D1-A49E-E86FA52E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7CD1B-362F-45C8-ADCD-EF1FB869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4554F-842B-42ED-9B9E-097A9935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61C2C-4154-448E-9DE0-2A375924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6946A-2FF9-4705-BFF1-91F42C8C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47956-990E-4512-A3C8-7223B96F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49889-525D-4D5B-921A-15E374BF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189AB-4A04-42E6-9AE1-6E12B50F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01677-AB1B-4BDF-A4D2-CF3CE859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077D3-B192-444D-9832-1F66E80A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E3AA-CBA0-4002-894B-FDED7D9C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8EC91-C1AD-497F-A786-F5E33E75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2B3B9-D25D-4F46-98A7-782B1998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927B8-FE35-43ED-84DD-17F5C66C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302F3-0BC6-4DAF-BE7C-87D67BA1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A8130-DA24-470E-AD96-0E69362B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6532D-4C88-4F36-A014-03904DF2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10AA1-ADB8-4317-904C-5C8EFD24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06DEA-C6BB-4114-954C-6208EF78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74DE2-2899-42BC-B324-C30DBF6B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3417D-1F97-427F-BD1B-4405CAA1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1842-983F-4C64-9038-1980F9D5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BB7A1-749A-46BB-8EBB-0D992552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8A104-0CD0-48BA-BC2A-6ACFBD08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1EB5E-21B8-48C2-B976-0C15E88D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39AA3-5294-4798-A43B-2FEFEFB2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E2873-8CAE-4184-A22B-0B979D03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1D96-0A85-4E53-A69D-253373C6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939F-2C20-4005-89CE-EDEC0FCBD63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AD37-A134-4297-B4D7-245D510F6AB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6DA1-B27E-42CA-B815-B212CC10188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59A0-E5EE-4BFF-B7C1-F8F4EC7896D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1498-C899-4385-9413-E32EC7A40EE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BF38-F5BF-4348-9A05-06D881869FFF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E41C-C66C-41F6-9906-84FCE043642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9720" y="285840"/>
            <a:ext cx="7929720" cy="61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572314"/>
                </a:solidFill>
                <a:latin typeface="Corbel"/>
              </a:rPr>
              <a:t>Интерактивные технологии</a:t>
            </a:r>
            <a:br>
              <a:rPr sz="4200"/>
            </a:br>
            <a:br>
              <a:rPr sz="4200"/>
            </a:br>
            <a:br>
              <a:rPr sz="4200"/>
            </a:br>
            <a:r>
              <a:rPr b="1" lang="ru-RU" sz="4200" spc="-1" strike="noStrike">
                <a:solidFill>
                  <a:srgbClr val="572314"/>
                </a:solidFill>
                <a:latin typeface="Corbel"/>
              </a:rPr>
              <a:t>Работа в парах на уроках русского языка в начальной школе</a:t>
            </a:r>
            <a:br>
              <a:rPr sz="4200"/>
            </a:b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Какие звуки в словах стоят не на своем месте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835280" y="2421000"/>
            <a:ext cx="70992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«Чапнула чапля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Цёрные цернила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Цёрная чапля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Чиркулем цертила»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Тема. Алфавит.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2280" indent="-60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 Игра «Кто быстрее?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думать названия животных или птиц на разные буквы алфавит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 Отгадайте слово. Что оно обозначает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ервая буква этого слова стоит в алфавите после буквы «эм», вторая – перед буквой «пэ», третья – после буквы «ю», четвёртая – перед буквой «вэ», пятая – между буквами «пэ» и «эс», шестая не обозначает звук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Тема. Слог. Слово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5297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Соберите и запишите слова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2205000"/>
            <a:ext cx="749952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Ча – гал – та, да – у – ча, щай – про, чар – ов – ка, вель – ща, та – зай – ча, ре – щу – нок, жи – ры – ки, ча – встре, жин – сне – к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Тема. Удвоенные согласные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520" cy="14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Замените каждое словосочетание одним словом с удвоенной согласно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2852280"/>
            <a:ext cx="7499520" cy="33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 женское имя –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 популярная игра на льду –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 помещение в школе –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 день недели –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Слова для выбора: Алла, Инна, Анна, хоккей, класс, суббот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Corbel"/>
              </a:rPr>
              <a:t>Тема. Правописание слов с безударным гласным звуком в корне</a:t>
            </a:r>
            <a:br>
              <a:rPr sz="3200"/>
            </a:b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. Прочитайте. Когда так говорят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Язык заплетается. Бежать во все лопатки. Воробью по колено. Вставать с первыми петухами. Трещит как сорока. Считать ворон. Не бросай слов на ветер. Медведь на ухо наступи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2. Спишите. Подчеркните в словарных словах буквы, написание которых надо запомни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Тема. Непроизносимые согласные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Выполните задание: один из вас читает слова, а другой повторяет их. Какие буквы не обозначают звуков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Честный, грустный, звёздный, поздний, солнце, вестник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Честь, грусть, звезда, опоздать, солнышко, вест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Работа с деформированным текстом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Составьте предложения. Запишит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Дремлет, камыш, чуткий, тишина, кругом, за роща, полем, зеленеет, кузнечики, трещат, в траве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Тема. Главные члены предложения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Прочитайт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Река весело катилась в горах. Утром вода у берегов замерзала. Днём тонкий ледок таял. Скоро вся река покроется льдо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Расскажите по очереди друг другу, как найти в предложениях подлежащее и сказуемо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Спишите. Подчеркните главные члены предложений (грамматическую основу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314"/>
                </a:solidFill>
                <a:latin typeface="Corbel"/>
              </a:rPr>
              <a:t>ПРЕДПОЛАГАЕМЫЕ РЕЗУЛЬТАТЫ РАБОТЫ ПО ФОРМИРОВАНИЮ КОММУНИКАТИВНЫХ НАВЫКОВ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rbel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По русскому языку учащиеся научатся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владеть диалоговой формой реч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учитывать разные мнения и стремиться к координации различных позиций при работе в паре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договариваться и приходить к общему решению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формулировать собственное мнение и позицию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задавать вопросы, уточняя непонятое в высказыван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адекватно использовать речевые средства для решения коммуникативных задач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332000" y="476280"/>
            <a:ext cx="7602480" cy="57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Учащиеся получат возможность научиться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с учётом целей коммуникации достаточно точно, последовательно и полно передавать партнёру необходимую информацию как ориентир для построения действи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осуществлять взаимный контроль и оказывать в сотрудничестве необходимую взаимопомощь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адекватно использовать речь и речевые средства для эффективного решения разнообразных коммуникативных задач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042560" y="333360"/>
            <a:ext cx="7705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Развивающемуся обществу нужны современно образованные, нравственные, предприимчивые люди, которые могут самостоятельно принимать ответственные решения в ситуации выбора, прогнозируя их возможные последствия, способные к сотрудничеству!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этому назрела необходимость внедрения в учебный процесс инновационных методик и новых педагогических технологий, призванных обеспечить индивидуализацию обучения и воспитания, развивать самостоятельность учащихся, а также содействовать сохранению и укреплению здоровь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терактивные технологии обучения сполна отвечают этим требованиям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терактивная технология понимается как форма обучения, где знания добываются в совместной деятельности через диалог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деальной формой для сотрудничества и взаимопомощи является парное обучение. В паре ученики могут друг друга проверить, закрепить новый материал, повторить пройденно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720" y="259920"/>
            <a:ext cx="7626240" cy="62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Corbel"/>
              </a:rPr>
              <a:t>     </a:t>
            </a: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Этапы работы в парах ( в группах).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1.Определяем цель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2.Выбираем партнера.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3.Распределяем функции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4.Действуем и взаимодействуем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5.Получаем и оцениваем результат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6.Делаем выводы. Рефлексия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61508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231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72314"/>
                </a:solidFill>
                <a:latin typeface="Arial"/>
              </a:rPr>
              <a:t>Правила работы в парах.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Arial"/>
              </a:rPr>
              <a:t>1. Слушай партнера внимательно.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Arial"/>
              </a:rPr>
              <a:t>2. Переспрашивай и уточняй, чтобы быть уверенным, что ты правильно его понял.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Arial"/>
              </a:rPr>
              <a:t>3. Отмечай прежде всего положительное.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Arial"/>
              </a:rPr>
              <a:t>4. Уважай чужие ошибки; вежливо объясняй свое мнение.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Arial"/>
              </a:rPr>
              <a:t>5. Старайся работать без ошибок.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Arial"/>
              </a:rPr>
              <a:t>6. При затруднениях проси помощи у партнера и помогай сам, если он просит об этом.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Arial"/>
              </a:rPr>
              <a:t>7. Результатом работы пары (группы) является ваше общее мнение.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Arial"/>
              </a:rPr>
              <a:t>8. Помни: вместе вы сделаете гораздо больше, чем каждый по отдельности.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Arial"/>
              </a:rPr>
              <a:t>9. Поблагодари партнера за работу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8930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72314"/>
                </a:solidFill>
                <a:latin typeface="Corbel"/>
              </a:rPr>
              <a:t>При организации работы в парах важно учитывать ряд особенностей:</a:t>
            </a:r>
            <a:br>
              <a:rPr sz="2200"/>
            </a:br>
            <a:r>
              <a:rPr b="0" lang="en-US" sz="2200" spc="-1" strike="noStrike">
                <a:solidFill>
                  <a:srgbClr val="572314"/>
                </a:solidFill>
                <a:latin typeface="Corbel"/>
              </a:rPr>
              <a:t>1)  каждый участник занятий попеременно выступает в роли то «ученика», то «учителя»;</a:t>
            </a:r>
            <a:br>
              <a:rPr sz="2200"/>
            </a:br>
            <a:r>
              <a:rPr b="0" lang="en-US" sz="2200" spc="-1" strike="noStrike">
                <a:solidFill>
                  <a:srgbClr val="572314"/>
                </a:solidFill>
                <a:latin typeface="Corbel"/>
              </a:rPr>
              <a:t>2)  ближайшая цель « ученика» и « учителя» – учить всему тому, что он знает сам;</a:t>
            </a:r>
            <a:br>
              <a:rPr sz="2200"/>
            </a:br>
            <a:r>
              <a:rPr b="0" lang="en-US" sz="2200" spc="-1" strike="noStrike">
                <a:solidFill>
                  <a:srgbClr val="572314"/>
                </a:solidFill>
                <a:latin typeface="Corbel"/>
              </a:rPr>
              <a:t>3) деятельность каждого участника занятий имеет общественно-полезную окраску, потому что он не только учится, но и обучает других;</a:t>
            </a:r>
            <a:br>
              <a:rPr sz="2200"/>
            </a:br>
            <a:r>
              <a:rPr b="0" lang="en-US" sz="2200" spc="-1" strike="noStrike">
                <a:solidFill>
                  <a:srgbClr val="572314"/>
                </a:solidFill>
                <a:latin typeface="Corbel"/>
              </a:rPr>
              <a:t>4) основной принцип работы – все по очереди учат каждого и каждый всех;</a:t>
            </a:r>
            <a:br>
              <a:rPr sz="2200"/>
            </a:br>
            <a:r>
              <a:rPr b="0" lang="en-US" sz="2200" spc="-1" strike="noStrike">
                <a:solidFill>
                  <a:srgbClr val="572314"/>
                </a:solidFill>
                <a:latin typeface="Corbel"/>
              </a:rPr>
              <a:t>5)  каждый отвечает не только за свои знания, но также за знания и успехи товарищей;</a:t>
            </a:r>
            <a:br>
              <a:rPr sz="2200"/>
            </a:br>
            <a:r>
              <a:rPr b="0" lang="en-US" sz="2200" spc="-1" strike="noStrike">
                <a:solidFill>
                  <a:srgbClr val="572314"/>
                </a:solidFill>
                <a:latin typeface="Corbel"/>
              </a:rPr>
              <a:t>6) полное совпадение и единство коллективных и  личных интересов: чем лучше и больше я обучаю других, тем больше и лучше знаю сам.</a:t>
            </a:r>
            <a:br>
              <a:rPr sz="2200"/>
            </a:br>
            <a:r>
              <a:rPr b="0" lang="en-US" sz="2200" spc="-1" strike="noStrike">
                <a:solidFill>
                  <a:srgbClr val="572314"/>
                </a:solidFill>
                <a:latin typeface="Corbel"/>
              </a:rPr>
              <a:t>Работая в парах, дети проходят учебный материал быстрее и качественнее. У них повышается интерес к учению.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61508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2314"/>
                </a:solidFill>
                <a:latin typeface="Corbel"/>
              </a:rPr>
              <a:t>Работа в парах сменного состава осуществляется в следующем порядке: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Corbel"/>
              </a:rPr>
              <a:t>1) один из работающих в паре читает по предложениям текст, другой записывает;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Corbel"/>
              </a:rPr>
              <a:t>2) следующий ученик (который перед этим писал) читает, а первый записывает;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Corbel"/>
              </a:rPr>
              <a:t>3) ребята обмениваются тетрадями  и проверяют работы друг друга;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Corbel"/>
              </a:rPr>
              <a:t>4) далее учащиеся открывают карточки и по ним совместно проверяют второй раз записанный текст;  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Corbel"/>
              </a:rPr>
              <a:t>5) работа над ошибками.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Corbel"/>
              </a:rPr>
              <a:t>После того, как задания выполнены, друг у друга проверены, пара распадается. Освободившиеся ученики образуют новые пары. Учащиеся свободно перемещаются по классу, образуя новые диалогические  сочетания, обучают друг друга по своим карточкам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Тема. Удар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71640" y="3284640"/>
            <a:ext cx="367344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1.Вода, море.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2.Пенал, доск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3.Петух, баран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4.Зеркало, вешалк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003280" y="3213000"/>
            <a:ext cx="367380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1.Река, рощ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2.Столы, парт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3.Индюк, карас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4.Лестница, комнат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31640" y="1341360"/>
            <a:ext cx="749916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Кто быстро и правильно расставит в словах ударение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572314"/>
                </a:solidFill>
                <a:latin typeface="Corbel"/>
              </a:rPr>
              <a:t>Прочитайте слова друг другу по очереди. Послушайте, как эти слова произносит одноклассник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49952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Магазин, километр, творог, звонит, туфля, инструмент, статуя, сантиметр, простыня, портфель, банты, шарф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3924360"/>
            <a:ext cx="749952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Проверьте по орфоэпическому словарю, правильно ли вы произносите эти слов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Спишите. Обозначьте в словах ударение. Подчеркните ударный слог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Тема. Звуки и буквы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читайте песенку Б.Заходер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ыло б очень-очень мило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чень Умная Сова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Если б ты нам объяснил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ти умные слова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нциклопедия!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рагикомедия!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увырколлегия!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ододендрон!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акие из выделенных «умных» слов настоящие, а какие ненастоящие? Как вы это определили? Найдите в толковом словаре значения настоящих сл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то больше составит слов из букв ненастоящего слова? Запишите составленные слов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9:24:28Z</dcterms:created>
  <dc:creator>Mars</dc:creator>
  <dc:description/>
  <dc:language>en-US</dc:language>
  <cp:lastModifiedBy>АЛИНА</cp:lastModifiedBy>
  <dcterms:modified xsi:type="dcterms:W3CDTF">2013-10-01T14:55:43Z</dcterms:modified>
  <cp:revision>27</cp:revision>
  <dc:subject/>
  <dc:title>Реализация здоровьесберегающих технологий в учебном процессе</dc:title>
</cp:coreProperties>
</file>