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D0C-EEC7-48F4-9CC7-8B0BB83F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2AD-BCB9-4143-8103-9A26D31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20061-80FA-46B6-822A-26D3A619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D556E-6E2C-487A-B04E-095499A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1D4CB-4580-45C0-9D86-A6E37FBB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7FB74-1515-43C3-8BBE-6C6AF0B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E9EA-8E4D-4919-8347-12DC45C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7F9B-77E6-4C05-9FF4-E191FA7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4355C-E007-49BA-9B59-41CDFBA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6B11-4AE1-4357-80DC-9B2EF8B9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8004C-B07C-4682-8A0B-A885D222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5AFAA-4DE4-4ACA-846F-3DA278A1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2A0-1EE7-4484-A6A2-A5C8440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AC2EA-5FBA-4AFC-ABCF-A5E595F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E2D8-68A9-4C39-9E6C-C7F56D0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26EAE-E5F5-4A2C-9AFE-95A3ED2D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9E45-4B22-470A-8A98-E457041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8AC5-9ED9-4886-8D09-0891444B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BF4CD-F1F8-46AD-A968-D809616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FBC8E-20C6-4283-AD7B-D06B9BE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0C365-F5B7-4E5F-9C2E-7423CC1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88560-8FE3-4949-95CE-B536DD3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61D3E-C07A-4398-BA51-109295FF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303-3F89-4AB9-9A68-EEFD97BF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883D3-D771-4F4B-A1B0-87C5727F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4E23-C7D9-47D0-AA9B-7AAA9E44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1030-B114-4743-9877-A19B7A14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A35FA-542C-4ACD-8A1F-9B3E01F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D9426-A910-4526-B0BC-9D78DB03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E751-D098-4302-9425-5485A25C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21491-41E8-4D41-BA7E-4360E2C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615D-55AC-4341-B99C-89F625F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C2A8-1AD6-488E-9A2A-5CC3092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A4075-A11D-454F-84F3-2B36A73D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5A13-7709-43E2-8DC9-9463ECE6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A8ED-BA03-4AEF-83C5-1061A5E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86B6-328E-40E2-A15D-C8641156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763CB-8C04-4D30-845E-B43BE1A3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BC2F-3710-45F6-A967-9658D216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EFC76-A056-4910-8B1A-BBAAC27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A56E-6FA2-4085-8561-962F65F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A7522-74A0-4028-A2E1-ACA76BCD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C53A0-7909-412F-9E0A-EFB2C6E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F0575-E277-4A05-8897-6B49DA9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62A05-4C3E-4C78-9D04-F26DC1E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8AE-E8D4-4BBA-8A07-29B3D653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E0059-E0FD-4EC1-A605-B8B0722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6B9A0-4945-46B4-AC6F-1B374EF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47F39-DA5B-4675-A8A9-C235F23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F9C41-2F0B-4171-A703-AF1791C8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A687A-E0E9-4E98-BCAF-C7C2037F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E033E-9C27-441A-AEBC-5F155ADB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551ED-D624-4BE4-8551-C0B6A0C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38660-EB70-4097-9E9B-48F7798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C99FA-CCFB-4251-B699-E60E0988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890D3-1DCF-4BA0-A75F-8D7D13CC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D6DB-0BF9-4FE5-8155-DBCE21A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4BEC3-5E9C-4FFD-B871-89AD069F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1D6A2-6A21-4C49-A42D-75C1525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05AE2-27E0-45CA-B51A-E32819A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C2C95-43A8-48CF-8CEB-30E2F3E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D8F07-F6F4-410A-B198-69F6E8C7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7A41C-9868-49C1-BBD2-A51F303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C6480-99DB-4C2E-BD3F-782BE76C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75344-99D0-425B-917F-11E2973E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C382B-7914-4C2B-AB67-97497BD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5BF32-9D6A-4C99-B04C-3294AE4A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1524-9151-43FD-883A-AD7640DE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EE8A9-4347-4B03-9526-4EA7965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3DFF7-B9C9-425A-9490-13FC44BA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231CF-E974-432C-A025-43C309A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35003-7959-497C-88D8-42FDBC3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35644-05BE-48AD-B09F-4DEF841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C8D3F-B88D-4D99-9CEF-69F4E27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9826A-FEEA-405D-83D1-F82C469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21D0B-286F-48B6-A2F4-7007F20C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24FB6-4AB0-48BC-97D6-16D23EAE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27761-4632-4ADD-BEFF-CC98682A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9267-C339-45A1-9DA2-45C7193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06C53-4920-438B-B0FC-6B68AFA5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E3D7B-DD30-4A97-8D60-599A85F3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AE093-EA4D-48F3-BC2E-1E93F2F2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BCF7C-226C-4637-9848-1FE21AF0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A4EB3-C57B-4A43-95F1-9093CA86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26737-7494-4F73-953F-889188E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D5BE8-3AD4-4B63-8C1F-402FB14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3ED3C-EA2B-4BAD-ADD0-2DC7D6F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A52E0-6FEC-437D-B598-14EB5F6D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68221-2BC4-49DF-9B9A-B0CD60CF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961E-0374-4BAC-BE39-5865F693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AFC54-C08B-413B-A968-07800179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85E60-839F-4BE3-9D84-89D76B69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851B6-96F3-4492-BAA5-D67D5E0C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2B008-2B15-4A16-812A-1F19E9E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EA8C8-FAC3-4C36-ACDA-B8758F37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A1867-657D-4F2A-B362-204F3AB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0FE96-6AC5-48FC-8364-6A846EE9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8DCC0-1625-454C-B3E8-6DE5F2D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EFFF7-2657-4D17-9A6C-E53A793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61B59-573B-4788-9A17-4D51DD4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0373-F7F7-45CC-A8EF-80375F6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DA550-408D-4C28-9BE8-758BDAD9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EFF56-AE65-48BC-9150-D04CE507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BE6BC-4A34-4DB9-B1D3-A8364BEA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225ED-056C-4DFB-B48E-D28C7F15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A78C1-03EA-483B-9425-955F1BB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34864-36EB-40BE-9443-43CB107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F56A2-87B9-4E19-A531-FE60CC2A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0E139-71C1-4286-81E0-6D159E9A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C982C-931D-47A0-89DA-DF1AD35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C4DD8-1E15-4A7F-903B-DAB6155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533-6B90-497A-8409-D350783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AD9E-EA2C-4D4E-A90C-80CAB6B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06197-5BC8-4053-BC75-6C8B7C6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72ED3-1728-441B-995D-F6B85D5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3D91A-C9D5-45AF-9B3C-8FEFB0E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628F3-F9EA-4C85-8EF8-5669FED2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683DC-1DBA-4DB0-8E37-50C9B3FF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7E3AB-B84B-4771-B740-C65F88AE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658BD-5CB0-496D-8BDE-903156D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77024-13FC-4362-9D03-DC8ACCF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F5CAB-A01A-40F4-BFEA-26CE26B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39366-A498-42A0-9381-8399AA1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F5A-2B6F-4D9E-99D5-EE002DF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0EEAA-DC68-486A-A137-A8D83DED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4C14C-DF29-46E9-A654-744FD6E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A38F2-750C-4B4B-BCE7-7B740A8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3B08C-6733-4563-B937-6D948C2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06639-1EA1-46FB-82EF-E56A472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6E76B-E817-4286-82FE-8F3C7732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394DB-52B7-410C-BDCF-817731E6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40C5-95BB-4B53-AB77-9BD30E5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8FB-517E-436C-84A5-EC77FBE3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BB5-08FE-4F21-802C-B94FCDA6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7F43-81A1-4B9E-AC56-96774B26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365F-F396-44AC-9F08-9EDE9666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F26B-4B59-4909-852F-53FCF88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9107-005D-412C-9539-49504B6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3975-95CE-43A6-9AF2-B0D14482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DF0-9CC5-4223-8FA1-FF26D1F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2BDE-EC1A-4833-AA12-BCCB1DDC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8523-1C17-44C7-8800-22BA37A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292C-5F4A-41C7-A2FC-6D578BF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BFDB-E7AC-4105-A48B-E058977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37F9-A7C9-436E-97D4-AFE8BDDC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B5EC-40E7-4132-9916-F20F0E43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DE62-8A50-4213-AA47-4545AAB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7539-60F8-4282-8390-B0167687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4E44-8B99-4E9A-9907-00031B91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524E-15F0-407C-84C2-217DAF6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F83-2293-4042-BA0F-A423066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5AC4-7CFE-4947-9FF2-2B11D6F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EA86-59BC-49A1-AE68-87AF497A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FDD1-F8F1-46A2-BFB4-365CEA5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AC5A-A88B-4681-9D9A-1FE595A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500A-FFE9-4629-A552-B1555BB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9DC8-17EC-49BA-9F60-7853E6F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1293-CE7C-48A9-8F27-0E3D7D8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91D9-463B-41B0-9F25-E1BFF67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F079-0674-4F44-B009-A3FC6C67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C46BD-4526-40AB-8EF6-277AB901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272-821A-4BA5-81FB-240C74CE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A655-C77C-427E-A5E7-9E9F8332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7E00-CD5D-4B4C-B568-193113C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0F2DA-698F-49BC-9A58-60A69A4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95AA-D6E1-4841-B628-BFC9F40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9AC9-B43D-4138-8FD8-58AE067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24A2-48BB-43B0-B480-A0A6905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6193-6682-48E2-9C09-A5947A4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4944-1C37-45EE-ABFD-93657897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1892-8AD9-4DCC-81A4-4981AE6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5E21-921B-4BE7-8D04-58B37B23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7A3-834A-43BC-B970-5EBFE58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B48D-1879-4A05-A836-0F900456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4CA3-4DE8-48F5-9113-903DC740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9D8D-599B-462D-B4FD-F15F576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B740-E6C8-428E-A4B3-53A9443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8FE82-AEF8-42AD-B9E4-AF8AC13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5760-E12E-4CE3-809B-C4B4627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2E30-B04E-43A1-BFDE-26054A7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501B-49E6-4369-8C4A-08CE7E7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4F6B-BAE9-4FA3-B584-1E4E4D2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F064-ECC6-4DAB-A8CB-0BB9B52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8B9-0C98-446E-84F7-86DD99CC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DA8B-90A9-424F-8386-56F19A03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FED1-B5A6-4383-9D27-9FF44D04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A254-0825-4A1F-8B81-30209154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1E601-DD71-4064-B82B-F0E8A179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63931-466A-4E06-B802-9B20C463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EF794-09A8-4FDA-9153-7DA3DA1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50DD-22D1-4908-99A6-DE5FD9F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7E38-0A5E-4106-ADBC-827DCAD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85AA-6E29-42DA-90E9-7459572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FE35-E5CF-4333-9C98-67CF5E1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E25-E91C-4FE0-BA3E-47893D9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403AB-8FD9-43D5-A342-CF28944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7D2A-2622-4679-80DF-9082C9D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CD51-B2D5-40C0-BB0D-480933D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4F3C-4EFD-48BC-9013-9361396A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3CA0-A7D6-4B87-867B-1546C71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BA9D-727B-4AEA-9D96-50D49210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C841D-3647-4AA5-B91B-27D3B3F9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FFE6-EACE-4E9F-B4BA-8AB96DC1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163E-BEE9-4BBE-8E38-7702F94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3026F-20EA-4D57-B8CB-87E54D4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2DE-A1CD-4155-A8B8-7CD0BCA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BB9B-E127-45E1-A733-8537804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841D-549C-4251-8A6F-C45A433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E2DC-9F30-4D96-9E85-3B91F98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C98C-DA67-4C2B-B595-6AA5263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0166D-29EC-44CB-AFBB-F65A634B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2281A-26B2-48D2-B546-C41D5979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B89EE-5425-41B7-94A2-D0F120B9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155B-C88F-42C2-9D4E-DA622A25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A3E5D-1C89-41CB-BF73-FCE0DCFF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A8F5-C802-4110-9263-7C4B1DD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9F9-EF71-4B79-8DD9-D13F51BFBE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536-BCA0-41B1-A81C-6E4CF6254D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87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690F-7F80-415C-93A1-D54319D9D9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230-52BD-48C0-878A-7F4C1FB9CD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4B7-9571-45CD-9536-7D73A14D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17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sldNum" idx="4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2F2-0D3C-4AE6-AB5C-F6E8AF36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9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588-BA84-498D-8C5C-D214A46D7E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4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508-9DD9-4CEB-8425-62525CB8F2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95BE-608D-40A6-9B5F-4A6DB72A20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0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2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E21-D56E-49E6-ADE0-E7ABFC7B39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8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9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9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0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075-6209-4A51-AB63-B43D65BC2B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7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0942-1921-4A64-8C97-D6C449F826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f4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70A5-918F-4D3B-9632-30611363E7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11E-765E-4706-B7B8-EE979BC5D9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0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5C4D-31E1-41D9-B39F-6127331BDB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C630-65B0-4EAB-80DE-BD60C26C54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0C3-120F-43CB-A5A6-62BDC03890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F37E-1AC9-4E59-B01A-3A40CB6E8B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99"/>
                </a:solidFill>
                <a:latin typeface="Monotype Corsiva"/>
              </a:rPr>
              <a:t>“</a:t>
            </a:r>
            <a:r>
              <a:rPr b="1" lang="ru-RU" sz="6800" spc="-1" strike="noStrike">
                <a:solidFill>
                  <a:srgbClr val="006699"/>
                </a:solidFill>
                <a:latin typeface="Monotype Corsiva"/>
              </a:rPr>
              <a:t>Организация творческой деятельности учащихся на основе ТРИЗ и РТВ в учебном процессе</a:t>
            </a:r>
            <a:r>
              <a:rPr b="1" lang="en-US" sz="6800" spc="-1" strike="noStrike">
                <a:solidFill>
                  <a:srgbClr val="006699"/>
                </a:solidFill>
                <a:latin typeface="Monotype Corsiva"/>
              </a:rPr>
              <a:t>”</a:t>
            </a:r>
            <a:r>
              <a:rPr b="1" lang="ru-RU" sz="6800" spc="-1" strike="noStrike">
                <a:solidFill>
                  <a:srgbClr val="006699"/>
                </a:solidFill>
                <a:latin typeface="Monotype Corsiva"/>
              </a:rPr>
              <a:t>.</a:t>
            </a:r>
            <a:endParaRPr b="1" lang="en-US" sz="6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6699"/>
                </a:solidFill>
                <a:latin typeface="Monotype Corsiva"/>
              </a:rPr>
              <a:t>Корчагина О.В.</a:t>
            </a:r>
            <a:endParaRPr b="1" lang="en-US" sz="6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Моя визитка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Составь загадку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Придумай свой цвет (форму, материал, признак)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Изобрази свою память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Придумай сказку (историю) о...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Придумай новый воздушный шарик (обувь, одежду)"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Придумай телефон для глухих" и др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11280" y="54936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оздание нового"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353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«Какой объект?»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Учитель называет слово, дети подбирают признаки к данному предмету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Учить выделять существенный признак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«Угадай объект».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Ведущий описывает объект так, чтобы остальные догадались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«Оживление»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Наделить неживой предмет человеческими чувствами, мыслями, поступками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«Ключевое слово»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6699"/>
                </a:solidFill>
                <a:latin typeface="Verdana"/>
              </a:rPr>
              <a:t>Игроки подбирают к задуманному объекту сравнения с помощью слов «как», «подобно», «вроде»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476360" y="26028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ы на уроках русского языка: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ение сло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ись в определённую групп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дар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хождение орфограм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основание ассоциативного обр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50920" y="260280"/>
            <a:ext cx="8713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горитм для изучения новых слов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5616720" cy="6337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 словариков дете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ивотн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щ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сица – хищное живо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пит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питан с палубы корабля смотрел в да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7" name=""/>
          <p:cNvGraphicFramePr/>
          <p:nvPr/>
        </p:nvGraphicFramePr>
        <p:xfrm>
          <a:off x="179280" y="2492280"/>
          <a:ext cx="8785440" cy="1020960"/>
        </p:xfrm>
        <a:graphic>
          <a:graphicData uri="http://schemas.openxmlformats.org/drawingml/2006/table">
            <a:tbl>
              <a:tblPr/>
              <a:tblGrid>
                <a:gridCol w="878040"/>
                <a:gridCol w="879480"/>
                <a:gridCol w="877680"/>
                <a:gridCol w="879480"/>
                <a:gridCol w="878040"/>
                <a:gridCol w="878040"/>
                <a:gridCol w="879480"/>
                <a:gridCol w="877680"/>
                <a:gridCol w="879480"/>
                <a:gridCol w="878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Герой» 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расный цвет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2267280" y="169920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Волшебные дорожки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830320" y="3643920"/>
            <a:ext cx="4418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Волшебники»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Да - нет»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Путаница»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Найди пару»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«Назови соседей»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95280" y="47628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ы на уроках математ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01496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Основными целями курса намечен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системности, диалектичности мышл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продуктивного, пространственного, управляемого воображ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учение целенаправленному использованию эвристических и алгоритмических методов для выполнения творческих заданий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116000" y="189000"/>
            <a:ext cx="71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e21e1e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культативный курс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e21e1e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e21e1e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Уроки творчества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e21e1e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178920" y="234900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начальном этапе учащимся предлагается сделать выбор из представленных значков, отражающих различные аспекты рефлексии: эмоциональный настрой, вопросы по теме, узнал новое, встретил трудности, личные достижени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формление рефлексии как этапа урока для учащихся 1-го класса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684360" y="5157720"/>
            <a:ext cx="7703640" cy="1023480"/>
            <a:chOff x="684360" y="5157720"/>
            <a:chExt cx="7703640" cy="1023480"/>
          </a:xfrm>
        </p:grpSpPr>
        <p:grpSp>
          <p:nvGrpSpPr>
            <p:cNvPr id="975" name=""/>
            <p:cNvGrpSpPr/>
            <p:nvPr/>
          </p:nvGrpSpPr>
          <p:grpSpPr>
            <a:xfrm>
              <a:off x="684360" y="5157720"/>
              <a:ext cx="6448320" cy="830520"/>
              <a:chOff x="684360" y="5157720"/>
              <a:chExt cx="6448320" cy="830520"/>
            </a:xfrm>
          </p:grpSpPr>
          <p:graphicFrame>
            <p:nvGraphicFramePr>
              <p:cNvPr id="976" name=""/>
              <p:cNvGraphicFramePr/>
              <p:nvPr/>
            </p:nvGraphicFramePr>
            <p:xfrm>
              <a:off x="5935320" y="5556240"/>
              <a:ext cx="384120" cy="360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7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935320" y="5556240"/>
                        <a:ext cx="384120" cy="36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8" name=""/>
              <p:cNvGraphicFramePr/>
              <p:nvPr/>
            </p:nvGraphicFramePr>
            <p:xfrm>
              <a:off x="6485760" y="5375880"/>
              <a:ext cx="646920" cy="5324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7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85760" y="5375880"/>
                        <a:ext cx="646920" cy="53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9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004560" y="5579640"/>
                <a:ext cx="68436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50320" y="5598000"/>
                <a:ext cx="700200" cy="39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27080" y="5579640"/>
                <a:ext cx="700920" cy="39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2040" y="5579640"/>
                <a:ext cx="628200" cy="3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"/>
              <p:cNvSpPr/>
              <p:nvPr/>
            </p:nvSpPr>
            <p:spPr>
              <a:xfrm>
                <a:off x="684360" y="5157720"/>
                <a:ext cx="5552280" cy="31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99"/>
                    </a:solidFill>
                    <a:latin typeface="Arial"/>
                  </a:rPr>
                  <a:t>Итог урока.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pic>
            <p:nvPicPr>
              <p:cNvPr id="9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76360" y="5596920"/>
                <a:ext cx="662760" cy="32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6" name=""/>
            <p:cNvGrpSpPr/>
            <p:nvPr/>
          </p:nvGrpSpPr>
          <p:grpSpPr>
            <a:xfrm>
              <a:off x="7178040" y="5222160"/>
              <a:ext cx="1209960" cy="959040"/>
              <a:chOff x="7178040" y="5222160"/>
              <a:chExt cx="1209960" cy="959040"/>
            </a:xfrm>
          </p:grpSpPr>
          <p:sp>
            <p:nvSpPr>
              <p:cNvPr id="987" name=""/>
              <p:cNvSpPr/>
              <p:nvPr/>
            </p:nvSpPr>
            <p:spPr>
              <a:xfrm>
                <a:off x="7990200" y="5222160"/>
                <a:ext cx="397800" cy="508320"/>
              </a:xfrm>
              <a:custGeom>
                <a:avLst/>
                <a:gdLst/>
                <a:ahLst/>
                <a:rect l="l" t="t" r="r" b="b"/>
                <a:pathLst>
                  <a:path w="621" h="1044">
                    <a:moveTo>
                      <a:pt x="226" y="0"/>
                    </a:moveTo>
                    <a:lnTo>
                      <a:pt x="339" y="319"/>
                    </a:lnTo>
                    <a:lnTo>
                      <a:pt x="536" y="145"/>
                    </a:lnTo>
                    <a:lnTo>
                      <a:pt x="423" y="464"/>
                    </a:lnTo>
                    <a:lnTo>
                      <a:pt x="621" y="667"/>
                    </a:lnTo>
                    <a:lnTo>
                      <a:pt x="395" y="696"/>
                    </a:lnTo>
                    <a:lnTo>
                      <a:pt x="395" y="1044"/>
                    </a:lnTo>
                    <a:lnTo>
                      <a:pt x="282" y="754"/>
                    </a:lnTo>
                    <a:lnTo>
                      <a:pt x="85" y="928"/>
                    </a:lnTo>
                    <a:lnTo>
                      <a:pt x="170" y="609"/>
                    </a:lnTo>
                    <a:lnTo>
                      <a:pt x="0" y="406"/>
                    </a:lnTo>
                    <a:lnTo>
                      <a:pt x="198" y="37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719120" y="5235840"/>
                <a:ext cx="217800" cy="310680"/>
              </a:xfrm>
              <a:custGeom>
                <a:avLst/>
                <a:gdLst/>
                <a:ahLst/>
                <a:rect l="l" t="t" r="r" b="b"/>
                <a:pathLst>
                  <a:path w="339" h="638">
                    <a:moveTo>
                      <a:pt x="141" y="0"/>
                    </a:moveTo>
                    <a:lnTo>
                      <a:pt x="198" y="145"/>
                    </a:lnTo>
                    <a:lnTo>
                      <a:pt x="282" y="87"/>
                    </a:lnTo>
                    <a:lnTo>
                      <a:pt x="254" y="232"/>
                    </a:lnTo>
                    <a:lnTo>
                      <a:pt x="339" y="319"/>
                    </a:lnTo>
                    <a:lnTo>
                      <a:pt x="254" y="377"/>
                    </a:lnTo>
                    <a:lnTo>
                      <a:pt x="282" y="522"/>
                    </a:lnTo>
                    <a:lnTo>
                      <a:pt x="198" y="493"/>
                    </a:lnTo>
                    <a:lnTo>
                      <a:pt x="141" y="638"/>
                    </a:lnTo>
                    <a:lnTo>
                      <a:pt x="113" y="493"/>
                    </a:lnTo>
                    <a:lnTo>
                      <a:pt x="28" y="522"/>
                    </a:lnTo>
                    <a:lnTo>
                      <a:pt x="57" y="377"/>
                    </a:lnTo>
                    <a:lnTo>
                      <a:pt x="0" y="319"/>
                    </a:lnTo>
                    <a:lnTo>
                      <a:pt x="57" y="232"/>
                    </a:lnTo>
                    <a:lnTo>
                      <a:pt x="28" y="87"/>
                    </a:lnTo>
                    <a:lnTo>
                      <a:pt x="113" y="145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846200" y="5857200"/>
                <a:ext cx="216720" cy="324000"/>
              </a:xfrm>
              <a:custGeom>
                <a:avLst/>
                <a:gdLst/>
                <a:ahLst/>
                <a:rect l="l" t="t" r="r" b="b"/>
                <a:pathLst>
                  <a:path w="338" h="667">
                    <a:moveTo>
                      <a:pt x="169" y="0"/>
                    </a:moveTo>
                    <a:lnTo>
                      <a:pt x="197" y="174"/>
                    </a:lnTo>
                    <a:lnTo>
                      <a:pt x="282" y="87"/>
                    </a:lnTo>
                    <a:lnTo>
                      <a:pt x="254" y="261"/>
                    </a:lnTo>
                    <a:lnTo>
                      <a:pt x="338" y="348"/>
                    </a:lnTo>
                    <a:lnTo>
                      <a:pt x="254" y="377"/>
                    </a:lnTo>
                    <a:lnTo>
                      <a:pt x="282" y="551"/>
                    </a:lnTo>
                    <a:lnTo>
                      <a:pt x="197" y="493"/>
                    </a:lnTo>
                    <a:lnTo>
                      <a:pt x="169" y="667"/>
                    </a:lnTo>
                    <a:lnTo>
                      <a:pt x="141" y="493"/>
                    </a:lnTo>
                    <a:lnTo>
                      <a:pt x="56" y="551"/>
                    </a:lnTo>
                    <a:lnTo>
                      <a:pt x="84" y="377"/>
                    </a:lnTo>
                    <a:lnTo>
                      <a:pt x="0" y="348"/>
                    </a:lnTo>
                    <a:lnTo>
                      <a:pt x="84" y="261"/>
                    </a:lnTo>
                    <a:lnTo>
                      <a:pt x="56" y="87"/>
                    </a:lnTo>
                    <a:lnTo>
                      <a:pt x="141" y="174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413840" y="5331960"/>
                <a:ext cx="216000" cy="324720"/>
              </a:xfrm>
              <a:custGeom>
                <a:avLst/>
                <a:gdLst/>
                <a:ahLst/>
                <a:rect l="l" t="t" r="r" b="b"/>
                <a:pathLst>
                  <a:path w="338" h="667">
                    <a:moveTo>
                      <a:pt x="169" y="0"/>
                    </a:moveTo>
                    <a:lnTo>
                      <a:pt x="197" y="145"/>
                    </a:lnTo>
                    <a:lnTo>
                      <a:pt x="282" y="116"/>
                    </a:lnTo>
                    <a:lnTo>
                      <a:pt x="254" y="290"/>
                    </a:lnTo>
                    <a:lnTo>
                      <a:pt x="338" y="319"/>
                    </a:lnTo>
                    <a:lnTo>
                      <a:pt x="254" y="406"/>
                    </a:lnTo>
                    <a:lnTo>
                      <a:pt x="282" y="580"/>
                    </a:lnTo>
                    <a:lnTo>
                      <a:pt x="197" y="522"/>
                    </a:lnTo>
                    <a:lnTo>
                      <a:pt x="169" y="667"/>
                    </a:lnTo>
                    <a:lnTo>
                      <a:pt x="141" y="522"/>
                    </a:lnTo>
                    <a:lnTo>
                      <a:pt x="56" y="580"/>
                    </a:lnTo>
                    <a:lnTo>
                      <a:pt x="84" y="406"/>
                    </a:lnTo>
                    <a:lnTo>
                      <a:pt x="0" y="319"/>
                    </a:lnTo>
                    <a:lnTo>
                      <a:pt x="84" y="290"/>
                    </a:lnTo>
                    <a:lnTo>
                      <a:pt x="56" y="116"/>
                    </a:lnTo>
                    <a:lnTo>
                      <a:pt x="141" y="145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7280" y="5758200"/>
                <a:ext cx="216000" cy="310680"/>
              </a:xfrm>
              <a:custGeom>
                <a:avLst/>
                <a:gdLst/>
                <a:ahLst/>
                <a:rect l="l" t="t" r="r" b="b"/>
                <a:pathLst>
                  <a:path w="338" h="638">
                    <a:moveTo>
                      <a:pt x="169" y="0"/>
                    </a:moveTo>
                    <a:lnTo>
                      <a:pt x="197" y="145"/>
                    </a:lnTo>
                    <a:lnTo>
                      <a:pt x="282" y="87"/>
                    </a:lnTo>
                    <a:lnTo>
                      <a:pt x="254" y="232"/>
                    </a:lnTo>
                    <a:lnTo>
                      <a:pt x="338" y="319"/>
                    </a:lnTo>
                    <a:lnTo>
                      <a:pt x="254" y="406"/>
                    </a:lnTo>
                    <a:lnTo>
                      <a:pt x="282" y="551"/>
                    </a:lnTo>
                    <a:lnTo>
                      <a:pt x="197" y="493"/>
                    </a:lnTo>
                    <a:lnTo>
                      <a:pt x="169" y="638"/>
                    </a:lnTo>
                    <a:lnTo>
                      <a:pt x="141" y="493"/>
                    </a:lnTo>
                    <a:lnTo>
                      <a:pt x="56" y="551"/>
                    </a:lnTo>
                    <a:lnTo>
                      <a:pt x="84" y="406"/>
                    </a:lnTo>
                    <a:lnTo>
                      <a:pt x="0" y="319"/>
                    </a:lnTo>
                    <a:lnTo>
                      <a:pt x="84" y="232"/>
                    </a:lnTo>
                    <a:lnTo>
                      <a:pt x="56" y="87"/>
                    </a:lnTo>
                    <a:lnTo>
                      <a:pt x="141" y="145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78040" y="5546880"/>
                <a:ext cx="198000" cy="324360"/>
              </a:xfrm>
              <a:custGeom>
                <a:avLst/>
                <a:gdLst/>
                <a:ahLst/>
                <a:rect l="l" t="t" r="r" b="b"/>
                <a:pathLst>
                  <a:path w="310" h="667">
                    <a:moveTo>
                      <a:pt x="141" y="0"/>
                    </a:moveTo>
                    <a:lnTo>
                      <a:pt x="197" y="145"/>
                    </a:lnTo>
                    <a:lnTo>
                      <a:pt x="282" y="87"/>
                    </a:lnTo>
                    <a:lnTo>
                      <a:pt x="254" y="232"/>
                    </a:lnTo>
                    <a:lnTo>
                      <a:pt x="310" y="319"/>
                    </a:lnTo>
                    <a:lnTo>
                      <a:pt x="254" y="377"/>
                    </a:lnTo>
                    <a:lnTo>
                      <a:pt x="282" y="551"/>
                    </a:lnTo>
                    <a:lnTo>
                      <a:pt x="197" y="522"/>
                    </a:lnTo>
                    <a:lnTo>
                      <a:pt x="141" y="667"/>
                    </a:lnTo>
                    <a:lnTo>
                      <a:pt x="113" y="522"/>
                    </a:lnTo>
                    <a:lnTo>
                      <a:pt x="28" y="551"/>
                    </a:lnTo>
                    <a:lnTo>
                      <a:pt x="56" y="377"/>
                    </a:lnTo>
                    <a:lnTo>
                      <a:pt x="0" y="319"/>
                    </a:lnTo>
                    <a:lnTo>
                      <a:pt x="56" y="232"/>
                    </a:lnTo>
                    <a:lnTo>
                      <a:pt x="28" y="87"/>
                    </a:lnTo>
                    <a:lnTo>
                      <a:pt x="113" y="145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75120" y="5692320"/>
                <a:ext cx="216720" cy="310680"/>
              </a:xfrm>
              <a:custGeom>
                <a:avLst/>
                <a:gdLst/>
                <a:ahLst/>
                <a:rect l="l" t="t" r="r" b="b"/>
                <a:pathLst>
                  <a:path w="338" h="638">
                    <a:moveTo>
                      <a:pt x="141" y="0"/>
                    </a:moveTo>
                    <a:lnTo>
                      <a:pt x="197" y="145"/>
                    </a:lnTo>
                    <a:lnTo>
                      <a:pt x="282" y="87"/>
                    </a:lnTo>
                    <a:lnTo>
                      <a:pt x="253" y="232"/>
                    </a:lnTo>
                    <a:lnTo>
                      <a:pt x="338" y="319"/>
                    </a:lnTo>
                    <a:lnTo>
                      <a:pt x="253" y="406"/>
                    </a:lnTo>
                    <a:lnTo>
                      <a:pt x="282" y="551"/>
                    </a:lnTo>
                    <a:lnTo>
                      <a:pt x="197" y="493"/>
                    </a:lnTo>
                    <a:lnTo>
                      <a:pt x="141" y="638"/>
                    </a:lnTo>
                    <a:lnTo>
                      <a:pt x="141" y="493"/>
                    </a:lnTo>
                    <a:lnTo>
                      <a:pt x="28" y="551"/>
                    </a:lnTo>
                    <a:lnTo>
                      <a:pt x="84" y="406"/>
                    </a:lnTo>
                    <a:lnTo>
                      <a:pt x="0" y="319"/>
                    </a:lnTo>
                    <a:lnTo>
                      <a:pt x="84" y="232"/>
                    </a:lnTo>
                    <a:lnTo>
                      <a:pt x="28" y="87"/>
                    </a:lnTo>
                    <a:lnTo>
                      <a:pt x="141" y="145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46200" y="5546880"/>
                <a:ext cx="216720" cy="310320"/>
              </a:xfrm>
              <a:custGeom>
                <a:avLst/>
                <a:gdLst/>
                <a:ahLst/>
                <a:rect l="l" t="t" r="r" b="b"/>
                <a:pathLst>
                  <a:path w="338" h="638">
                    <a:moveTo>
                      <a:pt x="169" y="0"/>
                    </a:moveTo>
                    <a:lnTo>
                      <a:pt x="225" y="145"/>
                    </a:lnTo>
                    <a:lnTo>
                      <a:pt x="282" y="87"/>
                    </a:lnTo>
                    <a:lnTo>
                      <a:pt x="254" y="261"/>
                    </a:lnTo>
                    <a:lnTo>
                      <a:pt x="338" y="319"/>
                    </a:lnTo>
                    <a:lnTo>
                      <a:pt x="254" y="377"/>
                    </a:lnTo>
                    <a:lnTo>
                      <a:pt x="282" y="551"/>
                    </a:lnTo>
                    <a:lnTo>
                      <a:pt x="225" y="493"/>
                    </a:lnTo>
                    <a:lnTo>
                      <a:pt x="169" y="638"/>
                    </a:lnTo>
                    <a:lnTo>
                      <a:pt x="141" y="493"/>
                    </a:lnTo>
                    <a:lnTo>
                      <a:pt x="56" y="551"/>
                    </a:lnTo>
                    <a:lnTo>
                      <a:pt x="84" y="377"/>
                    </a:lnTo>
                    <a:lnTo>
                      <a:pt x="0" y="319"/>
                    </a:lnTo>
                    <a:lnTo>
                      <a:pt x="84" y="261"/>
                    </a:lnTo>
                    <a:lnTo>
                      <a:pt x="56" y="87"/>
                    </a:lnTo>
                    <a:lnTo>
                      <a:pt x="141" y="145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"/>
          <p:cNvSpPr txBox="1"/>
          <p:nvPr/>
        </p:nvSpPr>
        <p:spPr>
          <a:xfrm>
            <a:off x="971640" y="260280"/>
            <a:ext cx="78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организации рефлекс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1115640" y="691920"/>
            <a:ext cx="7488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дальнейшем уровень развития рефлексивных       способностей учащихся позволяет самостоятельно выбирать аспекты рефлексии (для их обозначения используются символы градусника и ступеней) и пользоваться вербальными памятками («Спроси себя в конце урока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формление рефлексии как этапа урока для учащихся 2-го клас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042920" y="5013360"/>
            <a:ext cx="7560720" cy="1207800"/>
            <a:chOff x="1042920" y="5013360"/>
            <a:chExt cx="7560720" cy="1207800"/>
          </a:xfrm>
        </p:grpSpPr>
        <p:sp>
          <p:nvSpPr>
            <p:cNvPr id="998" name=""/>
            <p:cNvSpPr/>
            <p:nvPr/>
          </p:nvSpPr>
          <p:spPr>
            <a:xfrm>
              <a:off x="1123920" y="5013360"/>
              <a:ext cx="15850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Итог урока.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1042920" y="5617080"/>
              <a:ext cx="4593600" cy="604080"/>
              <a:chOff x="1042920" y="5617080"/>
              <a:chExt cx="4593600" cy="604080"/>
            </a:xfrm>
          </p:grpSpPr>
          <p:sp>
            <p:nvSpPr>
              <p:cNvPr id="1000" name=""/>
              <p:cNvSpPr/>
              <p:nvPr/>
            </p:nvSpPr>
            <p:spPr>
              <a:xfrm>
                <a:off x="1042920" y="5617080"/>
                <a:ext cx="4593600" cy="604080"/>
              </a:xfrm>
              <a:prstGeom prst="flowChartTerminator">
                <a:avLst/>
              </a:prstGeom>
              <a:solidFill>
                <a:srgbClr val="00cc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1272240" y="5770800"/>
                <a:ext cx="3674520" cy="315000"/>
                <a:chOff x="1272240" y="5770800"/>
                <a:chExt cx="3674520" cy="3150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1341360" y="5834160"/>
                  <a:ext cx="3605400" cy="150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272240" y="5770800"/>
                  <a:ext cx="244440" cy="315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"/>
            <p:cNvSpPr txBox="1"/>
            <p:nvPr/>
          </p:nvSpPr>
          <p:spPr>
            <a:xfrm rot="5400000">
              <a:off x="7670520" y="4636080"/>
              <a:ext cx="496080" cy="1369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7384680" y="5617080"/>
              <a:ext cx="1026720" cy="49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1234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5839920" y="5415840"/>
              <a:ext cx="1178640" cy="805320"/>
              <a:chOff x="5839920" y="5415840"/>
              <a:chExt cx="1178640" cy="805320"/>
            </a:xfrm>
          </p:grpSpPr>
          <p:grpSp>
            <p:nvGrpSpPr>
              <p:cNvPr id="1007" name=""/>
              <p:cNvGrpSpPr/>
              <p:nvPr/>
            </p:nvGrpSpPr>
            <p:grpSpPr>
              <a:xfrm>
                <a:off x="5839920" y="5719320"/>
                <a:ext cx="721800" cy="501840"/>
                <a:chOff x="5839920" y="5719320"/>
                <a:chExt cx="721800" cy="50184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839920" y="5877720"/>
                  <a:ext cx="481320" cy="343440"/>
                </a:xfrm>
                <a:prstGeom prst="cube">
                  <a:avLst>
                    <a:gd name="adj" fmla="val 76078"/>
                  </a:avLst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080400" y="5719320"/>
                  <a:ext cx="481320" cy="343440"/>
                </a:xfrm>
                <a:prstGeom prst="cube">
                  <a:avLst>
                    <a:gd name="adj" fmla="val 76078"/>
                  </a:avLst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296760" y="5415840"/>
                <a:ext cx="721800" cy="501840"/>
                <a:chOff x="6296760" y="5415840"/>
                <a:chExt cx="721800" cy="50184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296760" y="5574240"/>
                  <a:ext cx="481320" cy="343440"/>
                </a:xfrm>
                <a:prstGeom prst="cube">
                  <a:avLst>
                    <a:gd name="adj" fmla="val 76078"/>
                  </a:avLst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37240" y="5415840"/>
                  <a:ext cx="481320" cy="343440"/>
                </a:xfrm>
                <a:prstGeom prst="cube">
                  <a:avLst>
                    <a:gd name="adj" fmla="val 76078"/>
                  </a:avLst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1187280" y="259920"/>
            <a:ext cx="77724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заключительной стадии обучения в начальной школе учащимся предлагается самостоятельной оценивать задания по этим же показателям, что также отражено в рабочей тетрад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формление рефлексии как этапа урока для учащихся 3-4-х класс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468360" y="3789360"/>
          <a:ext cx="8207280" cy="2095560"/>
        </p:xfrm>
        <a:graphic>
          <a:graphicData uri="http://schemas.openxmlformats.org/drawingml/2006/table">
            <a:tbl>
              <a:tblPr/>
              <a:tblGrid>
                <a:gridCol w="1606680"/>
                <a:gridCol w="942840"/>
                <a:gridCol w="942840"/>
                <a:gridCol w="943200"/>
                <a:gridCol w="942840"/>
                <a:gridCol w="942840"/>
                <a:gridCol w="944640"/>
                <a:gridCol w="941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V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м.з.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уманнос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визн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6012000" y="3860640"/>
          <a:ext cx="71892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3860640"/>
                    <a:ext cx="718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8" name=""/>
          <p:cNvGrpSpPr/>
          <p:nvPr/>
        </p:nvGrpSpPr>
        <p:grpSpPr>
          <a:xfrm>
            <a:off x="7885080" y="3860640"/>
            <a:ext cx="719280" cy="504720"/>
            <a:chOff x="7885080" y="3860640"/>
            <a:chExt cx="719280" cy="504720"/>
          </a:xfrm>
        </p:grpSpPr>
        <p:sp>
          <p:nvSpPr>
            <p:cNvPr id="1019" name=""/>
            <p:cNvSpPr/>
            <p:nvPr/>
          </p:nvSpPr>
          <p:spPr>
            <a:xfrm>
              <a:off x="8301600" y="3860640"/>
              <a:ext cx="302760" cy="477000"/>
            </a:xfrm>
            <a:custGeom>
              <a:avLst/>
              <a:gdLst/>
              <a:ahLst/>
              <a:rect l="l" t="t" r="r" b="b"/>
              <a:pathLst>
                <a:path w="621" h="1044">
                  <a:moveTo>
                    <a:pt x="226" y="0"/>
                  </a:moveTo>
                  <a:lnTo>
                    <a:pt x="339" y="319"/>
                  </a:lnTo>
                  <a:lnTo>
                    <a:pt x="536" y="145"/>
                  </a:lnTo>
                  <a:lnTo>
                    <a:pt x="423" y="464"/>
                  </a:lnTo>
                  <a:lnTo>
                    <a:pt x="621" y="667"/>
                  </a:lnTo>
                  <a:lnTo>
                    <a:pt x="395" y="696"/>
                  </a:lnTo>
                  <a:lnTo>
                    <a:pt x="395" y="1044"/>
                  </a:lnTo>
                  <a:lnTo>
                    <a:pt x="282" y="754"/>
                  </a:lnTo>
                  <a:lnTo>
                    <a:pt x="85" y="928"/>
                  </a:lnTo>
                  <a:lnTo>
                    <a:pt x="170" y="609"/>
                  </a:lnTo>
                  <a:lnTo>
                    <a:pt x="0" y="406"/>
                  </a:lnTo>
                  <a:lnTo>
                    <a:pt x="198" y="37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85080" y="4074120"/>
              <a:ext cx="164520" cy="291240"/>
            </a:xfrm>
            <a:custGeom>
              <a:avLst/>
              <a:gdLst/>
              <a:ahLst/>
              <a:rect l="l" t="t" r="r" b="b"/>
              <a:pathLst>
                <a:path w="338" h="638">
                  <a:moveTo>
                    <a:pt x="169" y="0"/>
                  </a:moveTo>
                  <a:lnTo>
                    <a:pt x="225" y="145"/>
                  </a:lnTo>
                  <a:lnTo>
                    <a:pt x="282" y="87"/>
                  </a:lnTo>
                  <a:lnTo>
                    <a:pt x="254" y="261"/>
                  </a:lnTo>
                  <a:lnTo>
                    <a:pt x="338" y="319"/>
                  </a:lnTo>
                  <a:lnTo>
                    <a:pt x="254" y="377"/>
                  </a:lnTo>
                  <a:lnTo>
                    <a:pt x="282" y="551"/>
                  </a:lnTo>
                  <a:lnTo>
                    <a:pt x="225" y="493"/>
                  </a:lnTo>
                  <a:lnTo>
                    <a:pt x="169" y="638"/>
                  </a:lnTo>
                  <a:lnTo>
                    <a:pt x="141" y="493"/>
                  </a:lnTo>
                  <a:lnTo>
                    <a:pt x="56" y="551"/>
                  </a:lnTo>
                  <a:lnTo>
                    <a:pt x="84" y="377"/>
                  </a:lnTo>
                  <a:lnTo>
                    <a:pt x="0" y="319"/>
                  </a:lnTo>
                  <a:lnTo>
                    <a:pt x="84" y="261"/>
                  </a:lnTo>
                  <a:lnTo>
                    <a:pt x="56" y="87"/>
                  </a:lnTo>
                  <a:lnTo>
                    <a:pt x="141" y="145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79480" y="3967200"/>
              <a:ext cx="164520" cy="291240"/>
            </a:xfrm>
            <a:custGeom>
              <a:avLst/>
              <a:gdLst/>
              <a:ahLst/>
              <a:rect l="l" t="t" r="r" b="b"/>
              <a:pathLst>
                <a:path w="338" h="638">
                  <a:moveTo>
                    <a:pt x="169" y="0"/>
                  </a:moveTo>
                  <a:lnTo>
                    <a:pt x="225" y="145"/>
                  </a:lnTo>
                  <a:lnTo>
                    <a:pt x="282" y="87"/>
                  </a:lnTo>
                  <a:lnTo>
                    <a:pt x="254" y="261"/>
                  </a:lnTo>
                  <a:lnTo>
                    <a:pt x="338" y="319"/>
                  </a:lnTo>
                  <a:lnTo>
                    <a:pt x="254" y="377"/>
                  </a:lnTo>
                  <a:lnTo>
                    <a:pt x="282" y="551"/>
                  </a:lnTo>
                  <a:lnTo>
                    <a:pt x="225" y="493"/>
                  </a:lnTo>
                  <a:lnTo>
                    <a:pt x="169" y="638"/>
                  </a:lnTo>
                  <a:lnTo>
                    <a:pt x="141" y="493"/>
                  </a:lnTo>
                  <a:lnTo>
                    <a:pt x="56" y="551"/>
                  </a:lnTo>
                  <a:lnTo>
                    <a:pt x="84" y="377"/>
                  </a:lnTo>
                  <a:lnTo>
                    <a:pt x="0" y="319"/>
                  </a:lnTo>
                  <a:lnTo>
                    <a:pt x="84" y="261"/>
                  </a:lnTo>
                  <a:lnTo>
                    <a:pt x="56" y="87"/>
                  </a:lnTo>
                  <a:lnTo>
                    <a:pt x="141" y="145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169236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1403280" y="0"/>
            <a:ext cx="7416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cap="rnd" w="9360">
                  <a:solidFill>
                    <a:srgbClr val="80008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ка творческого задания.</a:t>
            </a:r>
            <a:endParaRPr b="0" lang="en-US" sz="4400" spc="1" strike="noStrike">
              <a:ln cap="rnd" w="9360">
                <a:solidFill>
                  <a:srgbClr val="80008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755640" y="184464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0099"/>
                </a:solidFill>
                <a:latin typeface="Garamond"/>
              </a:rPr>
              <a:t>1. Новизна.</a:t>
            </a:r>
            <a:br>
              <a:rPr sz="5100"/>
            </a:br>
            <a:r>
              <a:rPr b="0" lang="en-US" sz="5100" spc="-1" strike="noStrike">
                <a:solidFill>
                  <a:srgbClr val="990099"/>
                </a:solidFill>
                <a:latin typeface="Garamond"/>
              </a:rPr>
              <a:t>2. Убедительность.</a:t>
            </a:r>
            <a:br>
              <a:rPr sz="5100"/>
            </a:br>
            <a:r>
              <a:rPr b="0" lang="en-US" sz="5100" spc="-1" strike="noStrike">
                <a:solidFill>
                  <a:srgbClr val="990099"/>
                </a:solidFill>
                <a:latin typeface="Garamond"/>
              </a:rPr>
              <a:t>3. Гуманность.</a:t>
            </a:r>
            <a:br>
              <a:rPr sz="5100"/>
            </a:br>
            <a:r>
              <a:rPr b="0" lang="en-US" sz="5100" spc="-1" strike="noStrike">
                <a:solidFill>
                  <a:srgbClr val="990099"/>
                </a:solidFill>
                <a:latin typeface="Garamond"/>
              </a:rPr>
              <a:t>4. Художественная ценность.</a:t>
            </a:r>
            <a:br>
              <a:rPr sz="5100"/>
            </a:br>
            <a:r>
              <a:rPr b="0" lang="en-US" sz="5100" spc="-1" strike="noStrike">
                <a:solidFill>
                  <a:srgbClr val="990099"/>
                </a:solidFill>
                <a:latin typeface="Garamond"/>
              </a:rPr>
              <a:t>5. Субъективная оценка.</a:t>
            </a:r>
            <a:endParaRPr b="0" lang="en-US" sz="51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539640" y="333360"/>
            <a:ext cx="806472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Значение воображения 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в интеллектуальном 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развитии ребёнка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162160" y="286920"/>
            <a:ext cx="518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Упражнение 1.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74560" y="1628640"/>
            <a:ext cx="8569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сните на что похожи объект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ла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лнц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блок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ивая ли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уголь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304720" y="286920"/>
            <a:ext cx="51814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Упражнение 2.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сходства и различ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 предмет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ок и ягод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тье и костю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ат и рассве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на и гор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вадрат и кр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736720" y="28692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Упражнения.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исуй рисунок, назов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думай предложение со словами: жук-стул, рыба-пожар, кит-сигарета, мухомор-див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 рассказ с крылатым выра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 рассказ со сказочными персонаж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 рассказ из слов по порядку: солнце, дорога, шляпа, волк, остров, корабль, черепаха, радость, лес, слё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Arial Black"/>
              </a:rPr>
              <a:t>Методика Вартега «Круги»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762120" y="2649600"/>
            <a:ext cx="76960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глость (количество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бкость (количество классов рисунк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игин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1379520" y="1827360"/>
          <a:ext cx="7302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1827360"/>
                    <a:ext cx="730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9" name=""/>
          <p:cNvSpPr/>
          <p:nvPr/>
        </p:nvSpPr>
        <p:spPr>
          <a:xfrm>
            <a:off x="468360" y="4387680"/>
            <a:ext cx="363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Результаты исследо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61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Ум – это подарок пред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 дню рождени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Интерес – мотор жизнедеятельност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Интеллект – визитная карточка ум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Используемая литератур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Выготский Л.С. Воображение и творчество в детском возрасте: Псих. очерк: кн. для учителя. – М.: Просвещение, 1991. – 93 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М. Гафитулин, Т. Попова. Сайт –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rizminsk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rg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\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\23203.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ht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едагогика + ТРИЗ: Сб. статей для учителей, воспитателей и менеджеров образования / М.: 200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Гин С. И. Мир Фантазии: Метод. Пособие для учителей начальных классов./ Гомель, 1995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Развитие креативных способностей младших школьников в учебном процессе: Метод. рекомендации по курсу «Уроки творчества» для родителей – Челябинск: 2005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178920" y="907560"/>
            <a:ext cx="871380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ображение — это возможность человека создавать новые образы (представления) путем переработки опыта, высшая психическая функция, отражающая действительнос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1332000" y="404640"/>
            <a:ext cx="6335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Воображение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947" name=""/>
          <p:cNvSpPr/>
          <p:nvPr/>
        </p:nvSpPr>
        <p:spPr>
          <a:xfrm>
            <a:off x="928080" y="1916280"/>
            <a:ext cx="742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это способность человека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мысленно представлять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объекты, ситуации, явления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948" name=""/>
          <p:cNvCxnSpPr/>
          <p:nvPr/>
        </p:nvCxnSpPr>
        <p:spPr>
          <a:xfrm>
            <a:off x="5219280" y="3860640"/>
            <a:ext cx="577080" cy="721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949" name=""/>
          <p:cNvCxnSpPr/>
          <p:nvPr/>
        </p:nvCxnSpPr>
        <p:spPr>
          <a:xfrm flipH="1">
            <a:off x="2986920" y="3933720"/>
            <a:ext cx="577080" cy="720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50" name=""/>
          <p:cNvSpPr/>
          <p:nvPr/>
        </p:nvSpPr>
        <p:spPr>
          <a:xfrm>
            <a:off x="329040" y="5084640"/>
            <a:ext cx="38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воссоздающе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207760" y="5084640"/>
            <a:ext cx="30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творческо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cc"/>
                </a:solidFill>
                <a:latin typeface="Verdana"/>
              </a:rPr>
              <a:t>Воссоздающее воображение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позволяет представлять объекты, ситуации, явления, которые человек видел раньше или знает их описание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Verdana"/>
              </a:rPr>
              <a:t>Творческое воображение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позволяет представить новое, о котором никто ничего не знает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Творческое воображение можно развивать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6337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990033"/>
                </a:solidFill>
                <a:latin typeface="Monotype Corsiva"/>
              </a:rPr>
              <a:t>Зачем развивать </a:t>
            </a:r>
            <a:br>
              <a:rPr sz="5700"/>
            </a:br>
            <a:r>
              <a:rPr b="0" lang="en-US" sz="5700" spc="-1" strike="noStrike">
                <a:solidFill>
                  <a:srgbClr val="990033"/>
                </a:solidFill>
                <a:latin typeface="Monotype Corsiva"/>
              </a:rPr>
              <a:t>воображение?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можность выполнения творческих зад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вать новое на высоком творческом уров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имость создания нового объекта может быть различной: для себя, для других, для вс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Сущность требований к творческим задания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крытость (содержание проблемной ситуации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ответствие условия выбранным методам творчест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зможность разных способов решен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чёт актуального уровня разви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чёт возрастных особенностей учащих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900000" y="0"/>
            <a:ext cx="705672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?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ritannic Bold"/>
              </a:rPr>
              <a:t>Методы и приёмы РТВ с элементами ТРИЗ, направленные на интеллектуальное развитие учащих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ы создания речевых творческих продуктов (загадки, метафоры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а Лулл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приёмы фантазирова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ный операто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амостоятельной постановке ТЗ учащими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ять использование методов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ть на идеальный конечный результа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овать разноуровневость Т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ять оригинальные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апная рефлек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ТЗ должно заканчиваться получением творческого продукта, значимого для учащего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611280" y="0"/>
            <a:ext cx="806436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ганизация работы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творческим заданием.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8:52:44Z</dcterms:created>
  <dc:creator>Uzer</dc:creator>
  <dc:description/>
  <dc:language>en-US</dc:language>
  <cp:lastModifiedBy>Uzer</cp:lastModifiedBy>
  <dcterms:modified xsi:type="dcterms:W3CDTF">2013-05-28T20:46:49Z</dcterms:modified>
  <cp:revision>2</cp:revision>
  <dc:subject/>
  <dc:title>Слайд 1</dc:title>
</cp:coreProperties>
</file>