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178-3AD9-4A2C-8975-DBE706CA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E44-408C-4D2F-B0FF-31384006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524-ACCA-4B20-A194-36498D05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EE0-4443-4567-B523-D7CBA772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8C1-4847-4394-860E-7AACD4A6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7E1-BBBE-4050-ACFB-63B60194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0A0-10B7-467F-8A98-FD5D5F2F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F98-B2B6-4A44-8C04-E1762540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D6F-89CB-4F9D-8F10-576B3C33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66F-3CC2-49D3-A63C-680DC689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E5A-DAC8-42F4-8EBE-9C3F6007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D75-221E-4EC6-AA3A-014B7B9D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5185-CE25-4291-A493-8C28E632F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oper Black"/>
              </a:rPr>
              <a:t>We speak </a:t>
            </a:r>
            <a:br>
              <a:rPr sz="6000"/>
            </a:br>
            <a:r>
              <a:rPr b="0" lang="en-US" sz="6000" spc="-1" strike="noStrike">
                <a:solidFill>
                  <a:srgbClr val="660066"/>
                </a:solidFill>
                <a:latin typeface="Cooper Black"/>
              </a:rPr>
              <a:t>about weat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Demi ITC"/>
              </a:rPr>
              <a:t>Repeat th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24320" y="2743200"/>
            <a:ext cx="391968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We say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oper Black"/>
              </a:rPr>
              <a:t>It is cold = It’s c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7150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Demi ITC"/>
              </a:rPr>
              <a:t>Say what the weather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oper Black"/>
              </a:rPr>
              <a:t>It’s            …           in wint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91320" y="152388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oper Black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8280" y="2278080"/>
            <a:ext cx="47246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oper Black"/>
              </a:rPr>
              <a:t>…          …        </a:t>
            </a:r>
            <a:r>
              <a:rPr b="0" lang="en-US" sz="4000" spc="-1" strike="noStrike">
                <a:solidFill>
                  <a:srgbClr val="cc0000"/>
                </a:solidFill>
                <a:latin typeface="Cooper Black"/>
              </a:rPr>
              <a:t>in Afr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69320" y="0"/>
            <a:ext cx="26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Eras Demi ITC"/>
              </a:rPr>
              <a:t>It’s     h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229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rainy in Lond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55560" y="316080"/>
            <a:ext cx="8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ras Demi ITC"/>
              </a:rPr>
              <a:t>I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852560"/>
            <a:ext cx="5105520" cy="441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3065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oper Black"/>
              </a:rPr>
              <a:t>… </a:t>
            </a:r>
            <a:r>
              <a:rPr b="0" lang="en-US" sz="4400" spc="-1" strike="noStrike">
                <a:solidFill>
                  <a:srgbClr val="333399"/>
                </a:solidFill>
                <a:latin typeface="Cooper Black"/>
              </a:rPr>
              <a:t>warm i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29480" y="380880"/>
            <a:ext cx="53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Cooper Black"/>
              </a:rPr>
              <a:t>It’s                     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38760" y="114300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211464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06T09:18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