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F51-E9EF-4C2C-A5BC-0747A228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EEB-1D0E-4806-95B1-21198D4F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B91-F99F-4560-8B4F-537A2997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2A8-2DAD-42F4-B7AA-FBAC3EBF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C9D-49D3-4C32-8933-CAADE22C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3B4-BFEB-4865-AE08-C2D04C0A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14C-B647-4241-A1F6-3D4255A1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699-E935-4361-B707-81B8E4CD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55F-D3A4-490B-9766-088C4DE1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D8C-9F54-45E3-BC4A-9EAB6BCF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967-DDBC-40B0-98B3-5E7B6CA8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E1F-5C50-464C-B92F-7666236F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FDC7-8A98-4951-BC77-B74D0A575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 Слож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гл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есятков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 34–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205000"/>
            <a:ext cx="856908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ми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а тарелке лежало 6 пирожных. Два из них разрезали пополам. Сколько пирожных стало на тарел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В одной коробке 40 конфет, а в другой наполовину меньше. Чему равна половина половины всех конф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мин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Мама поставила на стол 9 чашек, из них перевернули вверх дном 2 чашки. Сколько чашек стало на ст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ери лишнюю величи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 м, 3 см, 14 мм, 6 кг, 75 дм, 3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 закономерность и продолжи ря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2 дм, 6 см, 10 кг, 14 дм,  ___ см,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13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    Сложе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углы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десятков.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 34–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79515" t="0" r="0" b="68188"/>
          <a:stretch/>
        </p:blipFill>
        <p:spPr>
          <a:xfrm>
            <a:off x="611280" y="1700280"/>
            <a:ext cx="1976400" cy="3068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34059" r="0" b="51633"/>
          <a:stretch/>
        </p:blipFill>
        <p:spPr>
          <a:xfrm rot="20143800">
            <a:off x="0" y="3429000"/>
            <a:ext cx="8891640" cy="1611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12320" y="5445000"/>
            <a:ext cx="63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С помощью таблицы с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можно складывать не только единиц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но и деся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№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69 (5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 + 30 = </a:t>
            </a: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 + 70 =</a:t>
            </a: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 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 + 20 =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 + 30 =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 +40 =  </a:t>
            </a: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 + 50 = </a:t>
            </a: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Задача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самостоятельная работ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264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а школьном дворе посадили 5 берёз и 6 клёнов. Сколько посадили деревье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школьном дворе посадили 5 берёз и 6 клёнов. Сколько посадили деревь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1989000"/>
            <a:ext cx="8228880" cy="4534200"/>
            <a:chOff x="457200" y="1989000"/>
            <a:chExt cx="8228880" cy="4534200"/>
          </a:xfrm>
        </p:grpSpPr>
        <p:cxnSp>
          <p:nvCxnSpPr>
            <p:cNvPr id="56" name="_s13318"/>
            <p:cNvCxnSpPr>
              <a:stCxn id="57" idx="0"/>
              <a:endCxn id="58" idx="2"/>
            </p:cNvCxnSpPr>
            <p:nvPr/>
          </p:nvCxnSpPr>
          <p:spPr>
            <a:xfrm flipV="1" rot="16200000">
              <a:off x="5557680" y="2815200"/>
              <a:ext cx="907560" cy="2880720"/>
            </a:xfrm>
            <a:prstGeom prst="bentConnector3">
              <a:avLst>
                <a:gd name="adj1" fmla="val 20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3319"/>
            <p:cNvCxnSpPr>
              <a:stCxn id="60" idx="0"/>
              <a:endCxn id="58" idx="2"/>
            </p:cNvCxnSpPr>
            <p:nvPr/>
          </p:nvCxnSpPr>
          <p:spPr>
            <a:xfrm flipV="1">
              <a:off x="4571280" y="3801960"/>
              <a:ext cx="3240" cy="90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3320"/>
            <p:cNvCxnSpPr>
              <a:stCxn id="62" idx="0"/>
              <a:endCxn id="58" idx="2"/>
            </p:cNvCxnSpPr>
            <p:nvPr/>
          </p:nvCxnSpPr>
          <p:spPr>
            <a:xfrm flipH="1" flipV="1" rot="5400000">
              <a:off x="2677680" y="2815560"/>
              <a:ext cx="907560" cy="2880720"/>
            </a:xfrm>
            <a:prstGeom prst="bentConnector3">
              <a:avLst>
                <a:gd name="adj1" fmla="val 20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13321"/>
            <p:cNvSpPr/>
            <p:nvPr/>
          </p:nvSpPr>
          <p:spPr>
            <a:xfrm>
              <a:off x="3337200" y="1989000"/>
              <a:ext cx="2468520" cy="1813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Измени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3322"/>
            <p:cNvSpPr/>
            <p:nvPr/>
          </p:nvSpPr>
          <p:spPr>
            <a:xfrm>
              <a:off x="457200" y="4709520"/>
              <a:ext cx="2468520" cy="1813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3323"/>
            <p:cNvSpPr/>
            <p:nvPr/>
          </p:nvSpPr>
          <p:spPr>
            <a:xfrm>
              <a:off x="3337200" y="4709520"/>
              <a:ext cx="2468520" cy="1813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ПРО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24"/>
            <p:cNvSpPr/>
            <p:nvPr/>
          </p:nvSpPr>
          <p:spPr>
            <a:xfrm>
              <a:off x="6217560" y="4709520"/>
              <a:ext cx="2468520" cy="1813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СТАВИМ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РАВН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пакете лежали жёлтые и зелёные гру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вынули 7 жёлтых и 9 зелёных груш, пак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устел. Сколько груш было в пак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Реши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+ 4 = 9          4 + у = 7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6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Вычи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 – 7 =                                      10 – 9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 – 2 =                                      14 –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 – 8 =                                      13 –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 – 7 =                                      15 – 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          - Как сложить 30 и 4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Д.з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ик стр. 35 № 73, №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04:15:53Z</dcterms:created>
  <dc:creator>User</dc:creator>
  <dc:description/>
  <dc:language>en-US</dc:language>
  <cp:lastModifiedBy>User</cp:lastModifiedBy>
  <dcterms:modified xsi:type="dcterms:W3CDTF">2013-10-02T05:20:51Z</dcterms:modified>
  <cp:revision>2</cp:revision>
  <dc:subject/>
  <dc:title>                                             2.10.13 Тема:    Сложение  круглых                                десятков.     С. 34–35</dc:title>
</cp:coreProperties>
</file>