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879A-7344-457D-A106-20B7F2D9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9013-3408-41A8-80A7-A1C7BAD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5EF8-8048-4412-953F-9778382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EDFE-DEA6-41C9-942D-DE1E254D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8DD-185C-4E48-B56E-3C723DA3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CD72-B993-4EE5-95D1-3A42BDA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190-9BD6-4B04-A436-F8CC41EF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0D8-D750-4E64-95B3-4638021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2EF9-C435-4B90-BEDA-8BB8691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6A01-1956-45A2-A820-333806FB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BA11-59E2-41FC-BBE1-2A458E7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9FC5-3DD0-44F0-8C83-6E862ED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C233-974A-4694-91BE-743314C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E6B0-8D98-4A54-A8B2-CE09446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07E3-C751-4939-BD3E-330190CA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5FF5-3DA5-4FA4-985A-A622DF09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BC97-170E-4D3A-9550-D34E1E0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9FD4-02C3-4B9B-80C2-F2DD1B0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A35B-5F69-4F24-9C3A-D8F36EA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FB97-7DA1-4920-8075-F4DB1697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B147-95F6-44E9-A6F4-DDAB833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1F5F-4BDB-44A2-B3E3-239D86E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AA01-4A0D-4772-AE5E-7EF2BDA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84C4-985F-439C-A57A-1DCDB6E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cb084"/>
                </a:gs>
                <a:gs pos="100000">
                  <a:srgbClr val="a2b5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96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cb0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9cb0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cb084"/>
                </a:gs>
                <a:gs pos="50000">
                  <a:srgbClr val="9fb288"/>
                </a:gs>
                <a:gs pos="100000">
                  <a:srgbClr val="9cb0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c2d1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329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D35-1B75-4C33-A124-028F8EBE7AE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cb084"/>
                </a:gs>
                <a:gs pos="100000">
                  <a:srgbClr val="a2b5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96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cb0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9cb0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cb084"/>
                </a:gs>
                <a:gs pos="50000">
                  <a:srgbClr val="9fb288"/>
                </a:gs>
                <a:gs pos="100000">
                  <a:srgbClr val="9cb0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c2d1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329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08D-97AC-49E5-973E-08E90C22858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04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c9c2d1"/>
              </a:solidFill>
              <a:latin typeface="Tahoma"/>
            </a:endParaRPr>
          </a:p>
        </p:txBody>
      </p:sp>
      <p:grpSp>
        <p:nvGrpSpPr>
          <p:cNvPr id="127" name="Diagram 7"/>
          <p:cNvGrpSpPr/>
          <p:nvPr/>
        </p:nvGrpSpPr>
        <p:grpSpPr>
          <a:xfrm>
            <a:off x="237240" y="180720"/>
            <a:ext cx="8737920" cy="6452280"/>
            <a:chOff x="237240" y="180720"/>
            <a:chExt cx="8737920" cy="6452280"/>
          </a:xfrm>
        </p:grpSpPr>
        <p:sp>
          <p:nvSpPr>
            <p:cNvPr id="128" name="_s1028"/>
            <p:cNvSpPr/>
            <p:nvPr/>
          </p:nvSpPr>
          <p:spPr>
            <a:xfrm flipH="1" flipV="1">
              <a:off x="2448360" y="3120840"/>
              <a:ext cx="1083600" cy="267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>
              <a:off x="237240" y="1981440"/>
              <a:ext cx="2269080" cy="1738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АЛЬТЕРН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ТИВНЫ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 flipH="1">
              <a:off x="3274200" y="4356720"/>
              <a:ext cx="668160" cy="705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1472040" y="4894920"/>
              <a:ext cx="2268360" cy="1738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РАЗДЕЛИ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ТЕЛЬНЫ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32"/>
            <p:cNvSpPr/>
            <p:nvPr/>
          </p:nvSpPr>
          <p:spPr>
            <a:xfrm>
              <a:off x="5271840" y="4356720"/>
              <a:ext cx="668160" cy="70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5472000" y="4894920"/>
              <a:ext cx="2269080" cy="1738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К ПОДЛЕЖ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ЩЕМУ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 flipV="1">
              <a:off x="5682600" y="3118320"/>
              <a:ext cx="1078920" cy="26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5"/>
            <p:cNvSpPr/>
            <p:nvPr/>
          </p:nvSpPr>
          <p:spPr>
            <a:xfrm>
              <a:off x="6706800" y="1981440"/>
              <a:ext cx="2268360" cy="1738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СПЕЦИАЛЬ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НЫЕ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 flipV="1">
              <a:off x="4606560" y="1918800"/>
              <a:ext cx="0" cy="86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3471840" y="180720"/>
              <a:ext cx="2268360" cy="1738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ОБЩИ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1038"/>
            <p:cNvSpPr/>
            <p:nvPr/>
          </p:nvSpPr>
          <p:spPr>
            <a:xfrm>
              <a:off x="3471840" y="2787840"/>
              <a:ext cx="2268360" cy="173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 u="sng">
                  <a:solidFill>
                    <a:srgbClr val="000000"/>
                  </a:solidFill>
                  <a:uFillTx/>
                  <a:latin typeface="Tahoma"/>
                </a:rPr>
                <a:t>ТИП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 u="sng">
                  <a:solidFill>
                    <a:srgbClr val="000000"/>
                  </a:solidFill>
                  <a:uFillTx/>
                  <a:latin typeface="Tahoma"/>
                </a:rPr>
                <a:t>ВОПРОСОВ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9999"/>
                </a:solidFill>
                <a:uFillTx/>
                <a:latin typeface="Tahoma"/>
              </a:rPr>
              <a:t>ОБЩИЕ ВОПРОСЫ:</a:t>
            </a: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D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100"/>
              </a:spcBef>
              <a:buClr>
                <a:srgbClr val="c9c2d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подлежаще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основной глаго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I</a:t>
            </a:r>
            <a:r>
              <a:rPr b="1" lang="ru-RU" sz="3600" spc="-1" strike="noStrike">
                <a:solidFill>
                  <a:srgbClr val="ccecff"/>
                </a:solidFill>
                <a:latin typeface="Tahoma"/>
              </a:rPr>
              <a:t> форм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показа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c9c2d1"/>
                </a:solidFill>
                <a:uFillTx/>
                <a:latin typeface="Tahoma"/>
              </a:rPr>
              <a:t>ПРИМЕРЫ:</a:t>
            </a:r>
            <a:br>
              <a:rPr sz="4200"/>
            </a:br>
            <a:br>
              <a:rPr sz="4200"/>
            </a:br>
            <a:r>
              <a:rPr b="1" lang="ru-RU" sz="4200" spc="-1" strike="noStrike">
                <a:solidFill>
                  <a:srgbClr val="c9c2d1"/>
                </a:solidFill>
                <a:latin typeface="Tahoma"/>
              </a:rPr>
              <a:t>1) Она написала письмо вчера?</a:t>
            </a:r>
            <a:br>
              <a:rPr sz="4200"/>
            </a:br>
            <a:br>
              <a:rPr sz="4200"/>
            </a:br>
            <a:r>
              <a:rPr b="1" i="1" lang="en-US" sz="4200" spc="-1" strike="noStrike">
                <a:solidFill>
                  <a:srgbClr val="c9c2d1"/>
                </a:solidFill>
                <a:latin typeface="Tahoma"/>
              </a:rPr>
              <a:t>Did she write the letter yesterday?</a:t>
            </a:r>
            <a:endParaRPr b="0" lang="en-US" sz="4200" spc="-1" strike="noStrike">
              <a:solidFill>
                <a:srgbClr val="c9c2d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40384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, she di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4508280"/>
            <a:ext cx="4038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1008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, she didn’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12:55Z</dcterms:created>
  <dc:creator>User</dc:creator>
  <dc:description/>
  <dc:language>en-US</dc:language>
  <cp:lastModifiedBy>Светик</cp:lastModifiedBy>
  <dcterms:modified xsi:type="dcterms:W3CDTF">2013-10-06T12:00:00Z</dcterms:modified>
  <cp:revision>3</cp:revision>
  <dc:subject/>
  <dc:title>Слайд 1</dc:title>
</cp:coreProperties>
</file>