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0FE8-FB18-459E-AC7B-7C94F4CE3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D8E1-F537-4171-ADC7-A7551E7EB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814D-BAEA-4B9B-9AE3-152641885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0BCA-2D60-4575-83C8-C84AA9496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8366-C08F-4F64-B3B9-9B9B9E787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2CE3-E514-4E73-85AE-990287932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3B63-CEF1-4388-B876-A6796AF20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C1A9-C440-48A9-90F0-E403C6B34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1B63-B459-45D9-846D-BDB97F214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0C0B-97FD-4F40-8504-9662B08D5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F0F1-13D7-4E05-AB56-A9D7426C5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5814-EA57-4076-92EA-6151367E4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8FBDAD-637C-4065-82CC-FE818E18E92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rcRect l="0" t="0" r="-47" b="0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332000" y="1916280"/>
            <a:ext cx="676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Циклон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антициклон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614520" y="-243000"/>
            <a:ext cx="26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и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765000"/>
          <a:ext cx="9144000" cy="5832720"/>
        </p:xfrm>
        <a:graphic>
          <a:graphicData uri="http://schemas.openxmlformats.org/drawingml/2006/table">
            <a:tbl>
              <a:tblPr/>
              <a:tblGrid>
                <a:gridCol w="2479680"/>
                <a:gridCol w="3616200"/>
                <a:gridCol w="3048120"/>
              </a:tblGrid>
              <a:tr h="74772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кл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цикл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ление в центр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и воздух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ходящ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ходящ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 часовой стрелк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часовой стрелк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погод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ой: снег, ветер, облачно, потеп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м: дождь, ветер, облачно, похолод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ой: морозно, ясно, без осадков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м: жарко, ясно, без осад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ы преоблада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ые районы Рос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ые районы Рос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meteovesti.ru/pictures/63488751252.jpg"/>
          <p:cNvPicPr/>
          <p:nvPr/>
        </p:nvPicPr>
        <p:blipFill>
          <a:blip r:embed="rId1"/>
          <a:stretch/>
        </p:blipFill>
        <p:spPr>
          <a:xfrm>
            <a:off x="250920" y="189000"/>
            <a:ext cx="882792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"/>
          <p:cNvGrpSpPr/>
          <p:nvPr/>
        </p:nvGrpSpPr>
        <p:grpSpPr>
          <a:xfrm>
            <a:off x="0" y="0"/>
            <a:ext cx="4498920" cy="3282840"/>
            <a:chOff x="0" y="0"/>
            <a:chExt cx="4498920" cy="3282840"/>
          </a:xfrm>
        </p:grpSpPr>
        <p:pic>
          <p:nvPicPr>
            <p:cNvPr id="66" name="Picture 2" descr=""/>
            <p:cNvPicPr/>
            <p:nvPr/>
          </p:nvPicPr>
          <p:blipFill>
            <a:blip r:embed="rId1"/>
            <a:srcRect l="0" t="0" r="37" b="72"/>
            <a:stretch/>
          </p:blipFill>
          <p:spPr>
            <a:xfrm>
              <a:off x="0" y="0"/>
              <a:ext cx="4498920" cy="32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3"/>
            <p:cNvSpPr/>
            <p:nvPr/>
          </p:nvSpPr>
          <p:spPr>
            <a:xfrm>
              <a:off x="0" y="0"/>
              <a:ext cx="4498920" cy="32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8" name="Picture 4" descr=""/>
          <p:cNvPicPr/>
          <p:nvPr/>
        </p:nvPicPr>
        <p:blipFill>
          <a:blip r:embed="rId2"/>
          <a:srcRect l="0" t="0" r="-30" b="0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rcRect l="0" t="0" r="132" b="35"/>
          <a:stretch/>
        </p:blipFill>
        <p:spPr>
          <a:xfrm>
            <a:off x="457200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4"/>
          <a:srcRect l="0" t="0" r="107" b="-81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gismeteo.ru/static/news/img/src/1602/1d7c73e3.png"/>
          <p:cNvPicPr/>
          <p:nvPr/>
        </p:nvPicPr>
        <p:blipFill>
          <a:blip r:embed="rId1"/>
          <a:stretch/>
        </p:blipFill>
        <p:spPr>
          <a:xfrm>
            <a:off x="1116000" y="1168560"/>
            <a:ext cx="7209000" cy="5286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иноптическая кар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rcRect l="0" t="0" r="0" b="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6497640" y="352440"/>
            <a:ext cx="371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864560" y="70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68360" y="4724280"/>
            <a:ext cx="2519280" cy="187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635280" y="4724280"/>
            <a:ext cx="2521080" cy="187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395280" y="1197000"/>
            <a:ext cx="8352000" cy="5295960"/>
            <a:chOff x="395280" y="1197000"/>
            <a:chExt cx="8352000" cy="5295960"/>
          </a:xfrm>
        </p:grpSpPr>
        <p:pic>
          <p:nvPicPr>
            <p:cNvPr id="80" name="Picture 3" descr=""/>
            <p:cNvPicPr/>
            <p:nvPr/>
          </p:nvPicPr>
          <p:blipFill>
            <a:blip r:embed="rId1"/>
            <a:srcRect l="0" t="5644" r="28046" b="30705"/>
            <a:stretch/>
          </p:blipFill>
          <p:spPr>
            <a:xfrm>
              <a:off x="395280" y="1197000"/>
              <a:ext cx="8352000" cy="529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4"/>
            <p:cNvSpPr/>
            <p:nvPr/>
          </p:nvSpPr>
          <p:spPr>
            <a:xfrm>
              <a:off x="395280" y="1197000"/>
              <a:ext cx="8352000" cy="52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Text Box 5"/>
          <p:cNvSpPr/>
          <p:nvPr/>
        </p:nvSpPr>
        <p:spPr>
          <a:xfrm>
            <a:off x="539640" y="2421000"/>
            <a:ext cx="8172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394000" y="3225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640560" y="32259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340000" y="450864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411280" y="4437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413080" y="5367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6858000" y="4233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6878520" y="54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50920" y="333360"/>
            <a:ext cx="88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общего между циклонам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антициклонам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м они отличаютс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ая погода связана с приход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лонов?  Антициклоно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аких районах Росс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обладает циклональная погод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аких районах России преоблада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тициклональная погод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hmn.ru/maps/Ru/ps_Ru_pr24_20131005_00_01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0" y="0"/>
            <a:ext cx="9142560" cy="6878520"/>
            <a:chOff x="0" y="0"/>
            <a:chExt cx="9142560" cy="6878520"/>
          </a:xfrm>
        </p:grpSpPr>
        <p:pic>
          <p:nvPicPr>
            <p:cNvPr id="45" name="Picture 2" descr=""/>
            <p:cNvPicPr/>
            <p:nvPr/>
          </p:nvPicPr>
          <p:blipFill>
            <a:blip r:embed="rId1"/>
            <a:srcRect l="0" t="0" r="-47" b="0"/>
            <a:stretch/>
          </p:blipFill>
          <p:spPr>
            <a:xfrm>
              <a:off x="0" y="0"/>
              <a:ext cx="9142560" cy="687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0" y="0"/>
              <a:ext cx="9142560" cy="68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Text Box 4"/>
          <p:cNvSpPr/>
          <p:nvPr/>
        </p:nvSpPr>
        <p:spPr>
          <a:xfrm>
            <a:off x="523800" y="345960"/>
            <a:ext cx="83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такое циклоны и антициклон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rcRect l="0" t="0" r="52973" b="51858"/>
          <a:stretch/>
        </p:blipFill>
        <p:spPr>
          <a:xfrm>
            <a:off x="1835280" y="2333520"/>
            <a:ext cx="5387760" cy="4524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Циклон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крупный атмосферный вихрь с низким давлением в цент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cyclonextreme.com/Images/Monde2009/PhotoHamish20090307-enh-full.jpg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s.pikabu.ru/post_img/2013/03/17/8/1363519008_780702183.jpg"/>
          <p:cNvPicPr/>
          <p:nvPr/>
        </p:nvPicPr>
        <p:blipFill>
          <a:blip r:embed="rId1"/>
          <a:stretch/>
        </p:blipFill>
        <p:spPr>
          <a:xfrm>
            <a:off x="4241880" y="0"/>
            <a:ext cx="4902120" cy="367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www.nsk.aif.ru/pictures/201308/IMG_2549.jpg"/>
          <p:cNvPicPr/>
          <p:nvPr/>
        </p:nvPicPr>
        <p:blipFill>
          <a:blip r:embed="rId2"/>
          <a:stretch/>
        </p:blipFill>
        <p:spPr>
          <a:xfrm>
            <a:off x="0" y="3213000"/>
            <a:ext cx="5765760" cy="364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news.astv.ru/files/news/imagecache/350x230/front/219305_01.jpg"/>
          <p:cNvPicPr/>
          <p:nvPr/>
        </p:nvPicPr>
        <p:blipFill>
          <a:blip r:embed="rId3"/>
          <a:stretch/>
        </p:blipFill>
        <p:spPr>
          <a:xfrm>
            <a:off x="0" y="333360"/>
            <a:ext cx="4100400" cy="269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www.novostimira.com.ua/userfiles/15(366).jpg"/>
          <p:cNvPicPr/>
          <p:nvPr/>
        </p:nvPicPr>
        <p:blipFill>
          <a:blip r:embed="rId4"/>
          <a:stretch/>
        </p:blipFill>
        <p:spPr>
          <a:xfrm>
            <a:off x="5877000" y="3591000"/>
            <a:ext cx="3267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rcRect l="53049" t="52544" r="0" b="0"/>
          <a:stretch/>
        </p:blipFill>
        <p:spPr>
          <a:xfrm>
            <a:off x="2411280" y="2732040"/>
            <a:ext cx="4859640" cy="4125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нтициклон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крупный атмосферный вихрь с высоким давлением в центр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gismeteo.ru/static/news/img/src/2931/0ebcfe37.jpg"/>
          <p:cNvPicPr/>
          <p:nvPr/>
        </p:nvPicPr>
        <p:blipFill>
          <a:blip r:embed="rId1"/>
          <a:stretch/>
        </p:blipFill>
        <p:spPr>
          <a:xfrm>
            <a:off x="0" y="333360"/>
            <a:ext cx="4952880" cy="374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gubdaily.ru/wp-content/uploads/2013/05/%D0%91%D0%B5%D0%B7-%D0%B8%D0%BC%D0%B5%D0%BD%D0%B8-2.jpg"/>
          <p:cNvPicPr/>
          <p:nvPr/>
        </p:nvPicPr>
        <p:blipFill>
          <a:blip r:embed="rId2"/>
          <a:stretch/>
        </p:blipFill>
        <p:spPr>
          <a:xfrm>
            <a:off x="826920" y="4006800"/>
            <a:ext cx="7129800" cy="2851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ptr-vlad.ru/uploads/posts/2012-12/1356400406_cf07746ec1_188505.jpg"/>
          <p:cNvPicPr/>
          <p:nvPr/>
        </p:nvPicPr>
        <p:blipFill>
          <a:blip r:embed="rId3"/>
          <a:stretch/>
        </p:blipFill>
        <p:spPr>
          <a:xfrm>
            <a:off x="4967280" y="0"/>
            <a:ext cx="41767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184320" y="179280"/>
            <a:ext cx="878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а циклона и антицикло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равнительна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125360"/>
          <a:ext cx="8351640" cy="5256360"/>
        </p:xfrm>
        <a:graphic>
          <a:graphicData uri="http://schemas.openxmlformats.org/drawingml/2006/table">
            <a:tbl>
              <a:tblPr/>
              <a:tblGrid>
                <a:gridCol w="2265480"/>
                <a:gridCol w="3303360"/>
                <a:gridCol w="2782800"/>
              </a:tblGrid>
              <a:tr h="7718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кл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цикл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ление в центр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и воздух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погод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ы преоблада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22:44Z</dcterms:created>
  <dc:creator>user</dc:creator>
  <dc:description/>
  <dc:language>en-US</dc:language>
  <cp:lastModifiedBy>1</cp:lastModifiedBy>
  <dcterms:modified xsi:type="dcterms:W3CDTF">2013-10-06T07:31:56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0b0000000000010250300207f7000400038000</vt:lpwstr>
  </property>
</Properties>
</file>