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png" ContentType="image/png"/>
  <Override PartName="/ppt/media/image21.png" ContentType="image/png"/>
  <Override PartName="/ppt/media/image18.png" ContentType="image/png"/>
  <Override PartName="/ppt/media/image25.gif" ContentType="image/gif"/>
  <Override PartName="/ppt/media/image7.jpeg" ContentType="image/jpeg"/>
  <Override PartName="/ppt/media/image28.png" ContentType="image/png"/>
  <Override PartName="/ppt/media/image29.jpeg" ContentType="image/jpeg"/>
  <Override PartName="/ppt/media/image8.jpeg" ContentType="image/jpeg"/>
  <Override PartName="/ppt/media/image5.png" ContentType="image/png"/>
  <Override PartName="/ppt/media/image10.jpeg" ContentType="image/jpeg"/>
  <Override PartName="/ppt/media/image23.png" ContentType="image/png"/>
  <Override PartName="/ppt/media/image13.jpeg" ContentType="image/jpeg"/>
  <Override PartName="/ppt/media/image6.png" ContentType="image/png"/>
  <Override PartName="/ppt/media/image9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20.png" ContentType="image/png"/>
  <Override PartName="/ppt/media/image2.jpeg" ContentType="image/jpeg"/>
  <Override PartName="/ppt/media/image30.png" ContentType="image/png"/>
  <Override PartName="/ppt/media/image3.jpeg" ContentType="image/jpe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gif" ContentType="image/gif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8E7C3-74D3-4DCA-B016-075222D344D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итель: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вайте попробуем сформулировать задачи нашего у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еники: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ытаются сформулировать задачи урока.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A501A-3D73-4457-A8E3-9FEDC82FD0C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итель: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ы возникли задолго до появления человека. Растения изобрели цветок не для того, чтобы вызывать у нас чувство прекрасного, у них для этого были другие цели, направленные на выживание. И все же при виде цветов мы испытываем чувство прекрасного, мы восхищаемся красотой цветов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83C70-C9FE-4C2F-B7DE-FED026DEDC5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итель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ите на фотографии цветки , гербарии на столах, цветущие растения и скажите, что у них общего и в чем различ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еники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ираясь на предыдущие знания, дети отвечают, что у всех цветков есть венчик и чашечка, тычинки и пестик. Цветки различаются формой, окраской, размер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итель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вайте более подробно изучим строение цветка. Для этого зарисуйте схему цветка  и, используя рисунки, текст учебника, подпишите части цвет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еники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щиеся выполняют работу в рабочих тетрад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итель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сле того, как дети выполнили работу, проверяем правильность выполнения задания. Обращаем внимание на то, что цветок – это укороченный видоизмененный побе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9C115-4C90-41DB-A7C2-E9739440BFE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итель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гадайте загадку. Подумайте, какую роль выполняет околоцветник?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ащиеся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а внутренних частей и привлечение насеком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итель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чего он состои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ащиеся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лепестков и чашелисти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2C1B4-0C67-406A-A215-FAD468A002F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итель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мотрите на слайд  и скажите, чем отличаются околоцветники изображенных цветков? Причитав текст «Околоцветник двойной и простой» дайте понятие простого и двойного околоцветника. Запишите определения в своих тетрад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ащиеся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ют с книгой, записывают опред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D982E-BF32-4BB8-B916-6895EA977BE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итель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атриваем следующий слайд . (Дается понятие правильного и неправильного цветка с оформлением схемы в тетради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B9C26-FA10-472D-9BA2-02291AC4EA7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итель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е строение имеют пестик и тычинка?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ащиеся: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Тычинка состоит из тычиночной нити и пыльника с пыльцой. Пестик состоит из рыльца, столбика и завязи. В завязи находятся семязачат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итель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их называют главными частями цветка?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ащиеся: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Тычинка и пестик участвуют в размноже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итель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Какая часть будет являться мужской, а какая – женской? С помощью каких символов их обозначают?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( Вспоминаем, что женские органы обозначают знаком Венеры, а мужские – знаком Марса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ащиеся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ычинки –это мужские  органы. Пестик – это женский орг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265D6-BE06-4EF8-9F5A-C5173EC88E2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итель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бщаем информацию о строении цветка в форме схемы « Рыба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ащиеся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стоятельно составляют схему в тетради, затем проверяют правильность составления используя материал слай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AD715-55AC-46F3-B017-451A86596A7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итель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гадайте загадку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ащиеся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суждают , почему цветок не образовал пл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CA084-F325-44D4-BCF0-81A398EB363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ащиеся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атривая схемы на слайде, дети формулируют определения обоеполых и однополых цветков, находят отлич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A22E9-DA5B-41F7-B8DE-57BD46A5B02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ащиеся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атриваем схемы на следующем слайде. С помощью текста учебника учащиеся дают определения однодомным и двудомным растениям, зарисовывают схемы в тетрад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итель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умайте, где могут нам пригодиться знания об однодомных и двудомных растениях?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ащиеся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зеленении улиц тополями, выращивании в саду актинидии, облепихи, выращивании тыквенных раст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D4A0A-EDDF-40B1-893E-1D1F90B763D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итель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теперь познакомимся с тем, как правильно составлять формулу цветка.        Зная, условные обозначения, давайте попробуем составить формулы цветков вишни: цветок обоеполый, правильный, лепестков – 5, чашелистиков – 5 сросшихся, тычинок много, пестик – 1; василька: цветок обоеполый, правильный, чашелистиков – 5, лепестков – 5 сросшихся, тычинок – 5, пестик –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ащиеся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я символы и прочитав материал учебника дети самостоятельно составляют формулу цветка виш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ED879-14F7-49B3-8F74-B41CAA954E3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V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крепл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1. Учащиеся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с тестовыми задан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7C466-2225-4499-9E02-74ADB127BB8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ащиеся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ывают по очереди части цветка и называют их функ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0C4DC-30CF-4664-A520-2000F4DE8D6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3.Учитель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ставьте или добавьте вместо пропусков буквы в словах так, чтобы получились названия частей цвет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A26E5-0D88-4EF7-B85B-480AAEBA682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V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ащиеся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стоятельно формируют выводы у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6740B-15C9-4F6D-96A0-58C35D65B8A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VI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ащиеся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писывают задания в дневн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81F96-2806-4240-A485-41CBF349268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VII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флекс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ащиеся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чают на поставленные вопро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итель: Подводит итоги урока и выставляет текущие оцен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44CA6-2979-489C-98FB-834DACB9565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Д У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рганизационный мо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о звонком учащиеся входят в класс и садятся на свои мес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Актуализация зн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онтальный опро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итель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ет вопро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еники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чают на заданные вопро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538AF-309D-4560-A54F-F369B433C1F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Кто быстрее разгадает кроссворд?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итель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ет вопро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еники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гадывают кроссворд, кто отгадал, тот записал правильное ответ в кроссворде  на интерактивной дос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785EC-7BF0-4CC5-9B10-1074A8D40F1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совместно с учениками проверяет правильность заполнения кроссвор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12B34-EF9B-4B0D-98C3-36BE79984A8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I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ктуализация зн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еники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стоятельно работают на листочк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опроверка, выставляют баллы оценивания работы и передают информацию результатов учител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1F6FB-79F3-417E-BD5F-21F121F7526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II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Ход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итель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бята, сегодня на уроке я предлагаю вам провести исследование. Предмет нашего исследования мы сможем узнать, когда отгадаем эту загад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еники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цветок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итель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вы уже догадались, сегодня речь пойдет о цветк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10642-98A3-4DB5-9133-E19F11B9372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итель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жде, чем перейдем к нашей новой теме давайте еще раз вспомним: 1.Что такое орган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Какие органы цветкового растения вам известн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Назовите вегетативные орг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Что называется побегом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Назовите генеративные орг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еники: 1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Часть тела, выполняющая определенную функцию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(Вегетативные, генеративны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(Корень, побег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(Стебель с расположенными на нем листьями и почкам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(Цветок, плод, сем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4BB01-C906-48E6-B018-FA7D521FE65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075B-E434-4D70-8305-524725D16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FCA5-D267-4820-B7F7-D427F6686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B8E7-E44F-4DA9-A90F-6F9AD9F22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BFF9-E036-4362-B38C-7A0DC1379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B374-71C1-45AD-90AB-5780C58AF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9B6A-09E5-4D1E-9531-DEC3E51D3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93A6-5559-4E55-91B1-738C509F3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79D7-C6CD-4AD1-880A-8FF53D9DC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07CE-DDB7-4CF3-B761-9AFA5913F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87C1-A81D-45C5-AB33-A3965547E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6303-C6EE-4901-B268-1B0ED2B0E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F968-2AA1-422D-AA2B-9DC85DAD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04E21-FC9C-4A03-AB67-30E42AE1DE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2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gif"/><Relationship Id="rId5" Type="http://schemas.openxmlformats.org/officeDocument/2006/relationships/image" Target="../media/image26.gif"/><Relationship Id="rId6" Type="http://schemas.openxmlformats.org/officeDocument/2006/relationships/image" Target="../media/image24.png"/><Relationship Id="rId7" Type="http://schemas.openxmlformats.org/officeDocument/2006/relationships/image" Target="../media/image25.gif"/><Relationship Id="rId8" Type="http://schemas.openxmlformats.org/officeDocument/2006/relationships/image" Target="../media/image27.png"/><Relationship Id="rId9" Type="http://schemas.openxmlformats.org/officeDocument/2006/relationships/image" Target="../media/image24.png"/><Relationship Id="rId10" Type="http://schemas.openxmlformats.org/officeDocument/2006/relationships/image" Target="../media/image26.gif"/><Relationship Id="rId11" Type="http://schemas.openxmlformats.org/officeDocument/2006/relationships/image" Target="../media/image28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festival.1september.ru/" TargetMode="External"/><Relationship Id="rId2" Type="http://schemas.openxmlformats.org/officeDocument/2006/relationships/hyperlink" Target="http://search.babylon.com/" TargetMode="External"/><Relationship Id="rId3" Type="http://schemas.openxmlformats.org/officeDocument/2006/relationships/hyperlink" Target="http://www.myshared.ru/" TargetMode="External"/><Relationship Id="rId4" Type="http://schemas.openxmlformats.org/officeDocument/2006/relationships/hyperlink" Target="http://edu.of.ru/" TargetMode="External"/><Relationship Id="rId5" Type="http://schemas.openxmlformats.org/officeDocument/2006/relationships/hyperlink" Target="http://www.uchportal.ru/" TargetMode="Externa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бережночелнинский институт социальных и педагогических технологий и ресурсов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акультет повышения квалификац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11280" y="1600200"/>
            <a:ext cx="80755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ема: «Проектирование урока в ФГОС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3924360" y="2852640"/>
            <a:ext cx="4392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полнил учитель биолог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валификационной категор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АОУ «Гимназия №76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. Набережные Чел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еспублики Татарст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хметова Елена Никола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2411280" y="551664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.Набережные Чел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013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Овал 1"/>
          <p:cNvSpPr/>
          <p:nvPr/>
        </p:nvSpPr>
        <p:spPr>
          <a:xfrm>
            <a:off x="3143160" y="3284640"/>
            <a:ext cx="2428920" cy="2016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Задачи у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Овал 2"/>
          <p:cNvSpPr/>
          <p:nvPr/>
        </p:nvSpPr>
        <p:spPr>
          <a:xfrm rot="3374400">
            <a:off x="4587480" y="5314680"/>
            <a:ext cx="2146320" cy="13586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Calibri"/>
              </a:rPr>
              <a:t>Виды цвет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Овал 3"/>
          <p:cNvSpPr/>
          <p:nvPr/>
        </p:nvSpPr>
        <p:spPr>
          <a:xfrm rot="21303600">
            <a:off x="5552640" y="3509640"/>
            <a:ext cx="2478240" cy="11574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цве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Овал 4"/>
          <p:cNvSpPr/>
          <p:nvPr/>
        </p:nvSpPr>
        <p:spPr>
          <a:xfrm flipH="1" rot="2160000">
            <a:off x="2552040" y="4974840"/>
            <a:ext cx="1328760" cy="20671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лоцвет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Овал 5"/>
          <p:cNvSpPr/>
          <p:nvPr/>
        </p:nvSpPr>
        <p:spPr>
          <a:xfrm flipH="1" rot="743400">
            <a:off x="809280" y="3174840"/>
            <a:ext cx="2500200" cy="12272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ообразие цвет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Овал 6"/>
          <p:cNvSpPr/>
          <p:nvPr/>
        </p:nvSpPr>
        <p:spPr>
          <a:xfrm rot="5400000">
            <a:off x="3453120" y="1734480"/>
            <a:ext cx="1871640" cy="12286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а цве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7"/>
          <p:cNvSpPr/>
          <p:nvPr/>
        </p:nvSpPr>
        <p:spPr>
          <a:xfrm>
            <a:off x="2286000" y="3333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Тема уро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«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Цветок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    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6" descr="D:\Мои документы\101_PANA\P1010932.JPG"/>
          <p:cNvPicPr/>
          <p:nvPr/>
        </p:nvPicPr>
        <p:blipFill>
          <a:blip r:embed="rId1"/>
          <a:stretch/>
        </p:blipFill>
        <p:spPr>
          <a:xfrm>
            <a:off x="611280" y="260280"/>
            <a:ext cx="3857400" cy="2886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P1010831"/>
          <p:cNvPicPr/>
          <p:nvPr/>
        </p:nvPicPr>
        <p:blipFill>
          <a:blip r:embed="rId2"/>
          <a:stretch/>
        </p:blipFill>
        <p:spPr>
          <a:xfrm>
            <a:off x="3995640" y="476280"/>
            <a:ext cx="4505400" cy="3828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17972"/>
          <p:cNvPicPr/>
          <p:nvPr/>
        </p:nvPicPr>
        <p:blipFill>
          <a:blip r:embed="rId3"/>
          <a:stretch/>
        </p:blipFill>
        <p:spPr>
          <a:xfrm>
            <a:off x="4714920" y="3643200"/>
            <a:ext cx="4000320" cy="3000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P8260010"/>
          <p:cNvPicPr/>
          <p:nvPr/>
        </p:nvPicPr>
        <p:blipFill>
          <a:blip r:embed="rId4"/>
          <a:stretch/>
        </p:blipFill>
        <p:spPr>
          <a:xfrm>
            <a:off x="250920" y="2637000"/>
            <a:ext cx="4572000" cy="37382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D:\Мои документы\101_PANA\P1010950.JPG"/>
          <p:cNvPicPr/>
          <p:nvPr/>
        </p:nvPicPr>
        <p:blipFill>
          <a:blip r:embed="rId5"/>
          <a:stretch/>
        </p:blipFill>
        <p:spPr>
          <a:xfrm>
            <a:off x="3132000" y="1413000"/>
            <a:ext cx="3905280" cy="292896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3"/>
          <p:cNvSpPr/>
          <p:nvPr/>
        </p:nvSpPr>
        <p:spPr>
          <a:xfrm>
            <a:off x="755640" y="372600"/>
            <a:ext cx="8388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Они прекраснее всего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Что нам дает природа на Земле.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Но дар ее бесценный,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Для всех искусств цветок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–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Образчик неизмен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Жак Дели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Содержимое 3" descr=""/>
          <p:cNvPicPr/>
          <p:nvPr/>
        </p:nvPicPr>
        <p:blipFill>
          <a:blip r:embed="rId1"/>
          <a:stretch/>
        </p:blipFill>
        <p:spPr>
          <a:xfrm>
            <a:off x="3714840" y="272880"/>
            <a:ext cx="4832280" cy="585324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31780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рисуйте строение цветка и подпишите его ча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4"/>
          <p:cNvSpPr/>
          <p:nvPr/>
        </p:nvSpPr>
        <p:spPr>
          <a:xfrm>
            <a:off x="1332000" y="62064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тгадайте загадк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900000" y="1989000"/>
            <a:ext cx="77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шечка есть - не для вод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6"/>
          <p:cNvSpPr/>
          <p:nvPr/>
        </p:nvSpPr>
        <p:spPr>
          <a:xfrm>
            <a:off x="1403280" y="3068640"/>
            <a:ext cx="69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ть венок – не для дев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8"/>
          <p:cNvSpPr/>
          <p:nvPr/>
        </p:nvSpPr>
        <p:spPr>
          <a:xfrm>
            <a:off x="2195640" y="4365720"/>
            <a:ext cx="51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олоцвет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иды околоцветн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404028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3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войн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4720" y="1341360"/>
            <a:ext cx="4041720" cy="4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3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ст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9" descr="1124_aec13656"/>
          <p:cNvPicPr/>
          <p:nvPr/>
        </p:nvPicPr>
        <p:blipFill>
          <a:blip r:embed="rId1"/>
          <a:stretch/>
        </p:blipFill>
        <p:spPr>
          <a:xfrm>
            <a:off x="539640" y="1844640"/>
            <a:ext cx="3638520" cy="3638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3" descr="convallaria"/>
          <p:cNvPicPr/>
          <p:nvPr/>
        </p:nvPicPr>
        <p:blipFill>
          <a:blip r:embed="rId2"/>
          <a:stretch/>
        </p:blipFill>
        <p:spPr>
          <a:xfrm>
            <a:off x="4716360" y="1989000"/>
            <a:ext cx="3857760" cy="34578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9"/>
          <p:cNvSpPr/>
          <p:nvPr/>
        </p:nvSpPr>
        <p:spPr>
          <a:xfrm>
            <a:off x="684360" y="573264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нчик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0"/>
          <p:cNvSpPr/>
          <p:nvPr/>
        </p:nvSpPr>
        <p:spPr>
          <a:xfrm>
            <a:off x="2627280" y="5877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ше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4932360" y="57326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листочки одинако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Прямая со стрелкой 13"/>
          <p:cNvCxnSpPr>
            <a:stCxn id="115" idx="1"/>
          </p:cNvCxnSpPr>
          <p:nvPr/>
        </p:nvCxnSpPr>
        <p:spPr>
          <a:xfrm>
            <a:off x="457200" y="1628280"/>
            <a:ext cx="1451520" cy="793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23" name="Прямая со стрелкой 15"/>
          <p:cNvCxnSpPr>
            <a:stCxn id="116" idx="1"/>
          </p:cNvCxnSpPr>
          <p:nvPr/>
        </p:nvCxnSpPr>
        <p:spPr>
          <a:xfrm>
            <a:off x="4644720" y="1557360"/>
            <a:ext cx="1440360" cy="1008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24" name="Прямая со стрелкой 17"/>
          <p:cNvCxnSpPr>
            <a:stCxn id="119" idx="0"/>
          </p:cNvCxnSpPr>
          <p:nvPr/>
        </p:nvCxnSpPr>
        <p:spPr>
          <a:xfrm flipV="1">
            <a:off x="1223640" y="2707560"/>
            <a:ext cx="1477080" cy="3025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25" name="Прямая со стрелкой 19"/>
          <p:cNvCxnSpPr>
            <a:stCxn id="119" idx="0"/>
          </p:cNvCxnSpPr>
          <p:nvPr/>
        </p:nvCxnSpPr>
        <p:spPr>
          <a:xfrm flipV="1">
            <a:off x="1223640" y="3068280"/>
            <a:ext cx="253080" cy="2664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26" name="Прямая со стрелкой 21"/>
          <p:cNvCxnSpPr>
            <a:stCxn id="120" idx="0"/>
          </p:cNvCxnSpPr>
          <p:nvPr/>
        </p:nvCxnSpPr>
        <p:spPr>
          <a:xfrm flipH="1" flipV="1">
            <a:off x="2770920" y="3788640"/>
            <a:ext cx="577080" cy="2088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27" name="Прямая со стрелкой 26"/>
          <p:cNvCxnSpPr>
            <a:stCxn id="121" idx="0"/>
          </p:cNvCxnSpPr>
          <p:nvPr/>
        </p:nvCxnSpPr>
        <p:spPr>
          <a:xfrm flipV="1">
            <a:off x="6659280" y="3860280"/>
            <a:ext cx="73800" cy="1872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иды цветк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правильн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авильн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10" descr="4982"/>
          <p:cNvPicPr/>
          <p:nvPr/>
        </p:nvPicPr>
        <p:blipFill>
          <a:blip r:embed="rId1"/>
          <a:stretch/>
        </p:blipFill>
        <p:spPr>
          <a:xfrm>
            <a:off x="566640" y="2560680"/>
            <a:ext cx="3819600" cy="31813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0_82f0_33ce45d9_XL"/>
          <p:cNvPicPr/>
          <p:nvPr/>
        </p:nvPicPr>
        <p:blipFill>
          <a:blip r:embed="rId2"/>
          <a:stretch/>
        </p:blipFill>
        <p:spPr>
          <a:xfrm>
            <a:off x="4917960" y="2455920"/>
            <a:ext cx="3495960" cy="339084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ая соединительная линия 9"/>
          <p:cNvSpPr/>
          <p:nvPr/>
        </p:nvSpPr>
        <p:spPr>
          <a:xfrm flipH="1">
            <a:off x="2626920" y="2565360"/>
            <a:ext cx="144360" cy="3672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ая соединительная линия 11"/>
          <p:cNvSpPr/>
          <p:nvPr/>
        </p:nvSpPr>
        <p:spPr>
          <a:xfrm flipH="1">
            <a:off x="5651280" y="2276640"/>
            <a:ext cx="1873080" cy="39607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ая соединительная линия 13"/>
          <p:cNvSpPr/>
          <p:nvPr/>
        </p:nvSpPr>
        <p:spPr>
          <a:xfrm>
            <a:off x="5076720" y="2349360"/>
            <a:ext cx="3311640" cy="395928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ая соединительная линия 15"/>
          <p:cNvSpPr/>
          <p:nvPr/>
        </p:nvSpPr>
        <p:spPr>
          <a:xfrm flipV="1">
            <a:off x="4716360" y="3789000"/>
            <a:ext cx="4103640" cy="93492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3"/>
          <p:cNvPicPr/>
          <p:nvPr/>
        </p:nvPicPr>
        <p:blipFill>
          <a:blip r:embed="rId1"/>
          <a:stretch/>
        </p:blipFill>
        <p:spPr>
          <a:xfrm>
            <a:off x="5003640" y="404640"/>
            <a:ext cx="3529080" cy="5761080"/>
          </a:xfrm>
          <a:prstGeom prst="rect">
            <a:avLst/>
          </a:prstGeom>
          <a:ln w="0">
            <a:noFill/>
          </a:ln>
        </p:spPr>
      </p:pic>
      <p:pic>
        <p:nvPicPr>
          <p:cNvPr id="138" name="Содержимое 3" descr=""/>
          <p:cNvPicPr/>
          <p:nvPr/>
        </p:nvPicPr>
        <p:blipFill>
          <a:blip r:embed="rId2"/>
          <a:stretch/>
        </p:blipFill>
        <p:spPr>
          <a:xfrm>
            <a:off x="539640" y="620640"/>
            <a:ext cx="3600720" cy="561672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139" name="Picture 3" descr="C:\Users\User\Desktop\Безымянный.png"/>
          <p:cNvPicPr/>
          <p:nvPr/>
        </p:nvPicPr>
        <p:blipFill>
          <a:blip r:embed="rId3"/>
          <a:stretch/>
        </p:blipFill>
        <p:spPr>
          <a:xfrm>
            <a:off x="2627280" y="2205000"/>
            <a:ext cx="396072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Равнобедренный треугольник 2"/>
          <p:cNvSpPr/>
          <p:nvPr/>
        </p:nvSpPr>
        <p:spPr>
          <a:xfrm rot="16200000">
            <a:off x="6286320" y="2143080"/>
            <a:ext cx="2857680" cy="2857320"/>
          </a:xfrm>
          <a:prstGeom prst="triangle">
            <a:avLst>
              <a:gd name="adj" fmla="val 50750"/>
            </a:avLst>
          </a:prstGeom>
          <a:solidFill>
            <a:srgbClr val="4f81bd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бе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с двумя вырезанными соседними углами 3"/>
          <p:cNvSpPr/>
          <p:nvPr/>
        </p:nvSpPr>
        <p:spPr>
          <a:xfrm flipV="1" rot="5400000">
            <a:off x="642960" y="2424600"/>
            <a:ext cx="1143000" cy="2428920"/>
          </a:xfrm>
          <a:prstGeom prst="pie">
            <a:avLst/>
          </a:prstGeom>
          <a:solidFill>
            <a:srgbClr val="4f81bd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цве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ая соединительная линия 4"/>
          <p:cNvSpPr/>
          <p:nvPr/>
        </p:nvSpPr>
        <p:spPr>
          <a:xfrm>
            <a:off x="2428920" y="3571920"/>
            <a:ext cx="5286240" cy="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араллелограмм 7"/>
          <p:cNvSpPr/>
          <p:nvPr/>
        </p:nvSpPr>
        <p:spPr>
          <a:xfrm rot="612600">
            <a:off x="2932200" y="1236240"/>
            <a:ext cx="1011240" cy="2062080"/>
          </a:xfrm>
          <a:prstGeom prst="parallelogram">
            <a:avLst>
              <a:gd name="adj" fmla="val 25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колоцвет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Блок-схема: данные 8"/>
          <p:cNvSpPr/>
          <p:nvPr/>
        </p:nvSpPr>
        <p:spPr>
          <a:xfrm rot="724200">
            <a:off x="4269960" y="1344600"/>
            <a:ext cx="938160" cy="2030400"/>
          </a:xfrm>
          <a:prstGeom prst="flowChartInputOutpu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ест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Блок-схема: данные 9"/>
          <p:cNvSpPr/>
          <p:nvPr/>
        </p:nvSpPr>
        <p:spPr>
          <a:xfrm rot="702000">
            <a:off x="5773320" y="1487160"/>
            <a:ext cx="946080" cy="2006640"/>
          </a:xfrm>
          <a:prstGeom prst="flowChartInputOutpu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тычи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ая соединительная линия 11"/>
          <p:cNvSpPr/>
          <p:nvPr/>
        </p:nvSpPr>
        <p:spPr>
          <a:xfrm flipV="1">
            <a:off x="2428920" y="836280"/>
            <a:ext cx="774720" cy="280332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ая соединительная линия 13"/>
          <p:cNvSpPr/>
          <p:nvPr/>
        </p:nvSpPr>
        <p:spPr>
          <a:xfrm flipV="1">
            <a:off x="3708360" y="907560"/>
            <a:ext cx="647640" cy="259236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ая соединительная линия 15"/>
          <p:cNvSpPr/>
          <p:nvPr/>
        </p:nvSpPr>
        <p:spPr>
          <a:xfrm flipV="1">
            <a:off x="5148360" y="1052640"/>
            <a:ext cx="647640" cy="252072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Блок-схема: данные 17"/>
          <p:cNvSpPr/>
          <p:nvPr/>
        </p:nvSpPr>
        <p:spPr>
          <a:xfrm rot="20412000">
            <a:off x="2978280" y="3754080"/>
            <a:ext cx="1118880" cy="2689200"/>
          </a:xfrm>
          <a:prstGeom prst="flowChartInputOutpu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Защита, Привлечение  насеком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араллелограмм 19"/>
          <p:cNvSpPr/>
          <p:nvPr/>
        </p:nvSpPr>
        <p:spPr>
          <a:xfrm rot="20207400">
            <a:off x="4436640" y="3683160"/>
            <a:ext cx="1136880" cy="2835000"/>
          </a:xfrm>
          <a:prstGeom prst="parallelogram">
            <a:avLst>
              <a:gd name="adj" fmla="val 25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бразование плодов и семя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араллелограмм 20"/>
          <p:cNvSpPr/>
          <p:nvPr/>
        </p:nvSpPr>
        <p:spPr>
          <a:xfrm rot="20306400">
            <a:off x="5681520" y="3695760"/>
            <a:ext cx="1192320" cy="2741400"/>
          </a:xfrm>
          <a:prstGeom prst="parallelogram">
            <a:avLst>
              <a:gd name="adj" fmla="val 25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бразование пыльцы со сперми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ая соединительная линия 22"/>
          <p:cNvSpPr/>
          <p:nvPr/>
        </p:nvSpPr>
        <p:spPr>
          <a:xfrm>
            <a:off x="2428920" y="3639960"/>
            <a:ext cx="774720" cy="28846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ая соединительная линия 24"/>
          <p:cNvSpPr/>
          <p:nvPr/>
        </p:nvSpPr>
        <p:spPr>
          <a:xfrm>
            <a:off x="3708360" y="3573360"/>
            <a:ext cx="934920" cy="28800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ая соединительная линия 26"/>
          <p:cNvSpPr/>
          <p:nvPr/>
        </p:nvSpPr>
        <p:spPr>
          <a:xfrm>
            <a:off x="5148360" y="3573360"/>
            <a:ext cx="863640" cy="27352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27"/>
          <p:cNvSpPr/>
          <p:nvPr/>
        </p:nvSpPr>
        <p:spPr>
          <a:xfrm>
            <a:off x="826920" y="40464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о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28"/>
          <p:cNvSpPr/>
          <p:nvPr/>
        </p:nvSpPr>
        <p:spPr>
          <a:xfrm>
            <a:off x="7164360" y="5805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унк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8"/>
          <p:cNvSpPr/>
          <p:nvPr/>
        </p:nvSpPr>
        <p:spPr>
          <a:xfrm>
            <a:off x="3132000" y="2602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32523"/>
                </a:solidFill>
                <a:latin typeface="Arial"/>
              </a:rPr>
              <a:t>Схема «Рыб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1"/>
          <p:cNvSpPr/>
          <p:nvPr/>
        </p:nvSpPr>
        <p:spPr>
          <a:xfrm>
            <a:off x="1332000" y="404640"/>
            <a:ext cx="67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гадайте загадк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2"/>
          <p:cNvSpPr/>
          <p:nvPr/>
        </p:nvSpPr>
        <p:spPr>
          <a:xfrm>
            <a:off x="1042920" y="170028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оть цвел цветок и в нужный ср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1187280" y="2637000"/>
            <a:ext cx="69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 вся беда, не дал пл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4"/>
          <p:cNvSpPr/>
          <p:nvPr/>
        </p:nvSpPr>
        <p:spPr>
          <a:xfrm>
            <a:off x="2627280" y="436572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ужской цве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Organization Chart 2"/>
          <p:cNvGrpSpPr/>
          <p:nvPr/>
        </p:nvGrpSpPr>
        <p:grpSpPr>
          <a:xfrm>
            <a:off x="431640" y="1568520"/>
            <a:ext cx="8208360" cy="2939400"/>
            <a:chOff x="431640" y="1568520"/>
            <a:chExt cx="8208360" cy="2939400"/>
          </a:xfrm>
        </p:grpSpPr>
        <p:cxnSp>
          <p:nvCxnSpPr>
            <p:cNvPr id="163" name="_s1028"/>
            <p:cNvCxnSpPr>
              <a:stCxn id="164" idx="0"/>
              <a:endCxn id="165" idx="2"/>
            </p:cNvCxnSpPr>
            <p:nvPr/>
          </p:nvCxnSpPr>
          <p:spPr>
            <a:xfrm flipV="1" rot="16200000">
              <a:off x="4366800" y="2718000"/>
              <a:ext cx="337320" cy="1741320"/>
            </a:xfrm>
            <a:prstGeom prst="bentConnector3">
              <a:avLst>
                <a:gd name="adj1" fmla="val 33760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66" name="_s1029"/>
            <p:cNvCxnSpPr>
              <a:stCxn id="167" idx="0"/>
              <a:endCxn id="165" idx="2"/>
            </p:cNvCxnSpPr>
            <p:nvPr/>
          </p:nvCxnSpPr>
          <p:spPr>
            <a:xfrm flipH="1" flipV="1" rot="5400000">
              <a:off x="2625840" y="2717640"/>
              <a:ext cx="337320" cy="1742040"/>
            </a:xfrm>
            <a:prstGeom prst="bentConnector3">
              <a:avLst>
                <a:gd name="adj1" fmla="val 33760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68" name="_s1030"/>
            <p:cNvCxnSpPr>
              <a:stCxn id="169" idx="0"/>
              <a:endCxn id="170" idx="2"/>
            </p:cNvCxnSpPr>
            <p:nvPr/>
          </p:nvCxnSpPr>
          <p:spPr>
            <a:xfrm flipV="1" rot="16200000">
              <a:off x="6106320" y="1616760"/>
              <a:ext cx="340200" cy="1742040"/>
            </a:xfrm>
            <a:prstGeom prst="bentConnector3">
              <a:avLst>
                <a:gd name="adj1" fmla="val 33580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71" name="_s1031"/>
            <p:cNvCxnSpPr>
              <a:stCxn id="165" idx="0"/>
              <a:endCxn id="170" idx="2"/>
            </p:cNvCxnSpPr>
            <p:nvPr/>
          </p:nvCxnSpPr>
          <p:spPr>
            <a:xfrm flipH="1" flipV="1" rot="5400000">
              <a:off x="4365720" y="1617120"/>
              <a:ext cx="340200" cy="1741320"/>
            </a:xfrm>
            <a:prstGeom prst="bentConnector3">
              <a:avLst>
                <a:gd name="adj1" fmla="val 33580"/>
              </a:avLst>
            </a:prstGeom>
            <a:ln w="38160">
              <a:solidFill>
                <a:srgbClr val="000000"/>
              </a:solidFill>
              <a:miter/>
            </a:ln>
          </p:spPr>
        </p:cxnSp>
        <p:sp>
          <p:nvSpPr>
            <p:cNvPr id="170" name="_s1032"/>
            <p:cNvSpPr/>
            <p:nvPr/>
          </p:nvSpPr>
          <p:spPr>
            <a:xfrm>
              <a:off x="3913920" y="1568520"/>
              <a:ext cx="2984760" cy="73476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50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Цветк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1033"/>
            <p:cNvSpPr/>
            <p:nvPr/>
          </p:nvSpPr>
          <p:spPr>
            <a:xfrm>
              <a:off x="2172960" y="2670840"/>
              <a:ext cx="2984760" cy="73476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Однополы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1034"/>
            <p:cNvSpPr/>
            <p:nvPr/>
          </p:nvSpPr>
          <p:spPr>
            <a:xfrm>
              <a:off x="5655240" y="2670840"/>
              <a:ext cx="2984760" cy="73476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Обоеполы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_s1035"/>
            <p:cNvSpPr/>
            <p:nvPr/>
          </p:nvSpPr>
          <p:spPr>
            <a:xfrm>
              <a:off x="431640" y="3773160"/>
              <a:ext cx="2984760" cy="73476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естичные</a:t>
              </a:r>
              <a:br>
                <a:rPr sz="2100"/>
              </a:b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женские </a:t>
              </a: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♀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_s1036"/>
            <p:cNvSpPr/>
            <p:nvPr/>
          </p:nvSpPr>
          <p:spPr>
            <a:xfrm>
              <a:off x="3913920" y="3773160"/>
              <a:ext cx="2984760" cy="73476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Тычиночные</a:t>
              </a:r>
              <a:br>
                <a:rPr sz="2100"/>
              </a:b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мужские ♂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2" name="Picture 14" descr="Пестичные цветок"/>
          <p:cNvPicPr/>
          <p:nvPr/>
        </p:nvPicPr>
        <p:blipFill>
          <a:blip r:embed="rId1"/>
          <a:stretch/>
        </p:blipFill>
        <p:spPr>
          <a:xfrm>
            <a:off x="971640" y="4653000"/>
            <a:ext cx="1979640" cy="19796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5" descr="Тычиночный цветок"/>
          <p:cNvPicPr/>
          <p:nvPr/>
        </p:nvPicPr>
        <p:blipFill>
          <a:blip r:embed="rId2"/>
          <a:stretch/>
        </p:blipFill>
        <p:spPr>
          <a:xfrm>
            <a:off x="4427640" y="4653000"/>
            <a:ext cx="1979640" cy="1979640"/>
          </a:xfrm>
          <a:prstGeom prst="rect">
            <a:avLst/>
          </a:prstGeom>
          <a:ln w="0">
            <a:noFill/>
          </a:ln>
        </p:spPr>
      </p:pic>
      <p:sp>
        <p:nvSpPr>
          <p:cNvPr id="174" name="Прямоугольник 4"/>
          <p:cNvSpPr/>
          <p:nvPr/>
        </p:nvSpPr>
        <p:spPr>
          <a:xfrm>
            <a:off x="1547640" y="62064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ополые и обоепол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3" descr="Строение цветка"/>
          <p:cNvPicPr/>
          <p:nvPr/>
        </p:nvPicPr>
        <p:blipFill>
          <a:blip r:embed="rId3"/>
          <a:srcRect l="0" t="0" r="0" b="18241"/>
          <a:stretch/>
        </p:blipFill>
        <p:spPr>
          <a:xfrm>
            <a:off x="7093080" y="4076640"/>
            <a:ext cx="18716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0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991280" cy="616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ласс: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6 класс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Тема урока:  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«Цветок»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Цель урока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— изучение строения и функций цветка.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Задачи урока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—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Образовательная: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ормировать у учащихся знания о цветке, как органе семенного размножения покрытосеменных растений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зучить особенность строения и многообразие цветков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формировать понятия “обое – и однополые цветки”, “одно- и двудомные растения”.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Развивающая: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звить практические навыки по распознаванию цветков различных растений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ботать с учебником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бобщать полученные знания, делать самостоятельные выводы.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Воспитательная: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оспитывать любовь и бережное отношение к природе, цветущим растениям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звить любознательность, стремление к знаниям.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Формируемые УУД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: 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познавательные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— установление причинно-следственных связей, обобщение,  выдвижение гипотез, работа с текстом;  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регулятивные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— целеполагание, адекватная самооценка выполняемых действий, саморегуляция эмоционального состояния;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 коммуникативные 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— формулирование собственного мнения, способность слушать мнение других, организация групповой деятельности в сотрудничестве, взаимный контроль и взаимопомощь.</a:t>
            </a:r>
            <a:br>
              <a:rPr sz="1600"/>
            </a:br>
            <a:br>
              <a:rPr sz="1600"/>
            </a:br>
            <a:br>
              <a:rPr sz="22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-360" y="580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1"/>
          <p:cNvSpPr/>
          <p:nvPr/>
        </p:nvSpPr>
        <p:spPr>
          <a:xfrm>
            <a:off x="1332000" y="69228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одомные и двудом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Organization Chart 2"/>
          <p:cNvGrpSpPr/>
          <p:nvPr/>
        </p:nvGrpSpPr>
        <p:grpSpPr>
          <a:xfrm>
            <a:off x="250920" y="1571760"/>
            <a:ext cx="8641080" cy="2142360"/>
            <a:chOff x="250920" y="1571760"/>
            <a:chExt cx="8641080" cy="2142360"/>
          </a:xfrm>
        </p:grpSpPr>
        <p:cxnSp>
          <p:nvCxnSpPr>
            <p:cNvPr id="178" name="_s2052"/>
            <p:cNvCxnSpPr>
              <a:stCxn id="179" idx="0"/>
              <a:endCxn id="180" idx="2"/>
            </p:cNvCxnSpPr>
            <p:nvPr/>
          </p:nvCxnSpPr>
          <p:spPr>
            <a:xfrm flipV="1" rot="16200000">
              <a:off x="5528160" y="1482840"/>
              <a:ext cx="401760" cy="2319840"/>
            </a:xfrm>
            <a:prstGeom prst="bentConnector3">
              <a:avLst>
                <a:gd name="adj1" fmla="val 28340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81" name="_s2053"/>
            <p:cNvCxnSpPr>
              <a:stCxn id="182" idx="0"/>
              <a:endCxn id="180" idx="2"/>
            </p:cNvCxnSpPr>
            <p:nvPr/>
          </p:nvCxnSpPr>
          <p:spPr>
            <a:xfrm flipH="1" flipV="1" rot="5400000">
              <a:off x="3210840" y="1485360"/>
              <a:ext cx="401760" cy="2315520"/>
            </a:xfrm>
            <a:prstGeom prst="bentConnector3">
              <a:avLst>
                <a:gd name="adj1" fmla="val 28340"/>
              </a:avLst>
            </a:prstGeom>
            <a:ln w="38160">
              <a:solidFill>
                <a:srgbClr val="000000"/>
              </a:solidFill>
              <a:miter/>
            </a:ln>
          </p:spPr>
        </p:cxnSp>
        <p:sp>
          <p:nvSpPr>
            <p:cNvPr id="180" name="_s2054"/>
            <p:cNvSpPr/>
            <p:nvPr/>
          </p:nvSpPr>
          <p:spPr>
            <a:xfrm>
              <a:off x="2565720" y="1571760"/>
              <a:ext cx="4007160" cy="85572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50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>
                  <a:solidFill>
                    <a:srgbClr val="000000"/>
                  </a:solidFill>
                  <a:latin typeface="Arial"/>
                </a:rPr>
                <a:t>Цветки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2055"/>
            <p:cNvSpPr/>
            <p:nvPr/>
          </p:nvSpPr>
          <p:spPr>
            <a:xfrm>
              <a:off x="250920" y="2858400"/>
              <a:ext cx="4007160" cy="85572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>
                  <a:solidFill>
                    <a:srgbClr val="000000"/>
                  </a:solidFill>
                  <a:latin typeface="Arial"/>
                </a:rPr>
                <a:t>Однодомные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_s2056"/>
            <p:cNvSpPr/>
            <p:nvPr/>
          </p:nvSpPr>
          <p:spPr>
            <a:xfrm>
              <a:off x="4884840" y="2858400"/>
              <a:ext cx="4007160" cy="85572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>
                  <a:solidFill>
                    <a:srgbClr val="000000"/>
                  </a:solidFill>
                  <a:latin typeface="Arial"/>
                </a:rPr>
                <a:t>Двудомные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10"/>
          <p:cNvGrpSpPr/>
          <p:nvPr/>
        </p:nvGrpSpPr>
        <p:grpSpPr>
          <a:xfrm>
            <a:off x="1187280" y="3933720"/>
            <a:ext cx="2664000" cy="2446560"/>
            <a:chOff x="1187280" y="3933720"/>
            <a:chExt cx="2664000" cy="2446560"/>
          </a:xfrm>
        </p:grpSpPr>
        <p:pic>
          <p:nvPicPr>
            <p:cNvPr id="184" name="Picture 11" descr="Огурец муж"/>
            <p:cNvPicPr/>
            <p:nvPr/>
          </p:nvPicPr>
          <p:blipFill>
            <a:blip r:embed="rId1"/>
            <a:stretch/>
          </p:blipFill>
          <p:spPr>
            <a:xfrm>
              <a:off x="1187280" y="3933720"/>
              <a:ext cx="1079640" cy="23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2" descr="Огурец жен"/>
            <p:cNvPicPr/>
            <p:nvPr/>
          </p:nvPicPr>
          <p:blipFill>
            <a:blip r:embed="rId2"/>
            <a:stretch/>
          </p:blipFill>
          <p:spPr>
            <a:xfrm>
              <a:off x="2771640" y="3933720"/>
              <a:ext cx="1079640" cy="23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3" descr="дом"/>
            <p:cNvPicPr/>
            <p:nvPr/>
          </p:nvPicPr>
          <p:blipFill>
            <a:blip r:embed="rId3"/>
            <a:stretch/>
          </p:blipFill>
          <p:spPr>
            <a:xfrm>
              <a:off x="1332000" y="4653000"/>
              <a:ext cx="2425680" cy="172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14" descr="j0309719"/>
            <p:cNvPicPr/>
            <p:nvPr/>
          </p:nvPicPr>
          <p:blipFill>
            <a:blip r:embed="rId4"/>
            <a:stretch/>
          </p:blipFill>
          <p:spPr>
            <a:xfrm>
              <a:off x="2089080" y="5589720"/>
              <a:ext cx="466920" cy="54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15" descr="j0309720"/>
            <p:cNvPicPr/>
            <p:nvPr/>
          </p:nvPicPr>
          <p:blipFill>
            <a:blip r:embed="rId5"/>
            <a:stretch/>
          </p:blipFill>
          <p:spPr>
            <a:xfrm>
              <a:off x="2700360" y="5589720"/>
              <a:ext cx="401760" cy="57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9" name="Group 24"/>
          <p:cNvGrpSpPr/>
          <p:nvPr/>
        </p:nvGrpSpPr>
        <p:grpSpPr>
          <a:xfrm>
            <a:off x="5003640" y="3592440"/>
            <a:ext cx="3780000" cy="2789280"/>
            <a:chOff x="5003640" y="3592440"/>
            <a:chExt cx="3780000" cy="2789280"/>
          </a:xfrm>
        </p:grpSpPr>
        <p:grpSp>
          <p:nvGrpSpPr>
            <p:cNvPr id="190" name="Group 16"/>
            <p:cNvGrpSpPr/>
            <p:nvPr/>
          </p:nvGrpSpPr>
          <p:grpSpPr>
            <a:xfrm>
              <a:off x="5003640" y="3819960"/>
              <a:ext cx="1704960" cy="2561760"/>
              <a:chOff x="5003640" y="3819960"/>
              <a:chExt cx="1704960" cy="2561760"/>
            </a:xfrm>
          </p:grpSpPr>
          <p:pic>
            <p:nvPicPr>
              <p:cNvPr id="191" name="Picture 17" descr="дом"/>
              <p:cNvPicPr/>
              <p:nvPr/>
            </p:nvPicPr>
            <p:blipFill>
              <a:blip r:embed="rId6"/>
              <a:stretch/>
            </p:blipFill>
            <p:spPr>
              <a:xfrm>
                <a:off x="5003640" y="4654440"/>
                <a:ext cx="1704960" cy="172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2" name="Picture 18" descr="j0309719"/>
              <p:cNvPicPr/>
              <p:nvPr/>
            </p:nvPicPr>
            <p:blipFill>
              <a:blip r:embed="rId7"/>
              <a:stretch/>
            </p:blipFill>
            <p:spPr>
              <a:xfrm>
                <a:off x="5689440" y="5551560"/>
                <a:ext cx="466920" cy="541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3" name="Picture 19" descr="Тополь муж"/>
              <p:cNvPicPr/>
              <p:nvPr/>
            </p:nvPicPr>
            <p:blipFill>
              <a:blip r:embed="rId8"/>
              <a:stretch/>
            </p:blipFill>
            <p:spPr>
              <a:xfrm rot="20764800">
                <a:off x="5292360" y="3933720"/>
                <a:ext cx="1079640" cy="1079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94" name="Group 20"/>
            <p:cNvGrpSpPr/>
            <p:nvPr/>
          </p:nvGrpSpPr>
          <p:grpSpPr>
            <a:xfrm>
              <a:off x="7078680" y="3592440"/>
              <a:ext cx="1704960" cy="2789280"/>
              <a:chOff x="7078680" y="3592440"/>
              <a:chExt cx="1704960" cy="2789280"/>
            </a:xfrm>
          </p:grpSpPr>
          <p:pic>
            <p:nvPicPr>
              <p:cNvPr id="195" name="Picture 21" descr="дом"/>
              <p:cNvPicPr/>
              <p:nvPr/>
            </p:nvPicPr>
            <p:blipFill>
              <a:blip r:embed="rId9"/>
              <a:stretch/>
            </p:blipFill>
            <p:spPr>
              <a:xfrm>
                <a:off x="7078680" y="4654440"/>
                <a:ext cx="1704960" cy="172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6" name="Picture 22" descr="j0309720"/>
              <p:cNvPicPr/>
              <p:nvPr/>
            </p:nvPicPr>
            <p:blipFill>
              <a:blip r:embed="rId10"/>
              <a:stretch/>
            </p:blipFill>
            <p:spPr>
              <a:xfrm>
                <a:off x="7699320" y="5589720"/>
                <a:ext cx="40176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7" name="Picture 23" descr="Тополь жен"/>
              <p:cNvPicPr/>
              <p:nvPr/>
            </p:nvPicPr>
            <p:blipFill>
              <a:blip r:embed="rId11"/>
              <a:stretch/>
            </p:blipFill>
            <p:spPr>
              <a:xfrm rot="966600">
                <a:off x="7524720" y="3716280"/>
                <a:ext cx="1079640" cy="1312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0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Скругленный прямоугольник 1"/>
          <p:cNvSpPr/>
          <p:nvPr/>
        </p:nvSpPr>
        <p:spPr>
          <a:xfrm>
            <a:off x="285840" y="214200"/>
            <a:ext cx="5072040" cy="6643800"/>
          </a:xfrm>
          <a:custGeom>
            <a:avLst/>
            <a:gdLst>
              <a:gd name="textAreaLeft" fmla="*/ 247320 w 5072040"/>
              <a:gd name="textAreaRight" fmla="*/ 4824720 w 5072040"/>
              <a:gd name="textAreaTop" fmla="*/ 247320 h 6643800"/>
              <a:gd name="textAreaBottom" fmla="*/ 6396480 h 6643800"/>
            </a:gdLst>
            <a:ahLst/>
            <a:rect l="textAreaLeft" t="textAreaTop" r="textAreaRight" b="textAreaBottom"/>
            <a:pathLst>
              <a:path w="21600" h="28293">
                <a:moveTo>
                  <a:pt x="3600" y="0"/>
                </a:moveTo>
                <a:arcTo wR="3600" hR="3600" stAng="16200000" swAng="-5400000"/>
                <a:lnTo>
                  <a:pt x="0" y="24693"/>
                </a:lnTo>
                <a:arcTo wR="3600" hR="3600" stAng="10800000" swAng="-5400000"/>
                <a:lnTo>
                  <a:pt x="18000" y="282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fe6c7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 – чашеч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 – лепест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 – тычин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 – пести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 – простой околоцвет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правильный цвето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* - правильный цвето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пестичные (женские) цвет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тычиночные (мужские)    цвет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обоеполые цве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 ) – сросшиеся части цвет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ифры – количество частей   цве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Скругленный прямоугольник 2"/>
          <p:cNvSpPr/>
          <p:nvPr/>
        </p:nvSpPr>
        <p:spPr>
          <a:xfrm>
            <a:off x="5643720" y="357120"/>
            <a:ext cx="3143160" cy="1428840"/>
          </a:xfrm>
          <a:prstGeom prst="roundRect">
            <a:avLst>
              <a:gd name="adj" fmla="val 16667"/>
            </a:avLst>
          </a:prstGeom>
          <a:solidFill>
            <a:srgbClr val="e6d9a8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Форму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цветк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Группа 115"/>
          <p:cNvGrpSpPr/>
          <p:nvPr/>
        </p:nvGrpSpPr>
        <p:grpSpPr>
          <a:xfrm>
            <a:off x="5715000" y="1857240"/>
            <a:ext cx="3071880" cy="4214880"/>
            <a:chOff x="5715000" y="1857240"/>
            <a:chExt cx="3071880" cy="4214880"/>
          </a:xfrm>
        </p:grpSpPr>
        <p:grpSp>
          <p:nvGrpSpPr>
            <p:cNvPr id="201" name="Группа 113"/>
            <p:cNvGrpSpPr/>
            <p:nvPr/>
          </p:nvGrpSpPr>
          <p:grpSpPr>
            <a:xfrm>
              <a:off x="5715000" y="4572000"/>
              <a:ext cx="3071880" cy="1500120"/>
              <a:chOff x="5715000" y="4572000"/>
              <a:chExt cx="3071880" cy="1500120"/>
            </a:xfrm>
          </p:grpSpPr>
          <p:sp>
            <p:nvSpPr>
              <p:cNvPr id="202" name="Скругленный прямоугольник 6"/>
              <p:cNvSpPr/>
              <p:nvPr/>
            </p:nvSpPr>
            <p:spPr>
              <a:xfrm>
                <a:off x="5715000" y="4572000"/>
                <a:ext cx="3071880" cy="1500120"/>
              </a:xfrm>
              <a:prstGeom prst="roundRect">
                <a:avLst>
                  <a:gd name="adj" fmla="val 16667"/>
                </a:avLst>
              </a:prstGeom>
              <a:solidFill>
                <a:srgbClr val="efe6c7"/>
              </a:solidFill>
              <a:ln w="255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Calibri"/>
                  </a:rPr>
                  <a:t>Цветок вишни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Calibri"/>
                  </a:rPr>
                  <a:t>*       </a:t>
                </a:r>
                <a:r>
                  <a:rPr b="0" lang="ru-RU" sz="3200" spc="-1" strike="noStrike">
                    <a:solidFill>
                      <a:srgbClr val="000000"/>
                    </a:solidFill>
                    <a:latin typeface="Calibri"/>
                  </a:rPr>
                  <a:t>Ч</a:t>
                </a:r>
                <a:r>
                  <a:rPr b="0" lang="ru-RU" sz="2000" spc="-1" strike="noStrike">
                    <a:solidFill>
                      <a:srgbClr val="000000"/>
                    </a:solidFill>
                    <a:latin typeface="Calibri"/>
                  </a:rPr>
                  <a:t>5</a:t>
                </a:r>
                <a:r>
                  <a:rPr b="0" lang="ru-RU" sz="3200" spc="-1" strike="noStrike">
                    <a:solidFill>
                      <a:srgbClr val="000000"/>
                    </a:solidFill>
                    <a:latin typeface="Calibri"/>
                  </a:rPr>
                  <a:t> Л</a:t>
                </a:r>
                <a:r>
                  <a:rPr b="0" lang="ru-RU" sz="2000" spc="-1" strike="noStrike">
                    <a:solidFill>
                      <a:srgbClr val="000000"/>
                    </a:solidFill>
                    <a:latin typeface="Calibri"/>
                  </a:rPr>
                  <a:t>5</a:t>
                </a:r>
                <a:r>
                  <a:rPr b="0" lang="ru-RU" sz="3200" spc="-1" strike="noStrike">
                    <a:solidFill>
                      <a:srgbClr val="000000"/>
                    </a:solidFill>
                    <a:latin typeface="Calibri"/>
                  </a:rPr>
                  <a:t> Т   П</a:t>
                </a:r>
                <a:r>
                  <a:rPr b="0" lang="ru-RU" sz="2000" spc="-1" strike="noStrike">
                    <a:solidFill>
                      <a:srgbClr val="000000"/>
                    </a:solidFill>
                    <a:latin typeface="Calibri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3" name="Group 99"/>
              <p:cNvGrpSpPr/>
              <p:nvPr/>
            </p:nvGrpSpPr>
            <p:grpSpPr>
              <a:xfrm>
                <a:off x="6215040" y="5357520"/>
                <a:ext cx="500400" cy="571320"/>
                <a:chOff x="6215040" y="5357520"/>
                <a:chExt cx="500400" cy="571320"/>
              </a:xfrm>
            </p:grpSpPr>
            <p:grpSp>
              <p:nvGrpSpPr>
                <p:cNvPr id="204" name="Group 100"/>
                <p:cNvGrpSpPr/>
                <p:nvPr/>
              </p:nvGrpSpPr>
              <p:grpSpPr>
                <a:xfrm>
                  <a:off x="6215040" y="5520240"/>
                  <a:ext cx="432360" cy="408600"/>
                  <a:chOff x="6215040" y="5520240"/>
                  <a:chExt cx="432360" cy="408600"/>
                </a:xfrm>
              </p:grpSpPr>
              <p:cxnSp>
                <p:nvCxnSpPr>
                  <p:cNvPr id="205" name="AutoShape 101"/>
                  <p:cNvCxnSpPr/>
                  <p:nvPr/>
                </p:nvCxnSpPr>
                <p:spPr>
                  <a:xfrm>
                    <a:off x="6430680" y="5668560"/>
                    <a:ext cx="1800" cy="2606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206" name="Oval 102"/>
                  <p:cNvSpPr/>
                  <p:nvPr/>
                </p:nvSpPr>
                <p:spPr>
                  <a:xfrm>
                    <a:off x="6215040" y="5520240"/>
                    <a:ext cx="432000" cy="200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cxnSp>
                <p:nvCxnSpPr>
                  <p:cNvPr id="207" name="AutoShape 103"/>
                  <p:cNvCxnSpPr/>
                  <p:nvPr/>
                </p:nvCxnSpPr>
                <p:spPr>
                  <a:xfrm>
                    <a:off x="6215040" y="5857200"/>
                    <a:ext cx="432720" cy="10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</p:grpSp>
            <p:cxnSp>
              <p:nvCxnSpPr>
                <p:cNvPr id="208" name="AutoShape 104"/>
                <p:cNvCxnSpPr/>
                <p:nvPr/>
              </p:nvCxnSpPr>
              <p:spPr>
                <a:xfrm flipV="1">
                  <a:off x="6465240" y="5357520"/>
                  <a:ext cx="250560" cy="16272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</p:grpSp>
          <p:sp>
            <p:nvSpPr>
              <p:cNvPr id="209" name="Прямоугольник 8"/>
              <p:cNvSpPr/>
              <p:nvPr/>
            </p:nvSpPr>
            <p:spPr>
              <a:xfrm rot="5400000">
                <a:off x="7751160" y="5465160"/>
                <a:ext cx="357120" cy="71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Calibri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10" name="Picture 105" descr=""/>
            <p:cNvPicPr/>
            <p:nvPr/>
          </p:nvPicPr>
          <p:blipFill>
            <a:blip r:embed="rId1"/>
            <a:stretch/>
          </p:blipFill>
          <p:spPr>
            <a:xfrm>
              <a:off x="6000480" y="1857240"/>
              <a:ext cx="2428920" cy="2488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1" name="Oval 96"/>
          <p:cNvSpPr/>
          <p:nvPr/>
        </p:nvSpPr>
        <p:spPr>
          <a:xfrm>
            <a:off x="857160" y="4314960"/>
            <a:ext cx="308160" cy="2095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6"/>
          <p:cNvSpPr/>
          <p:nvPr/>
        </p:nvSpPr>
        <p:spPr>
          <a:xfrm>
            <a:off x="1011240" y="4524480"/>
            <a:ext cx="31680" cy="344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ая соединительная линия 21"/>
          <p:cNvSpPr/>
          <p:nvPr/>
        </p:nvSpPr>
        <p:spPr>
          <a:xfrm>
            <a:off x="900000" y="4724280"/>
            <a:ext cx="2160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4" name="Прямая со стрелкой 23"/>
          <p:cNvCxnSpPr/>
          <p:nvPr/>
        </p:nvCxnSpPr>
        <p:spPr>
          <a:xfrm flipV="1">
            <a:off x="1116000" y="4220280"/>
            <a:ext cx="216720" cy="7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215" name="Picture 2" descr="C:\Users\User\Desktop\Безымянный.png"/>
          <p:cNvPicPr/>
          <p:nvPr/>
        </p:nvPicPr>
        <p:blipFill>
          <a:blip r:embed="rId2"/>
          <a:stretch/>
        </p:blipFill>
        <p:spPr>
          <a:xfrm>
            <a:off x="395280" y="3284640"/>
            <a:ext cx="720720" cy="504720"/>
          </a:xfrm>
          <a:prstGeom prst="rect">
            <a:avLst/>
          </a:prstGeom>
          <a:ln w="0">
            <a:noFill/>
          </a:ln>
        </p:spPr>
      </p:pic>
      <p:cxnSp>
        <p:nvCxnSpPr>
          <p:cNvPr id="216" name="Прямая со стрелкой 26"/>
          <p:cNvCxnSpPr/>
          <p:nvPr/>
        </p:nvCxnSpPr>
        <p:spPr>
          <a:xfrm flipV="1">
            <a:off x="539280" y="2349000"/>
            <a:ext cx="361080" cy="216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Прямоугольник 1"/>
          <p:cNvSpPr/>
          <p:nvPr/>
        </p:nvSpPr>
        <p:spPr>
          <a:xfrm>
            <a:off x="1403280" y="1268280"/>
            <a:ext cx="6408720" cy="41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Цветок – э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яркий венчик  в)пестик и тычин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околоцветник  г)столбик и рыль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Главные части цвет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лепестки и чашелист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пестик и тычи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Часто яркоокрашен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чашелистики   в)лепестки венч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тычинки          г)пест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Раздельнополые цветки, у которы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есть тычинки и пест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есть лепестки и чашелис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есть только тычи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есть только пестик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2"/>
          <p:cNvSpPr/>
          <p:nvPr/>
        </p:nvSpPr>
        <p:spPr>
          <a:xfrm>
            <a:off x="2124000" y="54936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32523"/>
                </a:solidFill>
                <a:latin typeface="Arial"/>
              </a:rPr>
              <a:t>Те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3"/>
          <p:cNvSpPr/>
          <p:nvPr/>
        </p:nvSpPr>
        <p:spPr>
          <a:xfrm>
            <a:off x="1692360" y="5732640"/>
            <a:ext cx="51832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ы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1-В; 2-Б; 3-В; 4-В,Г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оугольник 1"/>
          <p:cNvSpPr/>
          <p:nvPr/>
        </p:nvSpPr>
        <p:spPr>
          <a:xfrm>
            <a:off x="2050920" y="692280"/>
            <a:ext cx="53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Times New Roman"/>
              </a:rPr>
              <a:t>5.Что такое цветок? Назовите основные его части и их функ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571680" y="1052640"/>
            <a:ext cx="7913520" cy="50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Прямоугольник 1"/>
          <p:cNvSpPr/>
          <p:nvPr/>
        </p:nvSpPr>
        <p:spPr>
          <a:xfrm>
            <a:off x="2484360" y="62064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аграммы «Цветок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2"/>
          <p:cNvSpPr/>
          <p:nvPr/>
        </p:nvSpPr>
        <p:spPr>
          <a:xfrm>
            <a:off x="826920" y="2060640"/>
            <a:ext cx="7129800" cy="24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Вязазь               7. Ч—ш-л-ст-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Л-п-ст-к            8. Лькинп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Чеклитос           9. Т-ч-н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Ц--т-н--к-        10. Китп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Кстоибл           11. О—л-цв-тн-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 Жетоцвлое       12. Кичв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Прямоугольник 1"/>
          <p:cNvSpPr/>
          <p:nvPr/>
        </p:nvSpPr>
        <p:spPr>
          <a:xfrm>
            <a:off x="214200" y="857160"/>
            <a:ext cx="8643960" cy="5715000"/>
          </a:xfrm>
          <a:prstGeom prst="rect">
            <a:avLst/>
          </a:prstGeom>
          <a:solidFill>
            <a:srgbClr val="00206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         </a:t>
            </a: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Цветок – орган семенного размноже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Цветок состоит их цветоложа, околоцветника, пестика и тычинок. Околоцветник бывает простым и двойны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         </a:t>
            </a: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Лепестки цветка образуют венчик, а чашелистики – чашечк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         </a:t>
            </a: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Цветки бывают однополые (содержат и пестики и тычинки) и раздельнополые (содержат только тычинки или только пестики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          </a:t>
            </a: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Растения на которых развиваются и тычиночные и пестичные цветки, называется однодомны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          </a:t>
            </a: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Растения на которых цветут только пестичные или только тычиночные цветы, называется двудомны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Рисунок 3" descr="_Fragaria_vesca_L_.jpg"/>
          <p:cNvPicPr/>
          <p:nvPr/>
        </p:nvPicPr>
        <p:blipFill>
          <a:blip r:embed="rId1"/>
          <a:srcRect l="51573" t="3326" r="-1225" b="49056"/>
          <a:stretch/>
        </p:blipFill>
        <p:spPr>
          <a:xfrm>
            <a:off x="285840" y="928800"/>
            <a:ext cx="642960" cy="571320"/>
          </a:xfrm>
          <a:prstGeom prst="rect">
            <a:avLst/>
          </a:prstGeom>
          <a:ln w="0">
            <a:noFill/>
          </a:ln>
        </p:spPr>
      </p:pic>
      <p:sp>
        <p:nvSpPr>
          <p:cNvPr id="226" name="Овал 3"/>
          <p:cNvSpPr/>
          <p:nvPr/>
        </p:nvSpPr>
        <p:spPr>
          <a:xfrm>
            <a:off x="357120" y="1643040"/>
            <a:ext cx="357120" cy="428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Рисунок 3" descr="_Fragaria_vesca_L_.jpg"/>
          <p:cNvPicPr/>
          <p:nvPr/>
        </p:nvPicPr>
        <p:blipFill>
          <a:blip r:embed="rId2"/>
          <a:srcRect l="51573" t="3326" r="-1225" b="49056"/>
          <a:stretch/>
        </p:blipFill>
        <p:spPr>
          <a:xfrm>
            <a:off x="250920" y="1628640"/>
            <a:ext cx="642960" cy="57168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3" descr="_Fragaria_vesca_L_.jpg"/>
          <p:cNvPicPr/>
          <p:nvPr/>
        </p:nvPicPr>
        <p:blipFill>
          <a:blip r:embed="rId3"/>
          <a:srcRect l="51573" t="3326" r="-1225" b="49056"/>
          <a:stretch/>
        </p:blipFill>
        <p:spPr>
          <a:xfrm>
            <a:off x="324000" y="2349360"/>
            <a:ext cx="642960" cy="57168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3" descr="_Fragaria_vesca_L_.jpg"/>
          <p:cNvPicPr/>
          <p:nvPr/>
        </p:nvPicPr>
        <p:blipFill>
          <a:blip r:embed="rId4"/>
          <a:srcRect l="51573" t="3326" r="-1225" b="49056"/>
          <a:stretch/>
        </p:blipFill>
        <p:spPr>
          <a:xfrm>
            <a:off x="324000" y="3213000"/>
            <a:ext cx="642960" cy="57168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3" descr="_Fragaria_vesca_L_.jpg"/>
          <p:cNvPicPr/>
          <p:nvPr/>
        </p:nvPicPr>
        <p:blipFill>
          <a:blip r:embed="rId5"/>
          <a:srcRect l="51573" t="3326" r="-1225" b="49056"/>
          <a:stretch/>
        </p:blipFill>
        <p:spPr>
          <a:xfrm>
            <a:off x="395280" y="4365720"/>
            <a:ext cx="642960" cy="571320"/>
          </a:xfrm>
          <a:prstGeom prst="rect">
            <a:avLst/>
          </a:prstGeom>
          <a:ln w="0">
            <a:noFill/>
          </a:ln>
        </p:spPr>
      </p:pic>
      <p:pic>
        <p:nvPicPr>
          <p:cNvPr id="231" name="Рисунок 3" descr="_Fragaria_vesca_L_.jpg"/>
          <p:cNvPicPr/>
          <p:nvPr/>
        </p:nvPicPr>
        <p:blipFill>
          <a:blip r:embed="rId6"/>
          <a:srcRect l="51573" t="3326" r="-1225" b="49056"/>
          <a:stretch/>
        </p:blipFill>
        <p:spPr>
          <a:xfrm>
            <a:off x="468360" y="5229360"/>
            <a:ext cx="642960" cy="571320"/>
          </a:xfrm>
          <a:prstGeom prst="rect">
            <a:avLst/>
          </a:prstGeom>
          <a:ln w="0">
            <a:noFill/>
          </a:ln>
        </p:spPr>
      </p:pic>
      <p:sp>
        <p:nvSpPr>
          <p:cNvPr id="232" name="TextBox 9"/>
          <p:cNvSpPr/>
          <p:nvPr/>
        </p:nvSpPr>
        <p:spPr>
          <a:xfrm>
            <a:off x="1403280" y="189000"/>
            <a:ext cx="66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32523"/>
                </a:solidFill>
                <a:latin typeface="Arial"/>
              </a:rPr>
              <a:t>Вывод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1"/>
          <p:cNvSpPr/>
          <p:nvPr/>
        </p:nvSpPr>
        <p:spPr>
          <a:xfrm>
            <a:off x="1619280" y="1384560"/>
            <a:ext cx="6048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953735"/>
                </a:solidFill>
                <a:uFillTx/>
                <a:latin typeface="Arial"/>
                <a:ea typeface="Times New Roman"/>
              </a:rPr>
              <a:t> </a:t>
            </a:r>
            <a:r>
              <a:rPr b="1" lang="ru-RU" sz="3200" spc="-1" strike="noStrike" u="sng">
                <a:solidFill>
                  <a:srgbClr val="953735"/>
                </a:solidFill>
                <a:uFillTx/>
                <a:latin typeface="Arial"/>
                <a:ea typeface="Times New Roman"/>
              </a:rPr>
              <a:t>Домашнее 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Изучите параграф 28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выучите терми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изготовьте модель цветка (обоеполого или однополого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"/>
          <p:cNvSpPr/>
          <p:nvPr/>
        </p:nvSpPr>
        <p:spPr>
          <a:xfrm>
            <a:off x="1835280" y="321840"/>
            <a:ext cx="6049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32523"/>
                </a:solidFill>
                <a:uFillTx/>
                <a:latin typeface="Arial"/>
                <a:ea typeface="Times New Roman"/>
              </a:rPr>
              <a:t>Рефлекс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Достигли ли вы поставленной цели урока? В какой степен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 узнали нового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 вас удивил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Прямоугольник 1"/>
          <p:cNvSpPr/>
          <p:nvPr/>
        </p:nvSpPr>
        <p:spPr>
          <a:xfrm>
            <a:off x="1258920" y="2637000"/>
            <a:ext cx="626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festival.1september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"/>
          <p:cNvSpPr/>
          <p:nvPr/>
        </p:nvSpPr>
        <p:spPr>
          <a:xfrm>
            <a:off x="755640" y="475560"/>
            <a:ext cx="7704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32523"/>
                </a:solidFill>
                <a:latin typeface="Arial"/>
                <a:ea typeface="Times New Roman"/>
              </a:rPr>
              <a:t>Литерату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Биология. Растения. Грибы. Лишайники. 6 класс: поурочные планы по учебнику В.В. Пасечник. Волгоград 200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Учебник В.В. Пасечник Биология. Бактерии. Грибы. Лишайники. 6 класс.- М.:Дрофа, 200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чая тетрад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Биология. Растения. Грибы. Лишайники. 6 класс: В.В. Пасечник, Т.А.Снисаренко.- М.:Дрофа, 201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формационные сетевые ресурс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 4"/>
          <p:cNvSpPr/>
          <p:nvPr/>
        </p:nvSpPr>
        <p:spPr>
          <a:xfrm>
            <a:off x="1258920" y="306864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search.babylon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5"/>
          <p:cNvSpPr/>
          <p:nvPr/>
        </p:nvSpPr>
        <p:spPr>
          <a:xfrm>
            <a:off x="1332000" y="3500280"/>
            <a:ext cx="453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www.myshared.ru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оугольник 6"/>
          <p:cNvSpPr/>
          <p:nvPr/>
        </p:nvSpPr>
        <p:spPr>
          <a:xfrm>
            <a:off x="5148360" y="263700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://edu.of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оугольник 7"/>
          <p:cNvSpPr/>
          <p:nvPr/>
        </p:nvSpPr>
        <p:spPr>
          <a:xfrm>
            <a:off x="5219640" y="3244680"/>
            <a:ext cx="21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http://www.uchportal.r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>
            <a:off x="684360" y="509760"/>
            <a:ext cx="79200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борудова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П.к., проектор, презентации, учебники, модели цветков: вишни, картофеля, гороха, цветущие комнатные растения, таблица “Строение цветка”, термины по теме, гербарный материал, нарисованные части цветка, тестовые зад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ип урока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учение нового матери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етоды обучения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еседа, проблемно-поисковый, объяснительно-иллюстративный, исследовательск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ип урока: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рок усвоения новых знаний.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Учебно-методическая литература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МК  линии В.В.Пасеч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900000" y="260280"/>
            <a:ext cx="74883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ие черты сходства просматриваются между типичным побегом и видоизмененными побегам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ое строение имеет клубень картофел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то доказывает, что луковица-побег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ие растения имеют видоизмененные побеги-корневищ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 человек использует видоизмененные побег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Рисунок8"/>
          <p:cNvPicPr/>
          <p:nvPr/>
        </p:nvPicPr>
        <p:blipFill>
          <a:blip r:embed="rId1"/>
          <a:stretch/>
        </p:blipFill>
        <p:spPr>
          <a:xfrm>
            <a:off x="395280" y="3357720"/>
            <a:ext cx="2808360" cy="2879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луковица3"/>
          <p:cNvPicPr/>
          <p:nvPr/>
        </p:nvPicPr>
        <p:blipFill>
          <a:blip r:embed="rId2"/>
          <a:stretch/>
        </p:blipFill>
        <p:spPr>
          <a:xfrm>
            <a:off x="6084720" y="3284640"/>
            <a:ext cx="2590920" cy="3044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8" name="Picture 2" descr="C:\Users\User\Desktop\p73.jpg"/>
          <p:cNvPicPr/>
          <p:nvPr/>
        </p:nvPicPr>
        <p:blipFill>
          <a:blip r:embed="rId3"/>
          <a:stretch/>
        </p:blipFill>
        <p:spPr>
          <a:xfrm>
            <a:off x="3276720" y="3284640"/>
            <a:ext cx="27558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5"/>
          <p:cNvSpPr/>
          <p:nvPr/>
        </p:nvSpPr>
        <p:spPr>
          <a:xfrm>
            <a:off x="1908000" y="62064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 Кто быстрее разгадает кроссворд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C:\Users\User\Desktop\0.gif"/>
          <p:cNvPicPr/>
          <p:nvPr/>
        </p:nvPicPr>
        <p:blipFill>
          <a:blip r:embed="rId1"/>
          <a:stretch/>
        </p:blipFill>
        <p:spPr>
          <a:xfrm>
            <a:off x="1332000" y="1484280"/>
            <a:ext cx="5976720" cy="23050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3"/>
          <p:cNvSpPr/>
          <p:nvPr/>
        </p:nvSpPr>
        <p:spPr>
          <a:xfrm>
            <a:off x="468360" y="4077360"/>
            <a:ext cx="8207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1. Видоизменённый подземный побег, образующийся на верхушке столона, запасающий питательные вещества в утолщённой стеблевой части и служащий для вегетативного размножения. Несёт пазушные почк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2. Побег, у которого стебель, листья, почки необратимо меняют форму и функцию, что представляет собой следствие приспособительных изменений в ходе эволюци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3. Укороченный побег, стеблевая часть которого представлена плоским утолщением – донцем. Питательные вещества запасаются в сочных чешуевидных листьях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4. Видоизменённый многолетний подземный побег с узлами, междоузлиями, чешуевидными листьями и почками, служащий для вегетативного размножения, возобновления и запасания питательных веществ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5. Удлиненный ползучий однолетний побег, образующий на верхушке клубень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"/>
          <p:cNvSpPr/>
          <p:nvPr/>
        </p:nvSpPr>
        <p:spPr>
          <a:xfrm>
            <a:off x="684360" y="3872880"/>
            <a:ext cx="770400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1. Видоизменённый подземный побег, образующийся на верхушке столона, запасающий питательные вещества в утолщённой стеблевой части и служащий для вегетативного размножения. Несёт пазушные почк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2. Побег, у которого стебель, листья, почки необратимо меняют форму и функцию, что представляет собой следствие приспособительных изменений в ходе эволюци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3. Укороченный побег, стеблевая часть которого представлена плоским утолщением – донцем. Питательные вещества запасаются в сочных чешуевидных листьях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4. Видоизменённый многолетний подземный побег с узлами, междоузлиями, чешуевидными листьями и почками, служащий для вегетативного размножения, возобновления и запасания питательных веществ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5. Удлиненный ползучий однолетний побег, образующий на верхушке клубень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C:\Users\User\Desktop\1.gif"/>
          <p:cNvPicPr/>
          <p:nvPr/>
        </p:nvPicPr>
        <p:blipFill>
          <a:blip r:embed="rId1"/>
          <a:stretch/>
        </p:blipFill>
        <p:spPr>
          <a:xfrm>
            <a:off x="1476360" y="1341360"/>
            <a:ext cx="6480360" cy="230364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3"/>
          <p:cNvSpPr/>
          <p:nvPr/>
        </p:nvSpPr>
        <p:spPr>
          <a:xfrm>
            <a:off x="2554200" y="404640"/>
            <a:ext cx="40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 Кто быстрее разгадает кроссворд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1"/>
          <p:cNvSpPr/>
          <p:nvPr/>
        </p:nvSpPr>
        <p:spPr>
          <a:xfrm>
            <a:off x="468360" y="333360"/>
            <a:ext cx="7848720" cy="80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3. Тес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Клубень картофеля представляет собо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)коре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)видоизмененный коре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)видоизмененный подземный побе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Колючка барбариса -приспособление расте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)к уменьшению испарения влаг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)к сохранению от поедания животны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)к тому и другом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3.Донце луковицы – эт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)укороченный стебе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)видоизмененный лис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)видоизмененный коре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4.Колючки у кактусов – эт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)видоизмененные побег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)видоизмененные листь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)особые выросты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клеток кожицы стебл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5.Луковица лука представляет собо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)стебе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)видоизмененный подземный побе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)видоизмененный корен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Корневище – это видоизмененны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)боковой коре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)лис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)побе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"/>
          <p:cNvSpPr/>
          <p:nvPr/>
        </p:nvSpPr>
        <p:spPr>
          <a:xfrm>
            <a:off x="5292720" y="2349360"/>
            <a:ext cx="1224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твет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 –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 –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 – 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4 – 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5 – 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6 -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"/>
          <p:cNvSpPr/>
          <p:nvPr/>
        </p:nvSpPr>
        <p:spPr>
          <a:xfrm>
            <a:off x="6516720" y="2060640"/>
            <a:ext cx="2158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Calibri"/>
              </a:rPr>
              <a:t>Критерии оцен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Calibri"/>
              </a:rPr>
              <a:t>«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5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Calibri"/>
              </a:rPr>
              <a:t>» - все ответы вер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Calibri"/>
              </a:rPr>
              <a:t>«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4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Calibri"/>
              </a:rPr>
              <a:t>» -5 - 4 правильных отв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Calibri"/>
              </a:rPr>
              <a:t>«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3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Calibri"/>
              </a:rPr>
              <a:t>» - 3 правильных отв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Calibri"/>
              </a:rPr>
              <a:t>«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2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Calibri"/>
              </a:rPr>
              <a:t>» - 2 правильных отв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На высоком холме стоит вишневый замок. Крепостная стена замка двухрядная. В первом ряду вокруг замка расположены пять зеленых зубцов, а во втором – пять больших белых стен. В центре замка стоит столб, а вокруг качаются на тонких ножках пушистые подушечки.»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то это за замок?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1971720" y="2357280"/>
            <a:ext cx="5200560" cy="35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полните схем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ямоугольник 3"/>
          <p:cNvSpPr/>
          <p:nvPr/>
        </p:nvSpPr>
        <p:spPr>
          <a:xfrm>
            <a:off x="2786040" y="1071720"/>
            <a:ext cx="3500640" cy="9284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ганы раст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2276640"/>
            <a:ext cx="3610080" cy="79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гетативны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5"/>
          <p:cNvSpPr/>
          <p:nvPr/>
        </p:nvSpPr>
        <p:spPr>
          <a:xfrm>
            <a:off x="4932360" y="234936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7"/>
          <p:cNvSpPr/>
          <p:nvPr/>
        </p:nvSpPr>
        <p:spPr>
          <a:xfrm>
            <a:off x="5508720" y="2286000"/>
            <a:ext cx="2950920" cy="7142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нератив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8"/>
          <p:cNvSpPr/>
          <p:nvPr/>
        </p:nvSpPr>
        <p:spPr>
          <a:xfrm>
            <a:off x="571680" y="3643200"/>
            <a:ext cx="1285560" cy="5716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9"/>
          <p:cNvSpPr/>
          <p:nvPr/>
        </p:nvSpPr>
        <p:spPr>
          <a:xfrm>
            <a:off x="2714760" y="3643200"/>
            <a:ext cx="1357200" cy="5716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бе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10"/>
          <p:cNvSpPr/>
          <p:nvPr/>
        </p:nvSpPr>
        <p:spPr>
          <a:xfrm>
            <a:off x="5143680" y="3714840"/>
            <a:ext cx="1000080" cy="4284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ве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11"/>
          <p:cNvSpPr/>
          <p:nvPr/>
        </p:nvSpPr>
        <p:spPr>
          <a:xfrm>
            <a:off x="6572160" y="3714840"/>
            <a:ext cx="1000080" cy="4284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12"/>
          <p:cNvSpPr/>
          <p:nvPr/>
        </p:nvSpPr>
        <p:spPr>
          <a:xfrm>
            <a:off x="8001000" y="3714840"/>
            <a:ext cx="928800" cy="4284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м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13"/>
          <p:cNvSpPr/>
          <p:nvPr/>
        </p:nvSpPr>
        <p:spPr>
          <a:xfrm>
            <a:off x="1071720" y="5143680"/>
            <a:ext cx="1357200" cy="5713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еб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14"/>
          <p:cNvSpPr/>
          <p:nvPr/>
        </p:nvSpPr>
        <p:spPr>
          <a:xfrm>
            <a:off x="2714760" y="5143680"/>
            <a:ext cx="1214280" cy="5713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15"/>
          <p:cNvSpPr/>
          <p:nvPr/>
        </p:nvSpPr>
        <p:spPr>
          <a:xfrm>
            <a:off x="4286160" y="5143680"/>
            <a:ext cx="1214640" cy="5713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Прямая со стрелкой 17"/>
          <p:cNvCxnSpPr>
            <a:stCxn id="71" idx="3"/>
            <a:endCxn id="74" idx="0"/>
          </p:cNvCxnSpPr>
          <p:nvPr/>
        </p:nvCxnSpPr>
        <p:spPr>
          <a:xfrm>
            <a:off x="6286680" y="1536480"/>
            <a:ext cx="699120" cy="74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4" name="Прямая со стрелкой 19"/>
          <p:cNvCxnSpPr>
            <a:stCxn id="71" idx="1"/>
          </p:cNvCxnSpPr>
          <p:nvPr/>
        </p:nvCxnSpPr>
        <p:spPr>
          <a:xfrm flipH="1">
            <a:off x="2123280" y="1536480"/>
            <a:ext cx="662760" cy="740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5" name="Прямая со стрелкой 21"/>
          <p:cNvCxnSpPr>
            <a:stCxn id="72" idx="2"/>
            <a:endCxn id="75" idx="0"/>
          </p:cNvCxnSpPr>
          <p:nvPr/>
        </p:nvCxnSpPr>
        <p:spPr>
          <a:xfrm flipH="1">
            <a:off x="1213920" y="3068640"/>
            <a:ext cx="1048320" cy="57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6" name="Прямая со стрелкой 23"/>
          <p:cNvCxnSpPr>
            <a:stCxn id="72" idx="2"/>
            <a:endCxn id="76" idx="0"/>
          </p:cNvCxnSpPr>
          <p:nvPr/>
        </p:nvCxnSpPr>
        <p:spPr>
          <a:xfrm>
            <a:off x="2262240" y="3068640"/>
            <a:ext cx="1132560" cy="57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7" name="Прямая со стрелкой 25"/>
          <p:cNvCxnSpPr>
            <a:stCxn id="74" idx="2"/>
            <a:endCxn id="77" idx="0"/>
          </p:cNvCxnSpPr>
          <p:nvPr/>
        </p:nvCxnSpPr>
        <p:spPr>
          <a:xfrm flipH="1">
            <a:off x="5643360" y="2999880"/>
            <a:ext cx="1342080" cy="715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8" name="Прямая со стрелкой 27"/>
          <p:cNvCxnSpPr>
            <a:stCxn id="74" idx="2"/>
            <a:endCxn id="78" idx="0"/>
          </p:cNvCxnSpPr>
          <p:nvPr/>
        </p:nvCxnSpPr>
        <p:spPr>
          <a:xfrm>
            <a:off x="6985080" y="2999880"/>
            <a:ext cx="87840" cy="715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9" name="Прямая со стрелкой 29"/>
          <p:cNvCxnSpPr>
            <a:stCxn id="74" idx="2"/>
            <a:endCxn id="79" idx="0"/>
          </p:cNvCxnSpPr>
          <p:nvPr/>
        </p:nvCxnSpPr>
        <p:spPr>
          <a:xfrm>
            <a:off x="6985080" y="2999880"/>
            <a:ext cx="1481760" cy="715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0" name="Прямая со стрелкой 31"/>
          <p:cNvCxnSpPr>
            <a:stCxn id="76" idx="2"/>
            <a:endCxn id="80" idx="0"/>
          </p:cNvCxnSpPr>
          <p:nvPr/>
        </p:nvCxnSpPr>
        <p:spPr>
          <a:xfrm flipH="1">
            <a:off x="1750680" y="4214880"/>
            <a:ext cx="1643760" cy="929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Прямая со стрелкой 35"/>
          <p:cNvCxnSpPr>
            <a:stCxn id="76" idx="2"/>
            <a:endCxn id="81" idx="0"/>
          </p:cNvCxnSpPr>
          <p:nvPr/>
        </p:nvCxnSpPr>
        <p:spPr>
          <a:xfrm flipH="1">
            <a:off x="3322440" y="4214880"/>
            <a:ext cx="72000" cy="929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2" name="Прямая со стрелкой 37"/>
          <p:cNvCxnSpPr>
            <a:stCxn id="76" idx="2"/>
            <a:endCxn id="82" idx="0"/>
          </p:cNvCxnSpPr>
          <p:nvPr/>
        </p:nvCxnSpPr>
        <p:spPr>
          <a:xfrm>
            <a:off x="3393720" y="4214880"/>
            <a:ext cx="1500840" cy="929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6T05:47:41Z</dcterms:created>
  <dc:creator>User</dc:creator>
  <dc:description/>
  <dc:language>en-US</dc:language>
  <cp:lastModifiedBy>ПК</cp:lastModifiedBy>
  <dcterms:modified xsi:type="dcterms:W3CDTF">2013-06-27T05:54:05Z</dcterms:modified>
  <cp:revision>56</cp:revision>
  <dc:subject/>
  <dc:title>Урок по теме: «Строение цветка. Соцветия».</dc:title>
</cp:coreProperties>
</file>