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6.jpeg" ContentType="image/jpeg"/>
  <Override PartName="/ppt/media/image10.png" ContentType="image/png"/>
  <Override PartName="/ppt/media/image23.jpeg" ContentType="image/jpeg"/>
  <Override PartName="/ppt/media/image22.wmf" ContentType="image/x-wmf"/>
  <Override PartName="/ppt/media/image21.wmf" ContentType="image/x-wmf"/>
  <Override PartName="/ppt/media/image19.jpeg" ContentType="image/jpeg"/>
  <Override PartName="/ppt/media/image5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7DF-8D17-4D59-9108-535D678F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F04-3DD2-4124-B1F8-B5BF40C5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480-90B5-4DD6-8413-81ABF027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D95-671D-465F-B512-0611598B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5CDE-CBC7-43C0-986A-DF920867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80B-C6AA-4BF7-86D9-3070278B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8F9A-D473-4850-84E5-D9291640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51FB-D199-4EA6-A811-A584A86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7307-FF34-4A7E-BA56-8BBB7AA4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EE30-2AA3-4354-A077-EB512E9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2A47-F271-4ADA-96F1-8087A2E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CD4-3018-40A7-BBA7-8F76074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98E7-9B1E-43EC-8C7A-7BAAF271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824D-1B76-4E98-8125-3F1656E3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191-C535-4D27-9E61-14EE9F0B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7499-61F0-4068-A2AC-FB5B3B9B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2AAA-BAEF-42D5-B7A3-13FDC928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4E4-8433-41C7-BBAD-C19F53EA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9DA-BDD2-4190-A405-7903143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3F7-3374-48A0-95ED-A50F4BF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998-7AEB-4A9F-BC53-FEC6D18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9E2-19B7-4289-9DC6-58A7DCB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187-02E0-4F1A-A0F1-C219B4C0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688-F498-426C-AE00-023D179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554-B6C1-4AB1-8317-9E32D7B1B7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200D-C5C5-4D61-A665-EF0330ECA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prioriuz.ru/pic/2b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prioriuz.ru/pic/2b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«ВИКТОРИНА ОБ УЧЕНЫХ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1862280" cy="216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59640" y="981000"/>
            <a:ext cx="1861920" cy="216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98440" y="4065480"/>
            <a:ext cx="1724040" cy="1825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085160" y="4132440"/>
            <a:ext cx="1698480" cy="179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780000" y="1125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630864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бачевски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35280" y="3357720"/>
            <a:ext cx="20480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вкли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43640" y="335772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ратосфе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16720" y="609300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ус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350028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ме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635280" y="4005360"/>
            <a:ext cx="1800360" cy="230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348000" y="630864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6456" t="27717" r="60949" b="49134"/>
          <a:stretch/>
        </p:blipFill>
        <p:spPr>
          <a:xfrm>
            <a:off x="3203640" y="1700280"/>
            <a:ext cx="2589120" cy="357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32720" y="566100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аак Ньютон (1643 – 1723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6800" y="549360"/>
            <a:ext cx="882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Monotype Corsiva"/>
              </a:rPr>
              <a:t>Великий английский уче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628560"/>
            <a:ext cx="84978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ЙБНИЦ, ГОТФРИД ВИЛЬГЕЛЬ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Картинка 3 из 48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5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1962" t="1575" r="1962" b="1575"/>
          <a:stretch/>
        </p:blipFill>
        <p:spPr>
          <a:xfrm>
            <a:off x="3046320" y="2541600"/>
            <a:ext cx="2924280" cy="299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27240" y="5805360"/>
            <a:ext cx="517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фь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асильевна Ковале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850 -1891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145800" y="189000"/>
            <a:ext cx="944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Замечательная женщина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талантливая писательница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выдающийся математ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нажды один из его учеников спросил его: "А какая мне будет практическая польза от изучения геометрии?" В ответ он позвал раба и, указывая на ученика, сказал: "Дай ему монету - он ищет выгоду, а не знаний!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Древнегреческий математик, автор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первого трактата по геометр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34965" t="23937" r="48193" b="49134"/>
          <a:stretch/>
        </p:blipFill>
        <p:spPr>
          <a:xfrm>
            <a:off x="2843280" y="1916280"/>
            <a:ext cx="3311280" cy="3722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03640" y="59500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вклид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ЙБНИЦ, ГОТФРИД ВИЛЬГЕЛЬ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Картинка 3 из 48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5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8820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Древнегреческий учёный,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автор знаменитой теоремы Пифагор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4886" t="23937" r="39689" b="49134"/>
          <a:stretch/>
        </p:blipFill>
        <p:spPr>
          <a:xfrm>
            <a:off x="3159000" y="1905120"/>
            <a:ext cx="3224160" cy="364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03640" y="5805360"/>
            <a:ext cx="26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фагор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 до н.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ЗРЕЧЕНИЯ ВЕЛИКИХ ЛЮД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. Дайте мне точку опоры - и 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реверну Землю!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Древнегреческий математик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механик, военный инжене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64256" t="23937" r="19370" b="52283"/>
          <a:stretch/>
        </p:blipFill>
        <p:spPr>
          <a:xfrm>
            <a:off x="2879640" y="1905120"/>
            <a:ext cx="4343400" cy="390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69800" y="6021360"/>
            <a:ext cx="43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химед (около 287 – 212 гг. до н. 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26456" t="27717" r="60949" b="49134"/>
          <a:stretch/>
        </p:blipFill>
        <p:spPr>
          <a:xfrm>
            <a:off x="3203640" y="1700280"/>
            <a:ext cx="2589120" cy="3575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32720" y="566100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аак Ньютон (1643 – 1723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800" y="549360"/>
            <a:ext cx="882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Monotype Corsiva"/>
              </a:rPr>
              <a:t>Великий английский уче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зречения великих люд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Невозможно быть математиком, не будучи в то же время и поэтом в душе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962" t="1575" r="1962" b="1575"/>
          <a:stretch/>
        </p:blipFill>
        <p:spPr>
          <a:xfrm>
            <a:off x="3046320" y="2541600"/>
            <a:ext cx="2924280" cy="2998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127240" y="5805360"/>
            <a:ext cx="517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фь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асильевна Ковале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850 -1891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45800" y="189000"/>
            <a:ext cx="944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Замечательная женщина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талантливая писательница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выдающийся математ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зречения великих люд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Химия –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авая рука физики, математика ее глаз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се, что без этого было темно, сомнительно и неверно, математика сделала ясным и очевид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453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1" lang="en-US" sz="27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3290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Древнегреческий учёный,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автор знаменитой теоремы Пифагор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44886" t="23937" r="39689" b="49134"/>
          <a:stretch/>
        </p:blipFill>
        <p:spPr>
          <a:xfrm>
            <a:off x="3159000" y="2060640"/>
            <a:ext cx="351324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03640" y="609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фагор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. до н.э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7916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 Математику уже затем учить надо, что она ум в порядок приводит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4508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.В Ломоносов (1711- 17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2954160" cy="19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627120"/>
            <a:ext cx="85690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Древнегреческий математик, автор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первого трактата по геометр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34965" t="23937" r="48193" b="49134"/>
          <a:stretch/>
        </p:blipFill>
        <p:spPr>
          <a:xfrm>
            <a:off x="2916360" y="1916280"/>
            <a:ext cx="3311280" cy="3722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99320" y="580392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вклид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735120"/>
            <a:ext cx="806436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Древнегреческий математик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механик, военный инжене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64256" t="23937" r="19370" b="52283"/>
          <a:stretch/>
        </p:blipFill>
        <p:spPr>
          <a:xfrm>
            <a:off x="2879640" y="1905120"/>
            <a:ext cx="4343400" cy="382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67280" y="580536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рхимед (около 287 – 212 гг. до н. э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627120"/>
            <a:ext cx="84978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ранцузский математ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рансуа Ви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9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24:05Z</dcterms:created>
  <dc:creator>света</dc:creator>
  <dc:description/>
  <dc:language>en-US</dc:language>
  <cp:lastModifiedBy>света</cp:lastModifiedBy>
  <dcterms:modified xsi:type="dcterms:W3CDTF">2011-11-22T17:35:50Z</dcterms:modified>
  <cp:revision>4</cp:revision>
  <dc:subject/>
  <dc:title>Слайд 1</dc:title>
</cp:coreProperties>
</file>