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AF1E96-F4E4-48AF-BC76-C49E95953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5DFB731-2251-47FC-A94C-B2959A6AC5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DCB618-C57F-4C8A-BC97-BB0320997D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EED9B13-1BFB-4779-BD71-7386E20916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8E13C8-494D-4335-B198-ED70257647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13B670-0E27-4C3F-A79A-E372B9C9CF1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6EB785-485E-41D9-A12B-F4FB21F09F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358588-8945-419F-AB84-2E1EEE07D8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031C959-D179-4A5E-88F4-D625E6A14D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9E9314-0E18-4B25-A33D-3BCA3F2F74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2A1B34-2958-4ACE-9FB9-60406512D9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C691D5-8EE5-4AC3-A6D4-AD90806FAF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603BDC-7921-4DD4-9CA8-C478B598C1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9888-A366-4571-9FCF-76280B954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FF9C-9F8A-4037-9E6E-E1D76463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F522-F4DB-4C1A-99A6-007CC35C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ADC1-435C-44B3-B348-D0903DE86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7EB3-5407-4336-8175-25522996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A07C-A5B2-4DAD-82CC-90C2DD15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EBAC-52A5-430A-A3A7-34944C29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BFBA-48A6-4137-89EE-DD71B0BD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053F-8CB2-4A65-8A5F-2FEB2E98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F250-60A5-4BF3-A135-25F69667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91AF-7A9A-488E-AF16-A32C278D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D5C0-4534-4371-94CA-30E35AA8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7C82-A1FB-4CE0-9ECB-FB3AC3FC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BB1D6-EE13-4A44-BABB-7F544506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5EB9-38BA-4B0D-A88E-54697B14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2F386-98E3-4E6C-A9D6-C5B4406E3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51D9-8E12-49C1-9DAE-0EE12B52C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B8563-7A68-430C-8E32-6AF7A5CC3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287A1-C2E7-460F-A195-860749E7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5F302-CE29-4790-9C8B-5B0512CD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073A8-A527-4F04-B0F9-AE9EE34A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48EEB-683F-4044-831C-7E747FD4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DB59-6AB4-4334-8C85-524D17AD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0AAC0-7F8A-489A-AE75-A6F9AB5F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DDCDA-67E2-4922-A842-EE32DAA0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18FCF-08CC-43E1-83A3-A1FE5021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81B8F-2EA5-4169-BFD5-EB23C141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83EDC-7C0B-4F13-BC81-99B78347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37EB0-D29B-42BB-913D-97FAC0EFF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8B8C2-0C8C-4442-B0C3-D99F2F045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7221-AA21-4A69-8E23-768BEA0B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0167-613B-4549-A7F1-0958133F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6EBE-0111-41F0-AD47-78CBFAAC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6296-DD60-40F8-8C46-D4441992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CAC4-F792-430E-ABDE-257E0F3A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40E3-B1E0-4C38-AA03-918BC3FB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9CB130-4B7D-49EA-8EAD-C219A5AFA0D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EE361D-75FA-4DEA-81ED-B5A3DCFF124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45FE54-8970-49B9-AFB0-7F0E679ADDB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image" Target="../media/image4.jpeg"/><Relationship Id="rId5" Type="http://schemas.openxmlformats.org/officeDocument/2006/relationships/slide" Target="slide4.xml"/><Relationship Id="rId6" Type="http://schemas.openxmlformats.org/officeDocument/2006/relationships/image" Target="../media/image5.jpeg"/><Relationship Id="rId7" Type="http://schemas.openxmlformats.org/officeDocument/2006/relationships/slide" Target="slide5.xml"/><Relationship Id="rId8" Type="http://schemas.openxmlformats.org/officeDocument/2006/relationships/image" Target="../media/image6.jpeg"/><Relationship Id="rId9" Type="http://schemas.openxmlformats.org/officeDocument/2006/relationships/slide" Target="slide6.xml"/><Relationship Id="rId10" Type="http://schemas.openxmlformats.org/officeDocument/2006/relationships/image" Target="../media/image7.jpeg"/><Relationship Id="rId11" Type="http://schemas.openxmlformats.org/officeDocument/2006/relationships/slide" Target="slide7.xml"/><Relationship Id="rId12" Type="http://schemas.openxmlformats.org/officeDocument/2006/relationships/image" Target="../media/image8.jpeg"/><Relationship Id="rId13" Type="http://schemas.openxmlformats.org/officeDocument/2006/relationships/slide" Target="slide8.xml"/><Relationship Id="rId14" Type="http://schemas.openxmlformats.org/officeDocument/2006/relationships/image" Target="../media/image9.jpeg"/><Relationship Id="rId15" Type="http://schemas.openxmlformats.org/officeDocument/2006/relationships/slide" Target="slide9.xml"/><Relationship Id="rId16" Type="http://schemas.openxmlformats.org/officeDocument/2006/relationships/image" Target="../media/image10.jpeg"/><Relationship Id="rId17" Type="http://schemas.openxmlformats.org/officeDocument/2006/relationships/slide" Target="slide10.xml"/><Relationship Id="rId18" Type="http://schemas.openxmlformats.org/officeDocument/2006/relationships/image" Target="../media/image11.jpeg"/><Relationship Id="rId19" Type="http://schemas.openxmlformats.org/officeDocument/2006/relationships/slide" Target="slide11.xml"/><Relationship Id="rId20" Type="http://schemas.openxmlformats.org/officeDocument/2006/relationships/image" Target="../media/image12.jpeg"/><Relationship Id="rId21" Type="http://schemas.openxmlformats.org/officeDocument/2006/relationships/slide" Target="slide12.xml"/><Relationship Id="rId22" Type="http://schemas.openxmlformats.org/officeDocument/2006/relationships/image" Target="../media/image13.jpeg"/><Relationship Id="rId23" Type="http://schemas.openxmlformats.org/officeDocument/2006/relationships/slideLayout" Target="../slideLayouts/slideLayout14.xml"/><Relationship Id="rId2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229240" cy="2088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«Если мы войну забудем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новь придёт война»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5940360" y="4292640"/>
            <a:ext cx="2808000" cy="2009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пиева Али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класс, МОУ СОШ №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 Александр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 Ей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геева О.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3419640" y="6237360"/>
            <a:ext cx="1512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5"/>
          <p:cNvSpPr/>
          <p:nvPr/>
        </p:nvSpPr>
        <p:spPr>
          <a:xfrm>
            <a:off x="1115640" y="2421000"/>
            <a:ext cx="65480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 cap="all">
                <a:solidFill>
                  <a:schemeClr val="accent4"/>
                </a:solidFill>
                <a:latin typeface="Arial"/>
              </a:rPr>
              <a:t>Памя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Горизонтальный свиток 1"/>
          <p:cNvSpPr/>
          <p:nvPr/>
        </p:nvSpPr>
        <p:spPr>
          <a:xfrm rot="16200000">
            <a:off x="142920" y="428760"/>
            <a:ext cx="6286320" cy="6000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ab4e4"/>
              </a:gs>
              <a:gs pos="100000">
                <a:srgbClr val="c1d1ec"/>
              </a:gs>
            </a:gsLst>
            <a:lin ang="18900000"/>
          </a:gra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1042920" y="290520"/>
            <a:ext cx="4465440" cy="618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амятник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Т.Хрюк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9 мая 1950 года в Ейске торжественно открыт бронзовый бюст героя. Автор его всемирно известный скульптор Евгений Викторович Вучетич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Бюст на высоком постаменте изображает Т.Т. Хрюкина в мундире генерал-полковника авиации, на его груди - ордена и медали. Бюст делался скульптором с натуры. На доске, укрепленной на пьедестале, воспроизведен текст Указа Президиума Верховного Совета СССР о награждении героя второй медалью "Золотая Звезда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На открытии памятника присутствовал сам Т.Т. Хрюк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амятник первоначально был открыт в парке имени Калинина, а затем перенесен в парк Горького, где находится в настоящее 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F:\Памятники\Бескровный.jpg"/>
          <p:cNvPicPr/>
          <p:nvPr/>
        </p:nvPicPr>
        <p:blipFill>
          <a:blip r:embed="rId1"/>
          <a:stretch/>
        </p:blipFill>
        <p:spPr>
          <a:xfrm>
            <a:off x="5614920" y="928800"/>
            <a:ext cx="2414160" cy="4285800"/>
          </a:xfrm>
          <a:prstGeom prst="rect">
            <a:avLst/>
          </a:prstGeom>
          <a:ln w="0">
            <a:noFill/>
          </a:ln>
          <a:effectLst>
            <a:outerShdw algn="ctr" blurRad="184320" dir="11518873" dist="241051" sx="110000" sy="110000">
              <a:srgbClr val="000000">
                <a:alpha val="18000"/>
              </a:srgbClr>
            </a:outerShdw>
          </a:effectLst>
          <a:scene3d>
            <a:camera fov="5100000" prst="perspectiveFront">
              <a:rot lat="0" lon="2100000" rev="0"/>
            </a:camera>
            <a:lightRig dir="t" rig="flood">
              <a:rot lat="0" lon="0" rev="13800000"/>
            </a:lightRig>
          </a:scene3d>
          <a:sp3d extrusionH="107950" prstMaterial="plastic">
            <a:bevelT prst="divot" w="82550" h="63500"/>
          </a:sp3d>
        </p:spPr>
      </p:pic>
      <p:sp>
        <p:nvSpPr>
          <p:cNvPr id="178" name="Управляющая кнопка: домой 4">
            <a:hlinkClick r:id="rId2" action="ppaction://hlinksldjump"/>
          </p:cNvPr>
          <p:cNvSpPr/>
          <p:nvPr/>
        </p:nvSpPr>
        <p:spPr>
          <a:xfrm>
            <a:off x="250920" y="5950080"/>
            <a:ext cx="433080" cy="502920"/>
          </a:xfrm>
          <a:prstGeom prst="actionButtonHome">
            <a:avLst/>
          </a:prstGeom>
          <a:blipFill rotWithShape="0">
            <a:blip r:embed="rId3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Горизонтальный свиток 1"/>
          <p:cNvSpPr/>
          <p:nvPr/>
        </p:nvSpPr>
        <p:spPr>
          <a:xfrm rot="16200000">
            <a:off x="428760" y="428760"/>
            <a:ext cx="6286320" cy="6000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ab4e4"/>
              </a:gs>
              <a:gs pos="100000">
                <a:srgbClr val="c1d1ec"/>
              </a:gs>
            </a:gsLst>
            <a:lin ang="18900000"/>
          </a:gra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80" name="Picture 2" descr="F:\Памятники\Армавир.jpg"/>
          <p:cNvPicPr/>
          <p:nvPr/>
        </p:nvPicPr>
        <p:blipFill>
          <a:blip r:embed="rId1"/>
          <a:stretch/>
        </p:blipFill>
        <p:spPr>
          <a:xfrm>
            <a:off x="5929200" y="720720"/>
            <a:ext cx="2839320" cy="3773160"/>
          </a:xfrm>
          <a:prstGeom prst="rect">
            <a:avLst/>
          </a:prstGeom>
          <a:ln w="0">
            <a:noFill/>
          </a:ln>
          <a:effectLst>
            <a:outerShdw algn="ctr" blurRad="184320" dir="11518873" dist="241051" sx="110000" sy="110000">
              <a:srgbClr val="000000">
                <a:alpha val="18000"/>
              </a:srgbClr>
            </a:outerShdw>
          </a:effectLst>
          <a:scene3d>
            <a:camera fov="5100000" prst="perspectiveFront">
              <a:rot lat="0" lon="2100000" rev="0"/>
            </a:camera>
            <a:lightRig dir="t" rig="flood">
              <a:rot lat="0" lon="0" rev="13800000"/>
            </a:lightRig>
          </a:scene3d>
          <a:sp3d extrusionH="107950" prstMaterial="plastic">
            <a:bevelT prst="divot" w="82550" h="63500"/>
          </a:sp3d>
        </p:spPr>
      </p:pic>
      <p:sp>
        <p:nvSpPr>
          <p:cNvPr id="181" name="Прямоугольник 3"/>
          <p:cNvSpPr/>
          <p:nvPr/>
        </p:nvSpPr>
        <p:spPr>
          <a:xfrm>
            <a:off x="1428840" y="500040"/>
            <a:ext cx="414288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амятник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огибших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годы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ОВ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рабочим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завода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"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Запчасть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" (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станкостроительный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ервая стелла (сегодня она не сохранилась) была установлена в 1975 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Нынешняя скульптурная группа "Воин и провожающая его девушка", создана на средства заводчан в 1982 году. Автор памятника не известен, возможно скульптурную группу отливали в цехах зав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Расположен памятник на ул. К.Маркса, около входа в парк им. И. Поддубн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Управляющая кнопка: домой 4">
            <a:hlinkClick r:id="rId2" action="ppaction://hlinksldjump"/>
          </p:cNvPr>
          <p:cNvSpPr/>
          <p:nvPr/>
        </p:nvSpPr>
        <p:spPr>
          <a:xfrm>
            <a:off x="395280" y="6021360"/>
            <a:ext cx="431280" cy="502920"/>
          </a:xfrm>
          <a:prstGeom prst="actionButtonHome">
            <a:avLst/>
          </a:prstGeom>
          <a:blipFill rotWithShape="0">
            <a:blip r:embed="rId3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Горизонтальный свиток 1"/>
          <p:cNvSpPr/>
          <p:nvPr/>
        </p:nvSpPr>
        <p:spPr>
          <a:xfrm rot="16200000">
            <a:off x="142560" y="142920"/>
            <a:ext cx="6286320" cy="65718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ab4e4"/>
              </a:gs>
              <a:gs pos="100000">
                <a:srgbClr val="c1d1ec"/>
              </a:gs>
            </a:gsLst>
            <a:lin ang="18900000"/>
          </a:gra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84" name="Picture 2" descr="F:\Памятники\Белореченск3.bmp"/>
          <p:cNvPicPr/>
          <p:nvPr/>
        </p:nvPicPr>
        <p:blipFill>
          <a:blip r:embed="rId1"/>
          <a:stretch/>
        </p:blipFill>
        <p:spPr>
          <a:xfrm>
            <a:off x="5857920" y="1484640"/>
            <a:ext cx="3046320" cy="2914200"/>
          </a:xfrm>
          <a:prstGeom prst="rect">
            <a:avLst/>
          </a:prstGeom>
          <a:ln w="0">
            <a:noFill/>
          </a:ln>
          <a:effectLst>
            <a:outerShdw algn="ctr" blurRad="184320" dir="11518873" dist="241051" sx="110000" sy="110000">
              <a:srgbClr val="000000">
                <a:alpha val="18000"/>
              </a:srgbClr>
            </a:outerShdw>
          </a:effectLst>
          <a:scene3d>
            <a:camera fov="5100000" prst="perspectiveFront">
              <a:rot lat="0" lon="2100000" rev="0"/>
            </a:camera>
            <a:lightRig dir="t" rig="flood">
              <a:rot lat="0" lon="0" rev="13800000"/>
            </a:lightRig>
          </a:scene3d>
          <a:sp3d extrusionH="107950" prstMaterial="plastic">
            <a:bevelT prst="divot" w="82550" h="63500"/>
          </a:sp3d>
        </p:spPr>
      </p:pic>
      <p:sp>
        <p:nvSpPr>
          <p:cNvPr id="185" name="Rectangle 3"/>
          <p:cNvSpPr/>
          <p:nvPr/>
        </p:nvSpPr>
        <p:spPr>
          <a:xfrm>
            <a:off x="826920" y="253080"/>
            <a:ext cx="4887720" cy="618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амятник 214 детям, замученным фашистскими оккупан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В начале Великой Отечественной войны в Ейск из г.Симферополя был эвакуирован детский дом. В нем находились дети, больные ДЦП. После оккупации Ейска 9-10 октября 1942 года зондеркоманда СС-10а зверски убила 214 детей этого детского дома в машинах-"душегубках" и захоронила их трупы в районе са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Останки детей были перезахоронены в сквере имени Пушкина, где был установлен памят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В последствии останки детей перенесены на городское кладбищ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амятник над братской могилой был установлен в 1964 году. Автор проекта памятника главный архитектор города Н.В.Чи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1 июня 1980 года на могиле был установлен новый памят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Управляющая кнопка: домой 4">
            <a:hlinkClick r:id="rId2" action="ppaction://hlinksldjump"/>
          </p:cNvPr>
          <p:cNvSpPr/>
          <p:nvPr/>
        </p:nvSpPr>
        <p:spPr>
          <a:xfrm>
            <a:off x="395280" y="5877000"/>
            <a:ext cx="431280" cy="504360"/>
          </a:xfrm>
          <a:prstGeom prst="actionButtonHome">
            <a:avLst/>
          </a:prstGeom>
          <a:blipFill rotWithShape="0">
            <a:blip r:embed="rId3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633960" y="5790240"/>
            <a:ext cx="7938360" cy="637920"/>
          </a:xfrm>
          <a:prstGeom prst="rect">
            <a:avLst/>
          </a:prstGeom>
          <a:solidFill>
            <a:srgbClr val="0070c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Calibri"/>
              </a:rPr>
              <a:t>«Казаки сыграли большую роль в становлении и укрепл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Calibri"/>
              </a:rPr>
              <a:t>российской государственности и всегда отважно защищали Роди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F:\Памятники\medvedev.png"/>
          <p:cNvPicPr/>
          <p:nvPr/>
        </p:nvPicPr>
        <p:blipFill>
          <a:blip r:embed="rId1"/>
          <a:stretch/>
        </p:blipFill>
        <p:spPr>
          <a:xfrm>
            <a:off x="714240" y="5000760"/>
            <a:ext cx="952200" cy="1428480"/>
          </a:xfrm>
          <a:prstGeom prst="rect">
            <a:avLst/>
          </a:prstGeom>
          <a:ln w="0">
            <a:noFill/>
          </a:ln>
          <a:effectLst>
            <a:outerShdw algn="br" blurRad="76320" dir="0" kx="1200000" rotWithShape="0" sy="23000">
              <a:srgbClr val="000000">
                <a:alpha val="20000"/>
              </a:srgbClr>
            </a:outerShdw>
            <a:softEdge rad="127080"/>
          </a:effectLst>
        </p:spPr>
      </p:pic>
      <p:pic>
        <p:nvPicPr>
          <p:cNvPr id="135" name="Рисунок 18" descr="karta_goroda_ejsk_s_ulizami.bmp"/>
          <p:cNvPicPr/>
          <p:nvPr/>
        </p:nvPicPr>
        <p:blipFill>
          <a:blip r:embed="rId2"/>
          <a:srcRect l="0" t="16401" r="0" b="0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36" name="Рисунок 19">
            <a:hlinkClick r:id="rId3" action="ppaction://hlinksldjump"/>
          </p:cNvPr>
          <p:cNvSpPr/>
          <p:nvPr/>
        </p:nvSpPr>
        <p:spPr>
          <a:xfrm>
            <a:off x="1907640" y="4725000"/>
            <a:ext cx="685440" cy="807840"/>
          </a:xfrm>
          <a:prstGeom prst="trapezoid">
            <a:avLst>
              <a:gd name="adj" fmla="val 25000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>
            <a:bevelT w="127000" h="635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F:\Памятники\Краснодар1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060000" y="620640"/>
            <a:ext cx="976320" cy="647640"/>
          </a:xfrm>
          <a:prstGeom prst="rect">
            <a:avLst/>
          </a:prstGeom>
          <a:ln w="0">
            <a:noFill/>
          </a:ln>
          <a:effectLst>
            <a:outerShdw algn="ctr" blurRad="184320" dir="11518873" dist="241051" sx="110000" sy="110000">
              <a:srgbClr val="000000">
                <a:alpha val="18000"/>
              </a:srgbClr>
            </a:outerShdw>
          </a:effectLst>
          <a:scene3d>
            <a:camera fov="5100000" prst="perspectiveFront">
              <a:rot lat="0" lon="2100000" rev="0"/>
            </a:camera>
            <a:lightRig dir="t" rig="flood">
              <a:rot lat="0" lon="0" rev="13800000"/>
            </a:lightRig>
          </a:scene3d>
          <a:sp3d extrusionH="107950" prstMaterial="plastic">
            <a:bevelT prst="divot" w="82550" h="63500"/>
          </a:sp3d>
        </p:spPr>
      </p:pic>
      <p:pic>
        <p:nvPicPr>
          <p:cNvPr id="138" name="Picture 2" descr="F:\Памятники\Краснодар1.jpg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780000" y="4509000"/>
            <a:ext cx="503640" cy="423720"/>
          </a:xfrm>
          <a:prstGeom prst="rect">
            <a:avLst/>
          </a:prstGeom>
          <a:ln w="0"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>
            <a:bevelT w="127000" h="63500"/>
          </a:sp3d>
        </p:spPr>
      </p:pic>
      <p:pic>
        <p:nvPicPr>
          <p:cNvPr id="139" name="Picture 2" descr="F:\Памятники\Ейскm2.jpg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899640" y="3213000"/>
            <a:ext cx="359640" cy="532080"/>
          </a:xfrm>
          <a:prstGeom prst="rect">
            <a:avLst/>
          </a:prstGeom>
          <a:ln w="0"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prst="orthographicFront">
              <a:rot lat="0" lon="0" rev="0"/>
            </a:camera>
            <a:lightRig dir="t" rig="balanced">
              <a:rot lat="0" lon="0" rev="8700000"/>
            </a:lightRig>
          </a:scene3d>
          <a:sp3d>
            <a:bevelT w="190500" h="38100"/>
          </a:sp3d>
        </p:spPr>
      </p:pic>
      <p:pic>
        <p:nvPicPr>
          <p:cNvPr id="140" name="Picture 2" descr="F:\Памятники\крымск.JP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267640" y="476640"/>
            <a:ext cx="812160" cy="531720"/>
          </a:xfrm>
          <a:prstGeom prst="rect">
            <a:avLst/>
          </a:prstGeom>
          <a:ln w="0">
            <a:noFill/>
          </a:ln>
          <a:effectLst>
            <a:outerShdw algn="ctr" blurRad="184320" dir="11518873" dist="241051" sx="110000" sy="110000">
              <a:srgbClr val="000000">
                <a:alpha val="18000"/>
              </a:srgbClr>
            </a:outerShdw>
          </a:effectLst>
          <a:scene3d>
            <a:camera fov="5100000" prst="perspectiveFront">
              <a:rot lat="0" lon="2100000" rev="0"/>
            </a:camera>
            <a:lightRig dir="t" rig="flood">
              <a:rot lat="0" lon="0" rev="13800000"/>
            </a:lightRig>
          </a:scene3d>
          <a:sp3d extrusionH="107950" prstMaterial="plastic">
            <a:bevelT prst="divot" w="82550" h="63500"/>
          </a:sp3d>
        </p:spPr>
      </p:pic>
      <p:pic>
        <p:nvPicPr>
          <p:cNvPr id="141" name="Picture 2" descr="F:\Памятники\крымск.JPG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204000" y="2853000"/>
            <a:ext cx="503640" cy="702720"/>
          </a:xfrm>
          <a:prstGeom prst="rect">
            <a:avLst/>
          </a:prstGeom>
          <a:ln w="0"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>
            <a:bevelT w="127000" h="63500"/>
          </a:sp3d>
        </p:spPr>
      </p:pic>
      <p:pic>
        <p:nvPicPr>
          <p:cNvPr id="142" name="Picture 2" descr="F:\Памятники\Бескровный.jpg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1619640" y="2289600"/>
            <a:ext cx="401040" cy="637200"/>
          </a:xfrm>
          <a:prstGeom prst="rect">
            <a:avLst/>
          </a:prstGeom>
          <a:ln w="0"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</p:pic>
      <p:pic>
        <p:nvPicPr>
          <p:cNvPr id="143" name="Picture 2" descr="F:\Памятники\Бескровный.jpg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3060000" y="1845000"/>
            <a:ext cx="289080" cy="513000"/>
          </a:xfrm>
          <a:prstGeom prst="rect">
            <a:avLst/>
          </a:prstGeom>
          <a:ln w="0"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</p:pic>
      <p:pic>
        <p:nvPicPr>
          <p:cNvPr id="144" name="Picture 2" descr="F:\Памятники\Армавир.jpg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2267640" y="2565000"/>
            <a:ext cx="431640" cy="573840"/>
          </a:xfrm>
          <a:prstGeom prst="rect">
            <a:avLst/>
          </a:prstGeom>
          <a:ln w="0"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</p:pic>
      <p:pic>
        <p:nvPicPr>
          <p:cNvPr id="145" name="Picture 2" descr="F:\Памятники\Белореченск3.bmp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2771640" y="5085360"/>
            <a:ext cx="526680" cy="503640"/>
          </a:xfrm>
          <a:prstGeom prst="rect">
            <a:avLst/>
          </a:prstGeom>
          <a:ln w="0"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F:\Памятники\Краснодар1.jpg"/>
          <p:cNvPicPr/>
          <p:nvPr/>
        </p:nvPicPr>
        <p:blipFill>
          <a:blip r:embed="rId1"/>
          <a:stretch/>
        </p:blipFill>
        <p:spPr>
          <a:xfrm>
            <a:off x="5214960" y="1935360"/>
            <a:ext cx="3696480" cy="2772360"/>
          </a:xfrm>
          <a:prstGeom prst="rect">
            <a:avLst/>
          </a:prstGeom>
          <a:ln w="0">
            <a:noFill/>
          </a:ln>
          <a:effectLst>
            <a:outerShdw algn="ctr" blurRad="184320" dir="11518873" dist="241051" sx="110000" sy="110000">
              <a:srgbClr val="000000">
                <a:alpha val="18000"/>
              </a:srgbClr>
            </a:outerShdw>
          </a:effectLst>
          <a:scene3d>
            <a:camera fov="5100000" prst="perspectiveFront">
              <a:rot lat="0" lon="2100000" rev="0"/>
            </a:camera>
            <a:lightRig dir="t" rig="flood">
              <a:rot lat="0" lon="0" rev="13800000"/>
            </a:lightRig>
          </a:scene3d>
          <a:sp3d extrusionH="107950" prstMaterial="plastic">
            <a:bevelT prst="divot" w="82550" h="63500"/>
          </a:sp3d>
        </p:spPr>
      </p:pic>
      <p:sp>
        <p:nvSpPr>
          <p:cNvPr id="147" name="Горизонтальный свиток 2"/>
          <p:cNvSpPr/>
          <p:nvPr/>
        </p:nvSpPr>
        <p:spPr>
          <a:xfrm rot="16200000">
            <a:off x="65880" y="266040"/>
            <a:ext cx="6382800" cy="62290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ab4e4"/>
              </a:gs>
              <a:gs pos="100000">
                <a:srgbClr val="c1d1ec"/>
              </a:gs>
            </a:gsLst>
            <a:lin ang="18900000"/>
          </a:gra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900000" y="280800"/>
            <a:ext cx="4608000" cy="6248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Танк "Ейский колхозник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В 1943 году работники Ейского зерносовхоза собрали денежные средства на постройку танка и направили телеграмму И. Сталину с просьбой присвоить танку имя "Ейский колхозник" и получили удовлетворительный отв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К сожалению, в 1944 году в одном из боев он был подбит и сожжен. В мае 1977 года по инициативе жителей района Т - 34 с бортовым номером 231, гвардейским знаком на башне и надписью "Ейский колхозник", соответствующий подлинному , был установлен на постаменте как символ воинской славы и участия тружеников Ейского района в борьбе с фашизм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сполож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 выезде из г.Ейска в сторону ст. Должанская, Камышеват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Управляющая кнопка: домой 5">
            <a:hlinkClick r:id="rId2" action="ppaction://hlinksldjump"/>
          </p:cNvPr>
          <p:cNvSpPr/>
          <p:nvPr/>
        </p:nvSpPr>
        <p:spPr>
          <a:xfrm>
            <a:off x="324000" y="5805360"/>
            <a:ext cx="431280" cy="502920"/>
          </a:xfrm>
          <a:prstGeom prst="actionButtonHome">
            <a:avLst/>
          </a:prstGeom>
          <a:blipFill rotWithShape="0">
            <a:blip r:embed="rId3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F:\Памятники\Краснодар1.jpg"/>
          <p:cNvPicPr/>
          <p:nvPr/>
        </p:nvPicPr>
        <p:blipFill>
          <a:blip r:embed="rId1"/>
          <a:stretch/>
        </p:blipFill>
        <p:spPr>
          <a:xfrm>
            <a:off x="5214960" y="1700640"/>
            <a:ext cx="3696480" cy="2452320"/>
          </a:xfrm>
          <a:prstGeom prst="rect">
            <a:avLst/>
          </a:prstGeom>
          <a:ln w="0">
            <a:noFill/>
          </a:ln>
          <a:effectLst>
            <a:outerShdw algn="ctr" blurRad="184320" dir="11518873" dist="241051" sx="110000" sy="110000">
              <a:srgbClr val="000000">
                <a:alpha val="18000"/>
              </a:srgbClr>
            </a:outerShdw>
          </a:effectLst>
          <a:scene3d>
            <a:camera fov="5100000" prst="perspectiveFront">
              <a:rot lat="0" lon="2100000" rev="0"/>
            </a:camera>
            <a:lightRig dir="t" rig="flood">
              <a:rot lat="0" lon="0" rev="13800000"/>
            </a:lightRig>
          </a:scene3d>
          <a:sp3d extrusionH="107950" prstMaterial="plastic">
            <a:bevelT prst="divot" w="82550" h="63500"/>
          </a:sp3d>
        </p:spPr>
      </p:pic>
      <p:sp>
        <p:nvSpPr>
          <p:cNvPr id="151" name="Горизонтальный свиток 2"/>
          <p:cNvSpPr/>
          <p:nvPr/>
        </p:nvSpPr>
        <p:spPr>
          <a:xfrm rot="16200000">
            <a:off x="65880" y="266040"/>
            <a:ext cx="6382800" cy="62290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ab4e4"/>
              </a:gs>
              <a:gs pos="100000">
                <a:srgbClr val="c1d1ec"/>
              </a:gs>
            </a:gsLst>
            <a:lin ang="18900000"/>
          </a:gra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900000" y="433080"/>
            <a:ext cx="4608000" cy="594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Бронекатер "Ейский патриот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В 1944 году на деньги, собранные коллективом "Запчасть" (ныне станкостроительный), был построен бронетанкер БК - 162, который прошёл боевой путь от крепости Измаила до Вены. После окончания войны находился в составе ВМФ, а в конце 60-х был списан. Катер случайно нашли ейские ветераны на стоянке в Рязани и предложили жителям города установить его на постамент. Катер отбуксировали в Ейск, а комсомольцы судоремонтного завода в нерабочее время его отремонтировали и покрасили, и уже строители рыбозавода произвели установку. Открыт памятник был 8 мая в 1975 го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сполож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 городском пляж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Управляющая кнопка: домой 5">
            <a:hlinkClick r:id="rId2" action="ppaction://hlinksldjump"/>
          </p:cNvPr>
          <p:cNvSpPr/>
          <p:nvPr/>
        </p:nvSpPr>
        <p:spPr>
          <a:xfrm>
            <a:off x="324000" y="5805360"/>
            <a:ext cx="431280" cy="502920"/>
          </a:xfrm>
          <a:prstGeom prst="actionButtonHome">
            <a:avLst/>
          </a:prstGeom>
          <a:blipFill rotWithShape="0">
            <a:blip r:embed="rId3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F:\Памятники\Краснодар1.jpg"/>
          <p:cNvPicPr/>
          <p:nvPr/>
        </p:nvPicPr>
        <p:blipFill>
          <a:blip r:embed="rId1"/>
          <a:stretch/>
        </p:blipFill>
        <p:spPr>
          <a:xfrm>
            <a:off x="5076000" y="1340640"/>
            <a:ext cx="3936240" cy="3312000"/>
          </a:xfrm>
          <a:prstGeom prst="rect">
            <a:avLst/>
          </a:prstGeom>
          <a:ln w="0">
            <a:noFill/>
          </a:ln>
          <a:effectLst>
            <a:outerShdw algn="ctr" blurRad="184320" dir="11518873" dist="241051" sx="110000" sy="110000">
              <a:srgbClr val="000000">
                <a:alpha val="18000"/>
              </a:srgbClr>
            </a:outerShdw>
          </a:effectLst>
          <a:scene3d>
            <a:camera fov="5100000" prst="perspectiveFront">
              <a:rot lat="0" lon="2100000" rev="0"/>
            </a:camera>
            <a:lightRig dir="t" rig="flood">
              <a:rot lat="0" lon="0" rev="13800000"/>
            </a:lightRig>
          </a:scene3d>
          <a:sp3d extrusionH="107950" prstMaterial="plastic">
            <a:bevelT prst="divot" w="82550" h="63500"/>
          </a:sp3d>
        </p:spPr>
      </p:pic>
      <p:sp>
        <p:nvSpPr>
          <p:cNvPr id="155" name="Горизонтальный свиток 2"/>
          <p:cNvSpPr/>
          <p:nvPr/>
        </p:nvSpPr>
        <p:spPr>
          <a:xfrm rot="16200000">
            <a:off x="65880" y="266040"/>
            <a:ext cx="6382800" cy="62290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ab4e4"/>
              </a:gs>
              <a:gs pos="100000">
                <a:srgbClr val="c1d1ec"/>
              </a:gs>
            </a:gsLst>
            <a:lin ang="18900000"/>
          </a:gra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1116000" y="104760"/>
            <a:ext cx="4032000" cy="5516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амятник воинам-автомобилист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В честь памяти о воинах-автомобилистах, воевавших в Великой Отечественной войне, на пьедестал памятника воздвигнута легендарная машина того времени ГАЗ-ММ (полуторка), колеса которой были основной грузовой силой того време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i="1" lang="ru-RU" sz="2000" spc="-1" strike="noStrike">
                <a:solidFill>
                  <a:srgbClr val="000000"/>
                </a:solidFill>
                <a:latin typeface="Arial Narrow"/>
              </a:rPr>
              <a:t>Расположен на ул. Богдана Хмельницкого  на территории бывшей автоколонны 14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Управляющая кнопка: домой 5">
            <a:hlinkClick r:id="rId2" action="ppaction://hlinksldjump"/>
          </p:cNvPr>
          <p:cNvSpPr/>
          <p:nvPr/>
        </p:nvSpPr>
        <p:spPr>
          <a:xfrm>
            <a:off x="324000" y="5805360"/>
            <a:ext cx="431280" cy="502920"/>
          </a:xfrm>
          <a:prstGeom prst="actionButtonHome">
            <a:avLst/>
          </a:prstGeom>
          <a:blipFill rotWithShape="0">
            <a:blip r:embed="rId3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F:\Памятники\Ейскm2.jpg"/>
          <p:cNvPicPr/>
          <p:nvPr/>
        </p:nvPicPr>
        <p:blipFill>
          <a:blip r:embed="rId1"/>
          <a:stretch/>
        </p:blipFill>
        <p:spPr>
          <a:xfrm>
            <a:off x="5696280" y="428760"/>
            <a:ext cx="2141280" cy="2855880"/>
          </a:xfrm>
          <a:prstGeom prst="rect">
            <a:avLst/>
          </a:prstGeom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</p:pic>
      <p:sp>
        <p:nvSpPr>
          <p:cNvPr id="159" name="Горизонтальный свиток 1"/>
          <p:cNvSpPr/>
          <p:nvPr/>
        </p:nvSpPr>
        <p:spPr>
          <a:xfrm rot="16200000">
            <a:off x="-35280" y="393120"/>
            <a:ext cx="6214680" cy="61434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ab4e4"/>
              </a:gs>
              <a:gs pos="100000">
                <a:srgbClr val="c1d1ec"/>
              </a:gs>
            </a:gsLst>
            <a:lin ang="18900000"/>
          </a:gra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755640" y="114840"/>
            <a:ext cx="4530240" cy="648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амятник авиатор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амятник был торжественно открыт 9 ноября 1967 года на площади перед входом в ЕВАУЛ. Он представляет собой установленную на постаменте скульптуру - голову летчика в летном шлеме в профиль, следящего глазами за взлетом самолета, символически изображенного в виде сужающейся к верху стелы, выполненных из бетона с мраморной крош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о решению городского Совета в апреле 1968 г. площадь перед училищем, где установлен памятник, названа площадью Авиаторов. В последствии на постамент был поставлен реактивный самолет СУ-17 на котором начинали свой путь в авиацию целые поколения воздушных а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Управляющая кнопка: домой 4">
            <a:hlinkClick r:id="rId2" action="ppaction://hlinksldjump"/>
          </p:cNvPr>
          <p:cNvSpPr/>
          <p:nvPr/>
        </p:nvSpPr>
        <p:spPr>
          <a:xfrm>
            <a:off x="250920" y="6021360"/>
            <a:ext cx="433080" cy="502920"/>
          </a:xfrm>
          <a:prstGeom prst="actionButtonHome">
            <a:avLst/>
          </a:prstGeom>
          <a:blipFill rotWithShape="0">
            <a:blip r:embed="rId3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62" name="Picture 2" descr="F:\Памятники\Ейскm2.jpg"/>
          <p:cNvPicPr/>
          <p:nvPr/>
        </p:nvPicPr>
        <p:blipFill>
          <a:blip r:embed="rId4"/>
          <a:stretch/>
        </p:blipFill>
        <p:spPr>
          <a:xfrm>
            <a:off x="6693120" y="3573000"/>
            <a:ext cx="1931400" cy="2855880"/>
          </a:xfrm>
          <a:prstGeom prst="rect">
            <a:avLst/>
          </a:prstGeom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Горизонтальный свиток 1"/>
          <p:cNvSpPr/>
          <p:nvPr/>
        </p:nvSpPr>
        <p:spPr>
          <a:xfrm rot="16200000">
            <a:off x="-142560" y="331920"/>
            <a:ext cx="6286320" cy="6000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ab4e4"/>
              </a:gs>
              <a:gs pos="100000">
                <a:srgbClr val="c1d1ec"/>
              </a:gs>
            </a:gsLst>
            <a:lin ang="18900000"/>
          </a:gra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64" name="Picture 2" descr="F:\Памятники\крымск.JPG"/>
          <p:cNvPicPr/>
          <p:nvPr/>
        </p:nvPicPr>
        <p:blipFill>
          <a:blip r:embed="rId1"/>
          <a:stretch/>
        </p:blipFill>
        <p:spPr>
          <a:xfrm>
            <a:off x="5072040" y="1024560"/>
            <a:ext cx="3781080" cy="2476080"/>
          </a:xfrm>
          <a:prstGeom prst="rect">
            <a:avLst/>
          </a:prstGeom>
          <a:ln w="0">
            <a:noFill/>
          </a:ln>
          <a:effectLst>
            <a:outerShdw algn="ctr" blurRad="184320" dir="11518873" dist="241051" sx="110000" sy="110000">
              <a:srgbClr val="000000">
                <a:alpha val="18000"/>
              </a:srgbClr>
            </a:outerShdw>
          </a:effectLst>
          <a:scene3d>
            <a:camera fov="5100000" prst="perspectiveFront">
              <a:rot lat="0" lon="2100000" rev="0"/>
            </a:camera>
            <a:lightRig dir="t" rig="flood">
              <a:rot lat="0" lon="0" rev="13800000"/>
            </a:lightRig>
          </a:scene3d>
          <a:sp3d extrusionH="107950" prstMaterial="plastic">
            <a:bevelT prst="divot" w="82550" h="63500"/>
          </a:sp3d>
        </p:spPr>
      </p:pic>
      <p:sp>
        <p:nvSpPr>
          <p:cNvPr id="165" name="Rectangle 3"/>
          <p:cNvSpPr/>
          <p:nvPr/>
        </p:nvSpPr>
        <p:spPr>
          <a:xfrm>
            <a:off x="826920" y="242640"/>
            <a:ext cx="4363560" cy="649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Мемориальный комплекс «Защитникам Ейс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Открыт на Ейской косе 8 мая 1995 года по инициативе отдела культуры и Ейского музея. Основу комплекса составляет ДОТ, сохранившаяся - часть обороны побережья Азовского мо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ейчас это экспозиция, посвященная обороне Ейска Азовской военной флотилией летом 1942 года и освобождению города в феврале 1943. Авторы проекта : художник Г.Г.Подгорный и экспозиционер И.А.Найден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У дота установлены 3 артиллерийских орудия времен. Завершает архитектурное решение комплекса символическая бетонная стена в виде развернутого знамени со сквозной пятиконечной звездой. Автор решения - архитектор А.В.Кузнец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Управляющая кнопка: домой 4">
            <a:hlinkClick r:id="rId2" action="ppaction://hlinksldjump"/>
          </p:cNvPr>
          <p:cNvSpPr/>
          <p:nvPr/>
        </p:nvSpPr>
        <p:spPr>
          <a:xfrm>
            <a:off x="250920" y="5877000"/>
            <a:ext cx="433080" cy="504360"/>
          </a:xfrm>
          <a:prstGeom prst="actionButtonHome">
            <a:avLst/>
          </a:prstGeom>
          <a:blipFill rotWithShape="0">
            <a:blip r:embed="rId3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Горизонтальный свиток 1"/>
          <p:cNvSpPr/>
          <p:nvPr/>
        </p:nvSpPr>
        <p:spPr>
          <a:xfrm rot="16200000">
            <a:off x="-142560" y="331920"/>
            <a:ext cx="6286320" cy="6000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ab4e4"/>
              </a:gs>
              <a:gs pos="100000">
                <a:srgbClr val="c1d1ec"/>
              </a:gs>
            </a:gsLst>
            <a:lin ang="18900000"/>
          </a:gra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68" name="Picture 2" descr="F:\Памятники\крымск.JPG"/>
          <p:cNvPicPr/>
          <p:nvPr/>
        </p:nvPicPr>
        <p:blipFill>
          <a:blip r:embed="rId1"/>
          <a:stretch/>
        </p:blipFill>
        <p:spPr>
          <a:xfrm>
            <a:off x="5311800" y="1024560"/>
            <a:ext cx="3301560" cy="3124080"/>
          </a:xfrm>
          <a:prstGeom prst="rect">
            <a:avLst/>
          </a:prstGeom>
          <a:ln w="0">
            <a:noFill/>
          </a:ln>
          <a:effectLst>
            <a:outerShdw algn="ctr" blurRad="184320" dir="11518873" dist="241051" sx="110000" sy="110000">
              <a:srgbClr val="000000">
                <a:alpha val="18000"/>
              </a:srgbClr>
            </a:outerShdw>
          </a:effectLst>
          <a:scene3d>
            <a:camera fov="5100000" prst="perspectiveFront">
              <a:rot lat="0" lon="2100000" rev="0"/>
            </a:camera>
            <a:lightRig dir="t" rig="flood">
              <a:rot lat="0" lon="0" rev="13800000"/>
            </a:lightRig>
          </a:scene3d>
          <a:sp3d extrusionH="107950" prstMaterial="plastic">
            <a:bevelT prst="divot" w="82550" h="63500"/>
          </a:sp3d>
        </p:spPr>
      </p:pic>
      <p:sp>
        <p:nvSpPr>
          <p:cNvPr id="169" name="Rectangle 3"/>
          <p:cNvSpPr/>
          <p:nvPr/>
        </p:nvSpPr>
        <p:spPr>
          <a:xfrm>
            <a:off x="826920" y="547560"/>
            <a:ext cx="4363560" cy="588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Мемориальный комплекс "Павшим героям" с Вечным огнем (Площадь Революц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В годы Великой Отечественной войны здесь были похоронены павшие защитники Ейс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Главная часть мемориала представляет собой железобетонную стену с рельефным символическим изображением Родины-Матери и солдат Гражданской и Великой Отечественной войн. На боковых пилонах - слева символическое изображение солдата в буденовке, справа - воина советской армии в каске. У стены - Вечный Огонь в виде металлической пятиконечной звезды. Перед стеной - две металлических 20-метровых стелы в форме шты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Управляющая кнопка: домой 4">
            <a:hlinkClick r:id="rId2" action="ppaction://hlinksldjump"/>
          </p:cNvPr>
          <p:cNvSpPr/>
          <p:nvPr/>
        </p:nvSpPr>
        <p:spPr>
          <a:xfrm>
            <a:off x="250920" y="5877000"/>
            <a:ext cx="433080" cy="504360"/>
          </a:xfrm>
          <a:prstGeom prst="actionButtonHome">
            <a:avLst/>
          </a:prstGeom>
          <a:blipFill rotWithShape="0">
            <a:blip r:embed="rId3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Горизонтальный свиток 1"/>
          <p:cNvSpPr/>
          <p:nvPr/>
        </p:nvSpPr>
        <p:spPr>
          <a:xfrm rot="16200000">
            <a:off x="78480" y="421920"/>
            <a:ext cx="6286320" cy="61574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ab4e4"/>
              </a:gs>
              <a:gs pos="100000">
                <a:srgbClr val="c1d1ec"/>
              </a:gs>
            </a:gsLst>
            <a:lin ang="18900000"/>
          </a:gra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72" name="Picture 2" descr="F:\Памятники\Бескровный.jpg"/>
          <p:cNvPicPr/>
          <p:nvPr/>
        </p:nvPicPr>
        <p:blipFill>
          <a:blip r:embed="rId1"/>
          <a:stretch/>
        </p:blipFill>
        <p:spPr>
          <a:xfrm>
            <a:off x="5214960" y="517680"/>
            <a:ext cx="3214440" cy="5107680"/>
          </a:xfrm>
          <a:prstGeom prst="rect">
            <a:avLst/>
          </a:prstGeom>
          <a:ln w="0">
            <a:noFill/>
          </a:ln>
          <a:effectLst>
            <a:outerShdw algn="ctr" blurRad="184320" dir="11518873" dist="241051" sx="110000" sy="110000">
              <a:srgbClr val="000000">
                <a:alpha val="18000"/>
              </a:srgbClr>
            </a:outerShdw>
          </a:effectLst>
          <a:scene3d>
            <a:camera fov="5100000" prst="perspectiveFront">
              <a:rot lat="0" lon="2100000" rev="0"/>
            </a:camera>
            <a:lightRig dir="t" rig="flood">
              <a:rot lat="0" lon="0" rev="13800000"/>
            </a:lightRig>
          </a:scene3d>
          <a:sp3d extrusionH="107950" prstMaterial="plastic">
            <a:bevelT prst="divot" w="82550" h="63500"/>
          </a:sp3d>
        </p:spPr>
      </p:pic>
      <p:sp>
        <p:nvSpPr>
          <p:cNvPr id="173" name="Rectangle 3"/>
          <p:cNvSpPr/>
          <p:nvPr/>
        </p:nvSpPr>
        <p:spPr>
          <a:xfrm>
            <a:off x="900000" y="326880"/>
            <a:ext cx="4608000" cy="588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амятник С.Д.Роману (Романов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ергей Демьянович Романов родился в Ейске 24 сентября 1917 г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26 июня 1944 года Сергей под огнем противника сумел метнуть в ДОТ гранату, но увидев, что это не причинило противнику вреда, он бросился вперед и грудью закрыл амбразуру. Звание Героя Советского Союза С.Д.Романову (Роману) присвоено посмертно 24 марта 1945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29 октября 1981 года на деньги, заработанные комсомольцами города, на углу улиц С.Романа и Первомайской у школы-лицея №4 установлен памятник Геро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Он представляет собой бюст из белого мрамора на постаменте с надписью "Герой Советского Союза С.Д.Роман (1917-1944)". Автор памятника - скульптор В.А.Жда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Управляющая кнопка: домой 4">
            <a:hlinkClick r:id="rId2" action="ppaction://hlinksldjump"/>
          </p:cNvPr>
          <p:cNvSpPr/>
          <p:nvPr/>
        </p:nvSpPr>
        <p:spPr>
          <a:xfrm>
            <a:off x="250920" y="5950080"/>
            <a:ext cx="433080" cy="502920"/>
          </a:xfrm>
          <a:prstGeom prst="actionButtonHome">
            <a:avLst/>
          </a:prstGeom>
          <a:blipFill rotWithShape="0">
            <a:blip r:embed="rId3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  <Words>1006</Words>
  <Paragraphs>7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ontentStatus>Окончательное</cp:contentStatus>
  <dcterms:created xsi:type="dcterms:W3CDTF">2012-09-10T17:38:31Z</dcterms:created>
  <dc:creator>Admin</dc:creator>
  <dc:description/>
  <dc:language>en-US</dc:language>
  <cp:lastModifiedBy>Admin</cp:lastModifiedBy>
  <dcterms:modified xsi:type="dcterms:W3CDTF">2013-04-06T15:33:10Z</dcterms:modified>
  <cp:revision>3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2</vt:r8>
  </property>
  <property fmtid="{D5CDD505-2E9C-101B-9397-08002B2CF9AE}" pid="3" name="PresentationFormat">
    <vt:lpwstr>Экран (4:3)</vt:lpwstr>
  </property>
  <property fmtid="{D5CDD505-2E9C-101B-9397-08002B2CF9AE}" pid="4" name="Slides">
    <vt:r8>12</vt:r8>
  </property>
  <property fmtid="{D5CDD505-2E9C-101B-9397-08002B2CF9AE}" pid="5" name="_MarkAsFinal">
    <vt:bool>1</vt:bool>
  </property>
</Properties>
</file>