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4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3C4-882F-40FE-905A-C92782FA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62A1-1AC0-4E70-8DEA-3FC570A5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5D8-BEBB-430E-B0DE-DBBDC25F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06D-072E-404B-9C6B-75BE0D8C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DCBC0-15C4-477C-994D-C101381A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F2F90-7ED6-400C-9A33-F6E8DA19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45909-46EC-4718-A1CE-CD0415BB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4D50C-62CB-4117-A7F7-EEBF605B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EA776-3363-4063-BB69-6395F17E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1341B-D942-4024-B429-4C920B56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6E2DE-8E31-4FA4-838C-25AF41B5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32E-4CEC-42CF-ABCF-E3B9ED4C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6E177-237C-4287-9612-DD1C0398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3067F-372A-487B-BE59-9F7C330C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685E8-9FEE-400D-B1D6-4FEC6D98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9099E-E3B3-4377-80EC-290079AA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072B6-3424-4496-BB76-0DF9FC70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B01-A5FA-49D0-9FE4-1709D411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5CA-5695-4A3D-ACC5-DE61FAAF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69D7-57B6-49E3-8315-60FA5F63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DC3F-343E-4971-9E12-62377DE5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0C2-74DF-4707-9C7A-270A6752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7ED-C83F-4A29-8853-D97B88B1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7DE-08C8-4D8D-8FFF-94928357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F018-B051-4D07-A57E-3889498659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7110-BEE3-4318-87C3-46DBD3FAD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мечательное вещество - в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51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бота выполне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чителем лицея №53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ришиной Е.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6985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ОЁ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4038480" cy="60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ТЕСТВЕН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2920" y="1125360"/>
            <a:ext cx="403884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КУСТВЕН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1944720" cy="2449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95280" y="4508640"/>
            <a:ext cx="3384720" cy="2106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268360" y="1916280"/>
            <a:ext cx="1943280" cy="2449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932360" y="4508640"/>
            <a:ext cx="3672000" cy="2089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716360" y="1916280"/>
            <a:ext cx="2087640" cy="2376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6948360" y="1916280"/>
            <a:ext cx="1944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i="1" lang="en-US" sz="2800" spc="-1" strike="noStrike">
                <a:solidFill>
                  <a:srgbClr val="800000"/>
                </a:solidFill>
                <a:latin typeface="Georgia"/>
              </a:rPr>
              <a:t>Правила безопасного поведения на водоем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Купаться следует в специально оборудованных местах: пляжах, бассейнах, купальн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 воде не следует находиться долго. При переохлаждении тела могут возникнуть судорог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Не заплывай далеко от берег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Опасно прыгать и нырять в воду в неизвестном месте- можно удариться головой о грунт, корягу, потерять созна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Не допускайте грубых игр на воде. Нельзя подплывать под купающихся, «топить»,подавать ложные сигналы о помощ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Нельзя купаться без присмотра взросл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Очень осторожно плавайте на надувных матрасах. Ветром или течением их может отнести далеко от берега, а волной- захлестну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Не заплывайте в зону, где передвигаются водные велосипеды и гидроцикл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907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Чем важна вод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71640" y="4365720"/>
            <a:ext cx="2808360" cy="206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859280" y="1773360"/>
            <a:ext cx="3025800" cy="201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427640" y="4076640"/>
            <a:ext cx="446400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Вода – среда обитания многих животных и раст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35640" y="4076640"/>
            <a:ext cx="3457440" cy="223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55640" y="4149720"/>
            <a:ext cx="3311640" cy="2158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79280" y="1341360"/>
            <a:ext cx="1981440" cy="2592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411280" y="1341360"/>
            <a:ext cx="2089440" cy="2664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292720" y="1341360"/>
            <a:ext cx="35272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038480" cy="2953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43280" y="404640"/>
            <a:ext cx="4038840" cy="295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39640" y="3645000"/>
            <a:ext cx="3808440" cy="287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716360" y="3645000"/>
            <a:ext cx="3888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382920" cy="2951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835280" y="3500280"/>
            <a:ext cx="4824360" cy="3097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356000" y="333360"/>
            <a:ext cx="4103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нтересные фак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 дыхании тело человека теряет около стакана воды в сут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ловек может прожить без еды несколько недель, а без воды только несколько д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ло человека на 2/3 состоит из в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124000" y="3716280"/>
            <a:ext cx="42624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00000" y="536400"/>
            <a:ext cx="68407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16:26:08Z</dcterms:created>
  <dc:creator>АЛИНА</dc:creator>
  <dc:description/>
  <dc:language>en-US</dc:language>
  <cp:lastModifiedBy>АЛИНА</cp:lastModifiedBy>
  <dcterms:modified xsi:type="dcterms:W3CDTF">2012-10-27T18:36:15Z</dcterms:modified>
  <cp:revision>4</cp:revision>
  <dc:subject/>
  <dc:title>Замечательное вещество - вода</dc:title>
</cp:coreProperties>
</file>