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09B-7174-49A8-8F7B-4421B5B0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8A5-A569-4A7E-9BD4-D46DB0AF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77E-E8A8-4827-BD9F-D558BF77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946-9E9F-446E-B0F2-F629E202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EA88-EE32-44F4-9441-9D25002A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E428-BF7F-4E6F-A4C5-0DC7960A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CBCA-A553-4AD9-A2F6-0DC96D75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15BE-833D-411A-B8D5-D7D22D14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E107-976C-4D16-A202-91BDAC84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4D4A-D13E-4A2B-A44E-02A2DA78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CFD1-8DD6-47F3-A0DE-B4E80CBF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B3A-E15C-4580-A0A2-56533429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6024-54BB-4FC6-B304-6BD5EA5D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E37F-A0A0-48D2-B551-BE4A3DBC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05B9-FCD9-4041-AAB0-86D987EB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0757-E1CA-4D3D-9BAE-7F9A5D03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5481-1C1D-43DD-A69D-11B9A923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ED9-0405-4C32-B8AC-16E07C67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B46-2A5C-454A-B614-B02EF236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217-DB87-42C9-BF71-291674EB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755-5CFA-4412-8A4B-CE30933F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F62-A447-4B48-925A-9EE1A3AE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BCB-D331-477E-B75C-4C25702B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1E8-412E-458D-B945-9549DADF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6699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7AA1-3336-4D41-A5FD-72B3DA60F6E3}" type="slidenum">
              <a:rPr b="1" lang="ru-RU" sz="26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99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6699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5D02-B886-4380-A0CF-A6D0E2E30667}" type="slidenum">
              <a:rPr b="1" lang="ru-RU" sz="26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 учащихся</a:t>
            </a: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БОУ «СОШ№24» г.Чебоксар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95640" y="1413000"/>
            <a:ext cx="518292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Impact"/>
              </a:rPr>
              <a:t>Мир звере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Impact"/>
              </a:rPr>
              <a:t>в русской фразеолог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584360" cy="100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910560" y="1197000"/>
            <a:ext cx="2233440" cy="1539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Что вносят в значение фразеологизмов слова муха и слон? Каково их символическое значение?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4680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990033"/>
                </a:solidFill>
                <a:uFillTx/>
                <a:latin typeface="Arial"/>
              </a:rPr>
              <a:t>Муха и комар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з  мухи слона делать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укиан «Похвала мухе»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н.э.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ражения: сильно, непомерно преувеличивать значение какой-либо ничтожной личности, какого-нибудь незначительного дела, событ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Мрут как мух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громном количест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Какая муха укусил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ем вызвано странное поведени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Будто муха укусил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Неожиданно что-то случилось с кем-либо, настолько он необычен в своих поступках, действия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Как сонная мух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яло, неторопли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Белые мух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нег, снежин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Мухи не обиди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ротк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Муха пролетит слышн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тих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Делать из мухи сло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ьно преувеличивать что-либо, придавать чему-либо незначительному большое знач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Едят тебя мух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Шутливо – бранное выражение досады, возмущения или восхищения, удивлени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Мухи дохну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-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ыносимо скуч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Под мух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стоянии опьянения, навесел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Как муху проглоти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волен, имеет кислый ви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Муха крылом перешибе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 слабом человек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Комара не обиди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 тихом и безобидном человек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Комар носа не подточи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к чему придратьс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32000" y="21333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990033"/>
                </a:solidFill>
                <a:uFillTx/>
                <a:latin typeface="Arial"/>
              </a:rPr>
              <a:t>Сло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Слона-то я и не примети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рылов «Любопытный»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ысл выражения: главное-то и ускользнуло от вним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Слон в посудной лав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- Характеристика нескладного, неуклюжего челове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Слон на ухо наступи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Кто-либо совсем лишен музыкального слух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Как слону дробин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ршенно недостаточно, очень мал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Делать из мухи слон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о преувеличивать что-либо, придавать чему-либо незначительному большое знач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Слоны слоня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ить, бродить без дела, без це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Наш отве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Сопоставление разных фразеологизмов позволяет нам сделать вывод: в русской фразеологии муха символизирует собой нечто малое, незначительное, тогда как слон – нечто большое, значительн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11680" y="3084480"/>
            <a:ext cx="249408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d60093"/>
                </a:solidFill>
                <a:uFillTx/>
                <a:latin typeface="Arial"/>
              </a:rPr>
              <a:t>Змея и уж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4824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a50021"/>
                </a:solidFill>
                <a:latin typeface="Arial"/>
              </a:rPr>
              <a:t>Собиратели русских пословиц, поговорок и загадок в разное время записали то, что сочинил народ, зная повадки зме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олько змею не держать, а беды от нее жд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ьстец под словами, змей под цве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мею обойдешь, а от клеветы не уйдеш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a50021"/>
                </a:solidFill>
                <a:latin typeface="Arial"/>
              </a:rPr>
              <a:t>В 19 веке слово змея стало употребляться в значении « коварный, хитрый и злой человек»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агодаря этому появились фразеологиз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Змея подколод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- Этим оборотом характеризуется не только злой и хитрый человек, но и опасный враг (скрытая опасность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Змею на груди отогре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являть внимание, заботу к человеку, который впоследствии платит за это неблагодарност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a50021"/>
                </a:solidFill>
                <a:latin typeface="Arial"/>
              </a:rPr>
              <a:t>Уж  тоже отличается коварством и хитростью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Извиваться ужом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ьстить, угодничать, подхалимничать, ловчить, хитри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940360" y="2421000"/>
            <a:ext cx="29224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Разно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000" y="2361960"/>
            <a:ext cx="5398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бить бобр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мануться в расче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окодиловы слезы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носно-притворные, лицемерные, фальшивые, неискренние сожале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Львиная дол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И.А.Крылов «Лев на ловле»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осказательно – большая, лучшая доля чего-либо, которую при дележе берет себе сильнейш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Три кит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еносном смысле – главнейшие устои, основы чего-нибуд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Жук навоз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синое гнезд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артышкин труд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Бесполезный, не приносящий результа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Заморить червячк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олить голо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Блоху подковать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Лесков Н.С.»Левш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еносном смысле – сделать какое-нибудь очень трудное, почти невыполнимое дел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a50021"/>
                </a:solidFill>
                <a:uFillTx/>
                <a:latin typeface="Arial"/>
              </a:rPr>
              <a:t>Мыш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Гора родила мышь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Эзоп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мысл выражения: большие надежды, приготовления, обещания и малые, ничтожные результаты, не соответствующие ожидания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ышиная возн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– Мелочные хлопо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941920" cy="1793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27920" y="2637000"/>
            <a:ext cx="30160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Мир зверей и челове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8080" y="2362320"/>
          <a:ext cx="7692840" cy="3066840"/>
        </p:xfrm>
        <a:graphic>
          <a:graphicData uri="http://schemas.openxmlformats.org/drawingml/2006/table">
            <a:tbl>
              <a:tblPr/>
              <a:tblGrid>
                <a:gridCol w="3846600"/>
                <a:gridCol w="3846240"/>
              </a:tblGrid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ловеческие каче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вер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клюжий, медлите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вед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люб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с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лоба, жестокость,  кова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к, зме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ьстивый, хитр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Результат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изучили литературу по т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узнали, что в русском языке очень много фразеологизмов, в которых встречаются названия звер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считаем, что созданная нами таблица поможет лучше узнать о символических значениях живот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думаем, что созданный нами словарь-справочник обогатит речь наших сверст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Использованные ресурс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амова Е.А. Крылатые слова . - М.: Детская литература,19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ликметс К.П.,  Метса А.А. Поговорим, поспорим. -Л.: Просвещение, 19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латов М. Крылатые слова. - М.: Просвещение, 19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воздарев Ю.А. Рассказы о русской фразеологии.- М.: Просвещение,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ев В.Н. Новые значения старых слов.-  М.: Просвещение,19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зеологический словарь русского языка. -М.: Русский язык, 198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ша цел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снить,  названия каких зверей чаще встречаются во фразеологизм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знать, какие черты характера человека символизируют зв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ши задач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Выяснить, знают ли учащиеся моего класса фразеологизмы, включающие в свой состав названия живот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Узнать, что символизируют названия некоторых животных в русских фразеологизм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Составить таблицу по те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Подготовить раздел о зверях в тематическом словаре «Братья наши меньшие в русской фразеолог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565360"/>
            <a:ext cx="7693200" cy="26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Мы  изучили учебную литерату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Провели опрос учащихся кла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Выяснили, ч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5% учащихся нашего класса знают от 10  до 15 фразеологизмов, имеющих в своем составе название какого-либо звер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55% - от 5 до 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40 % меньше пят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в своей речи стараются использовать фразеологизмы только 7% учащих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050920" y="549360"/>
            <a:ext cx="47563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cc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од  исследован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cc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ше исследов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344680" y="2460600"/>
          <a:ext cx="4680000" cy="35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4680" y="2460600"/>
                    <a:ext cx="4680000" cy="3527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Медведь и дракон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Медвед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Чаще всего медведь выступает символом медлительности, неуклюжести</a:t>
            </a:r>
            <a:r>
              <a:rPr b="1" i="1" lang="ru-RU" sz="14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вежья услуга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.А.Крылов «Пустынник и медведь»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вежий уго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 Отдаленное, глухое мест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ронически- искренняя, но неумелая, нелепая услуга, которая приносит не пользу, а только огорч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лить шкуру неубитого медведя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Распределять прибыль от еще неосуществленного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ведь на ухо наступи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Кто-либо совсем лишен музыкальног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х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Драко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еять зубы дракона.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отребляется в значении: посеять вражду, раздоры, смут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53160" y="3152880"/>
            <a:ext cx="263844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Белка и заяц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2707920"/>
            <a:ext cx="5400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Бе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Как белка в колес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И.А.Крылов «Белка»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говорят о необыкновенно занятом человеке, а также о бесполезной, бесплодной, никчемной беготне, хлопотах, сует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Arial"/>
              </a:rPr>
              <a:t>Зая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a50021"/>
                </a:solidFill>
                <a:latin typeface="Arial"/>
              </a:rPr>
              <a:t>По верованиям древних славян, заяц представлялся как образ черта. Встреча с зайцем считалась дурным предзнаменованием у всех славян, в Германии, Англии, Франции, у разных народов Кавказа. Но победило  не это отношение к зайцу. Заяц представлен в устном народном творчестве с симпатией. В русской фразеологии он вовсе не связан с нечистой силой, а лишь представляет трусость. Или же за ним все время кто-то гон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Заячья душ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сливый, робкий челове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Труслив как зая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Гнаться за двумя зайцам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Преследовать сразу две цел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Убить двух зайце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овременно выполнять два дел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04000" y="2492280"/>
            <a:ext cx="2087640" cy="1422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04000" y="4005360"/>
            <a:ext cx="2138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олк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Волк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– олицетворение злобы, жестокости, хищности, алчности и у русских , и у англичан, и у чехов, и у др. народов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родная мудрос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ваться как волк до пада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ка ноги кормя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ка сеном брюха не наб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клади волк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ьцы в 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26200" y="2565360"/>
            <a:ext cx="320508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691920"/>
            <a:ext cx="792468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разеологизмы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38098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нимать волка в пастух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зоп «Пастух и волк»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до н.э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сказательно – делать какое-нибудь заведомо неумное дело, которое может принести только вре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Хоть волком в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ие отчая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олк в овечьей шкуре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еловек, скрывающий свои дурные намерения под внешним выражением крот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орской вол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пытный моряк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равленый вол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- Человек, испытавший в жизни многие лишения, невзгод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нимать волка в пастух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зоп «Пастух и волк»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до н.э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сказательно – делать какое-нибудь заведомо неумное дело, которое может принести только вре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тарый вол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ный, повидавший многое челов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олком вы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Хоть волком в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ие отчаяния, бессилия, невозможности что-либо предпринять, чтобы выйти из затруднительного полож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олчий аппети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ий аппети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олчьи закон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ные, жесток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олчьи повад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8920" y="2362320"/>
            <a:ext cx="2421000" cy="1793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183280" y="4292640"/>
            <a:ext cx="29239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ашний</cp:lastModifiedBy>
  <dcterms:modified xsi:type="dcterms:W3CDTF">2013-10-06T10:03:48Z</dcterms:modified>
  <cp:revision>14</cp:revision>
  <dc:subject/>
  <dc:title>PowerPoint Presentation</dc:title>
</cp:coreProperties>
</file>