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19C-E64F-40C9-A3C1-EED853BA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7EC-47FD-4602-A2E7-F3F762ED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3C5-1E20-4A8C-80FD-0D3ECC16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947-9B3F-432B-ABFB-CB9CEC52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86F-37BD-4769-949D-E1476FB7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E73-0353-4173-8796-62FC19E7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AE9-5AFA-4EA9-A9D1-73A5CB48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A1B-BFCE-4C50-BDDF-6FE162EE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1F5-8650-45AD-8ED2-8FD47117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5F9-8FC1-46BF-BFAE-93816110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534-0F4B-4BC7-9B35-EC0883C7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3B7-C916-454B-A0E7-60486C9E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BB91-ADCA-4B1F-9C69-3CE61C5F0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ool-soft.ru/images/es-lye-motory-66878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Картинка 418 из 73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орческая работа по математик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« А»класс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екова Ар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в иг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5149800" y="1773360"/>
            <a:ext cx="88678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i?id=24552711&amp;tov=6"/>
          <p:cNvPicPr/>
          <p:nvPr/>
        </p:nvPicPr>
        <p:blipFill>
          <a:blip r:embed="rId2"/>
          <a:stretch/>
        </p:blipFill>
        <p:spPr>
          <a:xfrm>
            <a:off x="3995640" y="1628640"/>
            <a:ext cx="4919760" cy="439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1"/>
          <p:cNvSpPr/>
          <p:nvPr/>
        </p:nvSpPr>
        <p:spPr>
          <a:xfrm>
            <a:off x="468360" y="24980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оль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шахматы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в иг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rnerChaos - новая и уникальная головоломка! Очень лёгкая в изучении и очень простая для игры! Суть игры состоит в том, чтобы бросить цветные шары в отверстия, расположенные около четырех углов области игры. Если четыре шара того же самого цвета, они удаляются с поля! На следующий уровнях, число различных шаров увеличивается, при этом все более труднее создавать цветные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183134952_1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Классная логическая игрушка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Ц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8678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сибо за 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в иг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9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математикой, ее понятиями осуществляется в играх, весело и ненавязчиво, не разрушая естественной жизни детей. "Знайте, что принудительное обучение бесполезно, сделайте его привлекательны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Развивающие игры и пособия по математике для детей: развивающая игра-пособие Цифры"/>
          <p:cNvPicPr/>
          <p:nvPr/>
        </p:nvPicPr>
        <p:blipFill>
          <a:blip r:embed="rId1"/>
          <a:stretch/>
        </p:blipFill>
        <p:spPr>
          <a:xfrm>
            <a:off x="3203640" y="1628640"/>
            <a:ext cx="5184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в иг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tabl.umn.A1.deti.m"/>
          <p:cNvPicPr/>
          <p:nvPr/>
        </p:nvPicPr>
        <p:blipFill>
          <a:blip r:embed="rId1"/>
          <a:stretch/>
        </p:blipFill>
        <p:spPr>
          <a:xfrm>
            <a:off x="4572000" y="1484280"/>
            <a:ext cx="424800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324000" y="224352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умножения поможет сначала познакомить ребенка с цифрами (каждая цифра от 1 до 9 выделена ярким цветом в своем столбце), а затем и с элементарными математическими действиям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в иг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govor.tabl.umnozh.m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453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79280" y="242424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ящая таблица умножения сама расскажет ученику, как ею пользоваться: как включить и выключить, как "попросить" ее решить пример, какую кнопку нужно нажать для сдачи экзамен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9311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йцев Н.А. - автор знаменитого пособия «Кубики Зайце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Зайцев Н. А. - автор знаменитого пособия Кубики Зайцева для обучения чтению и многих других методик раннего развития детей"/>
          <p:cNvPicPr/>
          <p:nvPr/>
        </p:nvPicPr>
        <p:blipFill>
          <a:blip r:embed="rId1"/>
          <a:stretch/>
        </p:blipFill>
        <p:spPr>
          <a:xfrm>
            <a:off x="5364000" y="1773360"/>
            <a:ext cx="3168720" cy="4535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0" y="2697120"/>
            <a:ext cx="52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убики Зайцева" - не просто кубики с буквами и цифрами, это звучащие, разные по размерам и цветам кубики , позволяющие ребенку научится читать и считать  с первых же заняти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в иг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лько серьёзен 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до не упускать случа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его занима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 . Паскаль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kart"/>
          <p:cNvPicPr/>
          <p:nvPr/>
        </p:nvPicPr>
        <p:blipFill>
          <a:blip r:embed="rId1"/>
          <a:stretch/>
        </p:blipFill>
        <p:spPr>
          <a:xfrm>
            <a:off x="4427640" y="1557360"/>
            <a:ext cx="424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в иг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роби появились в глубокой древности. При разделе добычи , при измерениях величин, да и в других случаях люди встречались с необходимостью  ввести дроб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ir[1]"/>
          <p:cNvPicPr/>
          <p:nvPr/>
        </p:nvPicPr>
        <p:blipFill>
          <a:blip r:embed="rId1"/>
          <a:stretch/>
        </p:blipFill>
        <p:spPr>
          <a:xfrm>
            <a:off x="5148360" y="1989000"/>
            <a:ext cx="3600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в иг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о математике мол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а в порядок ум приво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му хороши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говорят о ней в на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лучайно ей такой поч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ей давно давать 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хороший выполнить расч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остройки здания, р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нам, математика, даё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обеды трудностей закал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ся с тобою молодёж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и волю и смека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zvez1"/>
          <p:cNvPicPr/>
          <p:nvPr/>
        </p:nvPicPr>
        <p:blipFill>
          <a:blip r:embed="rId1"/>
          <a:stretch/>
        </p:blipFill>
        <p:spPr>
          <a:xfrm>
            <a:off x="5435640" y="3213000"/>
            <a:ext cx="1390680" cy="156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j0300840"/>
          <p:cNvPicPr/>
          <p:nvPr/>
        </p:nvPicPr>
        <p:blipFill>
          <a:blip r:embed="rId2"/>
          <a:stretch/>
        </p:blipFill>
        <p:spPr>
          <a:xfrm>
            <a:off x="4211640" y="1773360"/>
            <a:ext cx="493236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в иг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дь с базара плюшки нё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а лесной опу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ловину плюшки съ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люс ещё полплю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ёл, шёл, уселся отдох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 ку-ку кук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овь половину плюшки съ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люс ещё полплю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мнело. Он ускорил ша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а крыльце изб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снова пол-остатка съ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люс ещё полплю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устой кошелкою ув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в дом вошёл ун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чу, чтоб мне сказали 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колько плюшек бы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плю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?id=55226447&amp;tov=0"/>
          <p:cNvPicPr/>
          <p:nvPr/>
        </p:nvPicPr>
        <p:blipFill>
          <a:blip r:embed="rId2"/>
          <a:stretch/>
        </p:blipFill>
        <p:spPr>
          <a:xfrm>
            <a:off x="4500720" y="1773360"/>
            <a:ext cx="439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6:42:48Z</dcterms:created>
  <dc:creator>manager2</dc:creator>
  <dc:description/>
  <dc:language>en-US</dc:language>
  <cp:lastModifiedBy>татьяна</cp:lastModifiedBy>
  <dcterms:modified xsi:type="dcterms:W3CDTF">2013-10-07T10:25:46Z</dcterms:modified>
  <cp:revision>10</cp:revision>
  <dc:subject/>
  <dc:title>Творческая работа по математике ученика 6 А класса Грекова Артура</dc:title>
</cp:coreProperties>
</file>