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72D-C4D4-4310-A00B-F70B0B26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552-3EB3-4420-BF84-6785D906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A2690-FDD0-46C3-A165-03DCE9EA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F116-B314-4A5E-B50D-1D1A4BA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E6A03-A286-49C9-8C60-86438E4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43992-B2ED-4729-AC5E-4C3A91F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8305C-7293-42A7-88C5-D0FA317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8351-E136-4278-880B-A9F6872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E26A7-A044-4ECF-B097-EF0F3D2A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66623-50B4-4B71-8743-A0CEA350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8F2B3-4E3A-4E5D-94E9-4BA858C9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2B7B6-04EB-4A3E-8895-6C907B21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D04-338F-4B82-85F2-D62249BE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0CD6D-36E9-4355-98DA-6F95BADE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91A8E-A2F4-4EEF-A7BA-696B1D3C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6E2D-61E3-4D6C-93C3-04A651A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C278D-F46B-474B-B888-D23750FD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ECAD6-EB80-4D9B-BF25-FE61B68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3AD54-610D-492A-9C29-D4D0A78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3A11A-18BD-4EE7-8485-8A8A1AF6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E3DAD-C771-4309-A617-5F73D8F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CE0EB-858E-4D35-8716-F8C9DAA4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2FF63-271B-436D-9AEF-C5C979F4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36A-8D5C-4F69-87DD-7E3C0103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CF516-48EE-4E9C-9B2C-D7BA0ABE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6EB4-0304-4B36-9937-6D980F02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4D7A-8F18-4748-AB2E-2FB0AF5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55F19-52B4-4B20-917C-10623AF7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35E4-38FD-4AFA-AAF9-1544F03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2DBA2-1D03-49CE-88DE-C87357E0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DA8FB-2EBC-4721-8F5E-9D38B1B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45E1E-F204-4D8A-8D83-EE2C8A3D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9FD3-4AF8-4C34-BA72-FBEE107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707F-3CFB-4C3C-8DC7-72F5F56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3FA2-0A4A-4D90-BEF4-2EBF8E5F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A0824-48CC-460D-832D-3AA67C8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6538B-3F5D-435C-A48C-B277CFA0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A0705-411A-4F96-9E64-1A32DF00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346AC-BF75-4651-AADE-DDCB09A4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E7355-28B3-4AAE-953A-52C8D695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A0240-5D24-473A-A459-DC75ED4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8DCCA-6D90-4F2F-845B-1BBD593E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33AC7-2651-4C2E-BE6F-43CB9B9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FC65A-70A7-48B0-96CB-987E1C71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E8354-9310-41F5-B6DD-FE96575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AD9-695D-4737-9DD5-F427D01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930D6-AFBB-4375-8A7C-6FC50EA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D4C38-19CB-4B5B-A29E-AB63F1B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EEFF7-0775-4FD6-8529-A67736E2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DD5AD-7C7E-4BF5-AEB2-99624CAE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95EC1-CECD-4671-AC93-5B6560DA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FC716-C415-48F5-B55F-FD8E29B0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8690E-056E-440F-B3D6-79E0801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54090-1FFF-48D9-B283-9B73048D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069AC-F2D9-45A3-BC79-F4939F0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84E54-0D3F-4DE5-B346-3CD35C9A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EB9C-4BB9-4A83-A992-16DEBA23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18BCB-96C4-4DE9-A37F-F88FC75B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16FF6-3FD4-4966-8D29-792B958C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9A9ED-5874-42C0-9747-6DDA9AB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F0E25-20CF-4413-9D68-AA9C8253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825B1-0F86-4609-A712-F3ED170E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08B28-00F1-47C5-9927-64A634E1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AC3A5-FBE8-4EE9-968B-3B0673C7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E4ECB-9DE6-47D5-A61A-5B272770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57DF4-0A22-42C6-BA7B-8F244CF2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7FA67-A7D2-4820-880B-8F92DF3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81FE-3C21-45DD-904F-7591C09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4B52C-E5CF-4C24-81A2-2601518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1D9FC-E073-4A4C-BA95-DF950254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E5528-8C32-4EF9-B9EB-536B0EF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2B740-A5C3-43DF-85A3-53EDB3E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23E8A-1D43-4EAC-A49F-7D4AFAF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304F0-7F30-49E5-9FF1-81343BB7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1EBA0-592D-45CF-A3CA-75D4704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1B594-4E92-4127-805A-5866F5D1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01216-22F0-450D-9512-B768EE3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0496E-ED93-49EC-8A46-FF682864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41B0-BBC2-4B99-9548-CAFE6F2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09D7C-00E1-45E6-BC46-03EA4556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6DF92-105B-43B4-BF5C-703BA011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CBE41-C047-457F-8D69-FC6477D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2ADDD-14A3-4519-8AD1-2B31181C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CEBE6-2701-4591-B2EA-2F0F0446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885CD-94C8-4C1E-8AFD-7C46409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B9580-F17F-4E7B-B216-A6A53203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3B834-2BF9-4702-8412-D950AD4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12B9B-9C5B-4FD3-ADA2-246987BB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65AF7-61AF-4139-BAE5-E5BAF458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778F-FA71-41A7-9154-586104F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43CC7-0BD6-4F36-98B4-6BD39695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519ED-5432-4C9A-8FFD-4CF21A55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517C6-E927-4B22-B492-0587C9F5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352A4-7C34-4091-B842-903B58B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F9F40-52ED-497F-B401-9E35FFF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8DB5E-A1FE-4463-A5C5-15554FFE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272FA-3D46-441C-83A1-9335512D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620A9-B3AA-486F-B137-07BE14FF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87889-0AF8-45AA-BCEF-FAD797B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AAC0C-FCB3-4A31-8ABC-8BB07F4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BA42-F3FB-4CFC-A0CD-CED5544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D2FED-DC46-404F-8B8B-E4ED2BD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337B4-DD4F-40A4-B7C7-BA2E8C45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3FAAA-B0AC-4508-828A-E47BBC12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A6E6A-77E7-4868-BF47-5B00E5E5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BF4C5-B204-4A7F-A17E-4C9AC33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9369A-1876-4940-9A80-4129C7F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4FE43-9A28-48DB-B903-42CBDAB5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B32C8-0EC0-48CC-980B-8F6CAF8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D3FA8-9104-44B8-A36E-DC2D1EC2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7871E-F810-49C0-80B0-5099870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EF5-6200-48D1-A55E-DC700B2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45A4-10D5-41EA-A2B9-F241617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7323C-9E70-4251-B077-5B4167B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D8953-F0A6-488E-A408-6B46B2E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4DD56-8FFC-4397-A80C-476F7FBE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C941F-68D8-49C4-B557-1ED07ACA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AA6A0-ADC7-4E3B-98DA-6D47F087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A4028-8E6F-4BD1-9BB5-51A82A24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05E0A-F5B1-4F5B-BE18-A8623C3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06633-5D6A-448F-9DF7-59A7FDDE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0E522-E4A2-4CC4-968C-266BB69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2F060-6FCE-4C28-912B-34BFE145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85A-44D9-4796-AC65-F56ACE2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11123-09ED-446B-A7D4-8D795D65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B9F9E-CCEC-438B-BFD3-19C5B9A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865BE-1186-47DF-9A17-345CB69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5D7AD-1DFE-4B43-9F19-76CC23A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2189A-B727-46FF-85FC-7743509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1155B-1E5B-4B85-8267-AEDCAD16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E6FC8-D899-4E83-A591-658963E6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9803A-0A54-4584-888A-81DED995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AC13EE-571E-47EE-9F65-3D44287F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B109D1-F833-4042-AFB9-372E2B60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F3EB-E717-4F96-8628-D0D17DF7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C8424-B1CA-476C-B088-EB4B82F5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165FE-8F13-454D-AB75-65D59D85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8A22E-E972-49B9-B5D8-659C744B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00A17-88AB-4EC9-A8B4-37D8AC96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2FE07-5BA9-43DC-B6D4-2966FC7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FA518-3E28-4833-A02F-F56CCAF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5911B-A97A-43EE-8C6D-87FED5D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D6E8C-39F8-4A00-B401-4EB68A5E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A0BAA-8E14-4D47-84EB-B082D088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C37E1-8E8A-41E8-9448-2912A91C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0D41-BFDE-4E18-BC9D-58258550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67957-12D8-42A8-9011-8BC30DB4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E3360-B6D9-46AD-9B48-9D8128E7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40AA9-44BA-406B-A366-4661C59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3EC48-BA88-4424-8F22-CB81203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14238-A862-4889-932C-22B247A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56822-D182-4040-9FC5-A8D32473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88060-814D-405B-9077-691470C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856C0-FDFB-42EE-BFC1-39F70959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E36A1-6A4B-4613-8664-FE4DD28A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E177F-F628-4058-A0AD-0C4B930B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BBC-5342-48FE-9AA0-6AFEAD98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61E29-72E1-471E-BBAD-19848840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9FE0-E196-47C9-9515-1D039C37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153B-C6F3-4730-A2D8-B835855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C919-083E-41AA-8F18-0A4A885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CCFA-59BE-4E60-9352-93532DBA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898A-41FF-416F-AE9D-EBDF23B8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608-280D-417D-B9E8-284409EF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0FF5-2FF8-4945-9362-BFB41C18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0A47-B691-47BB-AB65-47C08B8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D7CC-5A3A-45FB-9344-0283EE1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1EA1-CC6E-488D-9874-B5406EED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5931-4CF2-4B70-A7B8-8B4D734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4BA4-DA12-4E1F-8A3D-E950CA36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8E1C-38FF-4B65-8A5D-2C5FD543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CD5F-C21C-4862-B622-D9C4DA84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2D6E-F406-4A5F-8E35-10007E2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AEA2-8987-4C5E-BB5F-E454CC7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51B-96F4-4E0E-94DB-2F98E5C6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C5F9-391F-4895-8AAF-E9E6CAE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CD4B-A1F9-4AB4-AAA2-C1152780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9FEB-3D81-4669-8640-69BC2C9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F936-0002-4DCA-B206-2ABD3D6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2250-E3F1-4E12-A882-B6A3C3E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7FD7-B71C-4E3B-A939-9FF0300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7EDE-AE80-488B-BD87-C0DF504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73FF-7548-4797-BB4C-C2C363E3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0C66-15DA-488B-AB13-F85EC7B5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5E36-8635-473A-AD78-570CF011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B74-F6B5-48FC-AAD3-70E81F0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597F4-AC24-441F-BB7F-891A2F2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0A2D-987B-4D4C-A72A-A85A792B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9970-3DAE-40E6-97DC-07DEBAA4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C004-7662-47DD-9C48-20683AA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CCF01-B07E-4A84-8233-B652561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34BA-09E3-4ADF-9E7A-F9010BA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4174-82F4-4CE6-AF35-A609217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35FC3-9393-4398-BE65-1078AAE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2CF26-EF66-4D6A-8B50-CA6BDFE7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6AE8-87F2-4456-BC04-F9898ABD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45E-549A-41CD-9CB9-41DD9E5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A7B5-8A90-48C3-B3E4-19B21105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5AB44-7ED4-4EB2-AD74-F999FA4F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FF25C-56B0-46EF-A7F0-F4509B9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1FC8-739A-4198-963F-D237DC8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AC9B-39BA-40A8-995B-8749DBA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566B-4155-47FE-8DC0-8F5CEFD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026BF-8E8E-4B4E-AE56-B9F5873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137CB-C666-4830-BFB0-87F0799C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89FD-FD36-43F8-8DCC-8DAA88D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94E2-2845-47DE-84A2-1993CFE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327-239A-4EF0-80B1-276AE61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EE7F-3BA5-42D0-9DFB-CD4DB0F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8E41-4AAC-4831-9DB0-8170E8DA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5C32-0A20-4C75-8ED4-4A131AFC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1463C-E653-4725-942A-4671AB9A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95162-85D7-43A5-B5B4-D0472B2E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0439-EE93-4789-9F0E-092E7CCA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C1D1-0ED1-43EF-9C97-B515BFE7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2D1A9-06EC-4EB7-BF0B-7817CA7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C04F-8756-402E-AF59-3957586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CB06-35B8-43E4-9811-EAD9A34C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931-37D5-4A46-8AF0-4251DFBB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5F41-132E-4E65-A7D2-F005128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458E8-644F-415E-89CD-E6CAE40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61DD-ADBC-41D5-86EF-AB4180B5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61E1-34DC-43E3-AB93-085CFABD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91B2-8EA0-40D3-97CD-0EC7994D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C674D-4F69-4AFE-8D60-8ACE6B25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8222B-78F2-46ED-B78E-53FE8FB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6005-8A77-42EC-A91E-680F1F8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DB90-FABB-4A03-B8C7-01905FC7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A4C24-6BD8-4779-836E-C98CCD3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578-C7F7-4B70-8137-DCCF5A5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92034-41B2-4912-8DA0-70DA4CFD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9452F-75F1-4420-BEA3-A354334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130D7-0B23-4811-ACBF-014FC8D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9EEA8-7D5F-4C0C-A979-4A6C6F5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8753-3D58-4DA5-9E16-BD889AC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F2DF6-6416-4E1B-B40E-BC4C0D82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3405-3F01-43F7-80BE-E944A90E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0E56D-B27A-4D5E-97A5-F659BFB0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C797D-7EF3-4FFA-88FE-94105DD7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F69DC-A6CA-43D3-A227-0B3F011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2B7-0128-47EC-9966-DE63B37905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430-E88E-416A-AC78-DEF7333BE52A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8708-B4A7-4520-927D-745C9AF4FF4F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1228-5762-45B9-8D09-167B498C7B58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022F-B75F-43CD-80E0-7B8B8BCBB92B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528-020D-4A0A-B911-72C32F93BF64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096-6FD5-43E4-99E5-B24253B62C1B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03C1-BF40-4475-9B43-7909E590ACD4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5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5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F34F-7688-4353-9483-08ED2834D76D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8531-69A3-4A20-B274-BB09615B63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A19-D958-4BB0-8F54-6FDC1955CE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8156-77BD-48EF-92FA-F6AD270750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7D64-A501-45FE-AD16-A1545E0F6F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0A1-B6AB-4A90-B4C6-7996855107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33A-E07E-4475-ACA2-87128CECF3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752-032F-433C-B16A-919F85869A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D15D-824A-48E5-9BEF-0926E5683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896-99F5-4161-A7D3-65CA6F7416BC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292934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C90F-09DD-494B-A0E9-F6463348791C}" type="slidenum">
              <a:rPr b="1" lang="ru-RU" sz="1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2984-E1AC-4617-9367-FA5C60A18C0C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&#1056;&#1072;&#1073;&#1086;&#1095;&#1080;&#1081;%20&#1089;&#1090;&#1086;&#1083;/&#1089;&#1090;&#1072;&#1090;&#1100;&#1103;/&#1087;&#1088;&#1080;&#1083;&#1086;&#1078;&#1077;&#1085;&#1080;&#1077;%202.rar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WordArt 3"/>
          <p:cNvSpPr txBox="1"/>
          <p:nvPr/>
        </p:nvSpPr>
        <p:spPr>
          <a:xfrm>
            <a:off x="395280" y="2565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ГРЕГАТНЫЕ СОСТОЯНИЯ ВЕЩЕСТВ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539640" y="260280"/>
            <a:ext cx="7777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вещества из газообразного состояния в жидкое  называют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конденс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3780000" y="2637000"/>
            <a:ext cx="529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энергия молекул и их расположение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3780000" y="170172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внутренняя энергия вещества при конденсац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3851280" y="357336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меняются ли молекулы вещества при конденсац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Picture 7" descr="жидкость"/>
          <p:cNvPicPr/>
          <p:nvPr/>
        </p:nvPicPr>
        <p:blipFill>
          <a:blip r:embed="rId1"/>
          <a:stretch/>
        </p:blipFill>
        <p:spPr>
          <a:xfrm>
            <a:off x="468360" y="4437000"/>
            <a:ext cx="2592360" cy="1728720"/>
          </a:xfrm>
          <a:prstGeom prst="rect">
            <a:avLst/>
          </a:prstGeom>
          <a:ln w="0">
            <a:noFill/>
          </a:ln>
        </p:spPr>
      </p:pic>
      <p:sp>
        <p:nvSpPr>
          <p:cNvPr id="1002" name="AutoShape 8"/>
          <p:cNvSpPr/>
          <p:nvPr/>
        </p:nvSpPr>
        <p:spPr>
          <a:xfrm>
            <a:off x="1474920" y="3789360"/>
            <a:ext cx="10810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Picture 9" descr="газ"/>
          <p:cNvPicPr/>
          <p:nvPr/>
        </p:nvPicPr>
        <p:blipFill>
          <a:blip r:embed="rId2"/>
          <a:stretch/>
        </p:blipFill>
        <p:spPr>
          <a:xfrm>
            <a:off x="395280" y="148428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4"/>
          <p:cNvSpPr/>
          <p:nvPr/>
        </p:nvSpPr>
        <p:spPr>
          <a:xfrm>
            <a:off x="-36360" y="18900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omic Sans MS"/>
              </a:rPr>
              <a:t>Испарение – парообразование, происходящее с поверхности жидк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5" name="Object 10"/>
          <p:cNvGraphicFramePr/>
          <p:nvPr/>
        </p:nvGraphicFramePr>
        <p:xfrm>
          <a:off x="539640" y="1484280"/>
          <a:ext cx="27180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2718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Text Box 11"/>
          <p:cNvSpPr/>
          <p:nvPr/>
        </p:nvSpPr>
        <p:spPr>
          <a:xfrm>
            <a:off x="3687840" y="1504800"/>
            <a:ext cx="47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Какие молекулы покидают жидкость при испарении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3687840" y="2211480"/>
            <a:ext cx="47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Как изменяется внутренняя энергия жидкости при испарении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3687840" y="287352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При какой температуре может происходить испарение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708360" y="3592440"/>
            <a:ext cx="49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Как изменяется масса жидкости при испарении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329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omic Sans MS"/>
              </a:rPr>
              <a:t>Объясни, почему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Picture 10" descr="08k-i2"/>
          <p:cNvPicPr/>
          <p:nvPr/>
        </p:nvPicPr>
        <p:blipFill>
          <a:blip r:embed="rId1"/>
          <a:stretch/>
        </p:blipFill>
        <p:spPr>
          <a:xfrm>
            <a:off x="468360" y="2421000"/>
            <a:ext cx="3333600" cy="8856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7" descr="08k-i1"/>
          <p:cNvPicPr/>
          <p:nvPr/>
        </p:nvPicPr>
        <p:blipFill>
          <a:blip r:embed="rId2"/>
          <a:stretch/>
        </p:blipFill>
        <p:spPr>
          <a:xfrm>
            <a:off x="468360" y="1413000"/>
            <a:ext cx="3333600" cy="8856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6" descr="08k-i4"/>
          <p:cNvPicPr/>
          <p:nvPr/>
        </p:nvPicPr>
        <p:blipFill>
          <a:blip r:embed="rId3"/>
          <a:stretch/>
        </p:blipFill>
        <p:spPr>
          <a:xfrm>
            <a:off x="900000" y="3789360"/>
            <a:ext cx="1905120" cy="174312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19"/>
          <p:cNvSpPr/>
          <p:nvPr/>
        </p:nvSpPr>
        <p:spPr>
          <a:xfrm>
            <a:off x="4052880" y="172080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а из блюдца испарилась быстрее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0"/>
          <p:cNvSpPr/>
          <p:nvPr/>
        </p:nvSpPr>
        <p:spPr>
          <a:xfrm>
            <a:off x="4052880" y="265572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ушилось равновесие весов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1"/>
          <p:cNvSpPr/>
          <p:nvPr/>
        </p:nvSpPr>
        <p:spPr>
          <a:xfrm>
            <a:off x="3327480" y="4313160"/>
            <a:ext cx="51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несколько дней уровень различных жидкостей стал разны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omic Sans MS"/>
              </a:rPr>
              <a:t>Объяс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9" name="Object 4"/>
          <p:cNvGraphicFramePr/>
          <p:nvPr/>
        </p:nvGraphicFramePr>
        <p:xfrm>
          <a:off x="539640" y="1484280"/>
          <a:ext cx="2448000" cy="22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244800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Picture 7" descr="08k-i3"/>
          <p:cNvPicPr/>
          <p:nvPr/>
        </p:nvPicPr>
        <p:blipFill>
          <a:blip r:embed="rId3"/>
          <a:stretch/>
        </p:blipFill>
        <p:spPr>
          <a:xfrm>
            <a:off x="684360" y="3716280"/>
            <a:ext cx="7775280" cy="99216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10"/>
          <p:cNvSpPr/>
          <p:nvPr/>
        </p:nvSpPr>
        <p:spPr>
          <a:xfrm>
            <a:off x="3274920" y="198900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будет происходить испарение, если над жидкостью будет дуть ветер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1"/>
          <p:cNvSpPr/>
          <p:nvPr/>
        </p:nvSpPr>
        <p:spPr>
          <a:xfrm>
            <a:off x="456480" y="5084640"/>
            <a:ext cx="79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чему вода из тарелки испаряется быстрее, чем из миски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п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Text Box 6"/>
          <p:cNvSpPr/>
          <p:nvPr/>
        </p:nvSpPr>
        <p:spPr>
          <a:xfrm>
            <a:off x="611280" y="1700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бразуется на стенках банки, если она долго стояла с водой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10"/>
          <p:cNvSpPr/>
          <p:nvPr/>
        </p:nvSpPr>
        <p:spPr>
          <a:xfrm>
            <a:off x="611280" y="25401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аходится в этих пузырьках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11"/>
          <p:cNvSpPr/>
          <p:nvPr/>
        </p:nvSpPr>
        <p:spPr>
          <a:xfrm>
            <a:off x="611280" y="31780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ь пузырьков одновременно является поверхностью жидкости. Что будет происходить с поверхности внутри пузырьков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Сравните процессы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 испарения и кипения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6"/>
          <p:cNvSpPr/>
          <p:nvPr/>
        </p:nvSpPr>
        <p:spPr>
          <a:xfrm>
            <a:off x="684360" y="292428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В какой части жидкости происходит парообразование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7"/>
          <p:cNvSpPr/>
          <p:nvPr/>
        </p:nvSpPr>
        <p:spPr>
          <a:xfrm>
            <a:off x="684360" y="378936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акие изменения температуры жидкости происходят в процессе парообразования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684360" y="4724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Как изменяется внутренняя энергия жидкости в процессе парообразования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10"/>
          <p:cNvSpPr/>
          <p:nvPr/>
        </p:nvSpPr>
        <p:spPr>
          <a:xfrm>
            <a:off x="673560" y="558972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От чего зависит скорость протекания процесса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11"/>
          <p:cNvSpPr/>
          <p:nvPr/>
        </p:nvSpPr>
        <p:spPr>
          <a:xfrm>
            <a:off x="1116000" y="1413000"/>
            <a:ext cx="61200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2"/>
          <p:cNvSpPr/>
          <p:nvPr/>
        </p:nvSpPr>
        <p:spPr>
          <a:xfrm flipV="1">
            <a:off x="4211640" y="141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ine 13"/>
          <p:cNvSpPr/>
          <p:nvPr/>
        </p:nvSpPr>
        <p:spPr>
          <a:xfrm>
            <a:off x="1116000" y="191628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4"/>
          <p:cNvSpPr/>
          <p:nvPr/>
        </p:nvSpPr>
        <p:spPr>
          <a:xfrm>
            <a:off x="1335240" y="136224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испар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5221800" y="13622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ип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WordArt 6"/>
          <p:cNvSpPr txBox="1"/>
          <p:nvPr/>
        </p:nvSpPr>
        <p:spPr>
          <a:xfrm>
            <a:off x="1042920" y="189000"/>
            <a:ext cx="7129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им    бывает   лёд 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4859280" y="1125360"/>
            <a:ext cx="3816360" cy="475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8"/>
          <p:cNvSpPr/>
          <p:nvPr/>
        </p:nvSpPr>
        <p:spPr>
          <a:xfrm>
            <a:off x="468360" y="1125360"/>
            <a:ext cx="3959280" cy="4751640"/>
          </a:xfrm>
          <a:prstGeom prst="rect">
            <a:avLst/>
          </a:prstGeom>
          <a:solidFill>
            <a:srgbClr val="292934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f2dc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ячий лё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f2d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Мы привыкли считать, что во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не может быть в твёрдом состоян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при </a:t>
            </a:r>
            <a:r>
              <a:rPr b="1" i="1" lang="en-US" sz="1800" spc="-1" strike="noStrike">
                <a:solidFill>
                  <a:srgbClr val="f3f2dc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f3f2d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выше 0 </a:t>
            </a:r>
            <a:r>
              <a:rPr b="1" lang="ru-RU" sz="1800" spc="-1" strike="noStrike" baseline="30000">
                <a:solidFill>
                  <a:srgbClr val="f3f2dc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С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f2d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Английский физик  Бриджмен по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казал,  что </a:t>
            </a:r>
            <a:r>
              <a:rPr b="1" i="1" lang="ru-RU" sz="1800" spc="-1" strike="noStrike">
                <a:solidFill>
                  <a:srgbClr val="f3f2dc"/>
                </a:solidFill>
                <a:latin typeface="Times New Roman"/>
              </a:rPr>
              <a:t>вода под давлением  р </a:t>
            </a:r>
            <a:r>
              <a:rPr b="1" i="1" lang="en-US" sz="1800" spc="-1" strike="noStrike">
                <a:solidFill>
                  <a:srgbClr val="f3f2dc"/>
                </a:solidFill>
                <a:latin typeface="Times New Roman"/>
              </a:rPr>
              <a:t>~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3f2dc"/>
                </a:solidFill>
                <a:latin typeface="Times New Roman"/>
              </a:rPr>
              <a:t>2*10</a:t>
            </a:r>
            <a:r>
              <a:rPr b="1" i="1" lang="en-US" sz="1800" spc="-1" strike="noStrike" baseline="30000">
                <a:solidFill>
                  <a:srgbClr val="f3f2dc"/>
                </a:solidFill>
                <a:latin typeface="Times New Roman"/>
              </a:rPr>
              <a:t>9</a:t>
            </a:r>
            <a:r>
              <a:rPr b="1" i="1" lang="en-US" sz="1800" spc="-1" strike="noStrike">
                <a:solidFill>
                  <a:srgbClr val="f3f2d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3f2dc"/>
                </a:solidFill>
                <a:latin typeface="Times New Roman"/>
              </a:rPr>
              <a:t>Па остаётся твёрдой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даже при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f2dc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= 76 </a:t>
            </a:r>
            <a:r>
              <a:rPr b="1" lang="ru-RU" sz="1800" spc="-1" strike="noStrike" baseline="30000">
                <a:solidFill>
                  <a:srgbClr val="f3f2dc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С. Это так называемый «го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рячий лёд - 5». Взять его в руки не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льзя, о свойствах этой разновидно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сти льда узнали косвенным образо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«Горячий лёд» плотнее воды (105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кг/м</a:t>
            </a:r>
            <a:r>
              <a:rPr b="1" lang="ru-RU" sz="1800" spc="-1" strike="noStrike" baseline="30000">
                <a:solidFill>
                  <a:srgbClr val="f3f2dc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), он тонет в воде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Сегодня известно более 10 разно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видностей льда с удивительны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качествам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4788000" y="1052640"/>
            <a:ext cx="3960720" cy="478800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хой лё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При сгорании угля можно полу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чить не жар, а наоборот, холод. Для этого уголь сжигают в котлах, образующийся дым  очищают и улавливают в нём </a:t>
            </a:r>
            <a:r>
              <a:rPr b="1" i="1" lang="ru-RU" sz="1800" spc="-1" strike="noStrike">
                <a:solidFill>
                  <a:srgbClr val="f3f2dc"/>
                </a:solidFill>
                <a:latin typeface="Times New Roman"/>
              </a:rPr>
              <a:t>углекислый газ.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Его охлаждают и сжимают до давления 7*10</a:t>
            </a:r>
            <a:r>
              <a:rPr b="1" lang="ru-RU" sz="1800" spc="-1" strike="noStrike" baseline="30000">
                <a:solidFill>
                  <a:srgbClr val="f3f2dc"/>
                </a:solidFill>
                <a:latin typeface="Times New Roman"/>
              </a:rPr>
              <a:t>6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Па. Получается </a:t>
            </a:r>
            <a:r>
              <a:rPr b="1" i="1" lang="ru-RU" sz="1800" spc="-1" strike="noStrike">
                <a:solidFill>
                  <a:srgbClr val="f3f2dc"/>
                </a:solidFill>
                <a:latin typeface="Times New Roman"/>
              </a:rPr>
              <a:t>жидкая углекислота.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Её хранят в толстостенных баллона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При открывании крана жидкая углекислота резко расширяется и охдаждается, превращаясь в </a:t>
            </a:r>
            <a:r>
              <a:rPr b="1" i="1" lang="ru-RU" sz="1800" spc="-1" strike="noStrike">
                <a:solidFill>
                  <a:srgbClr val="f3f2dc"/>
                </a:solidFill>
                <a:latin typeface="Times New Roman"/>
              </a:rPr>
              <a:t>твёр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3f2dc"/>
                </a:solidFill>
                <a:latin typeface="Times New Roman"/>
              </a:rPr>
              <a:t>дую углекислоту – «сухой лёд»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f2dc"/>
                </a:solidFill>
                <a:latin typeface="Times New Roman"/>
              </a:rPr>
              <a:t>Под влиянием теплоты хлопья сухого льда сразу переходят в газ, минуя жидкое состояние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10"/>
          <p:cNvSpPr/>
          <p:nvPr/>
        </p:nvSpPr>
        <p:spPr>
          <a:xfrm>
            <a:off x="468360" y="6083280"/>
            <a:ext cx="820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WordArt 11"/>
          <p:cNvSpPr txBox="1"/>
          <p:nvPr/>
        </p:nvSpPr>
        <p:spPr>
          <a:xfrm>
            <a:off x="1042920" y="6021360"/>
            <a:ext cx="705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d8f67"/>
                  </a:solidFill>
                  <a:miter/>
                </a:ln>
                <a:gradFill rotWithShape="0">
                  <a:gsLst>
                    <a:gs pos="0">
                      <a:srgbClr val="ad8f67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Arial"/>
              </a:rPr>
              <a:t>Можно ли считать </a:t>
            </a:r>
            <a:endParaRPr b="1" lang="en-US" sz="1800" spc="1" strike="noStrike">
              <a:ln w="9360">
                <a:solidFill>
                  <a:srgbClr val="ad8f67"/>
                </a:solidFill>
                <a:miter/>
              </a:ln>
              <a:gradFill rotWithShape="0">
                <a:gsLst>
                  <a:gs pos="0">
                    <a:srgbClr val="ad8f67"/>
                  </a:gs>
                  <a:gs pos="100000">
                    <a:srgbClr val="7676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d8f67"/>
                  </a:solidFill>
                  <a:miter/>
                </a:ln>
                <a:gradFill rotWithShape="0">
                  <a:gsLst>
                    <a:gs pos="0">
                      <a:srgbClr val="ad8f67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Arial"/>
              </a:rPr>
              <a:t>названные разновидности льда новым</a:t>
            </a:r>
            <a:endParaRPr b="1" lang="en-US" sz="1800" spc="1" strike="noStrike">
              <a:ln w="9360">
                <a:solidFill>
                  <a:srgbClr val="ad8f67"/>
                </a:solidFill>
                <a:miter/>
              </a:ln>
              <a:gradFill rotWithShape="0">
                <a:gsLst>
                  <a:gs pos="0">
                    <a:srgbClr val="ad8f67"/>
                  </a:gs>
                  <a:gs pos="100000">
                    <a:srgbClr val="7676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d8f67"/>
                  </a:solidFill>
                  <a:miter/>
                </a:ln>
                <a:gradFill rotWithShape="0">
                  <a:gsLst>
                    <a:gs pos="0">
                      <a:srgbClr val="ad8f67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Arial"/>
              </a:rPr>
              <a:t>агрегатным состоянием вещества?</a:t>
            </a:r>
            <a:endParaRPr b="1" lang="en-US" sz="1800" spc="1" strike="noStrike">
              <a:ln w="9360">
                <a:solidFill>
                  <a:srgbClr val="ad8f67"/>
                </a:solidFill>
                <a:miter/>
              </a:ln>
              <a:gradFill rotWithShape="0">
                <a:gsLst>
                  <a:gs pos="0">
                    <a:srgbClr val="ad8f67"/>
                  </a:gs>
                  <a:gs pos="100000">
                    <a:srgbClr val="76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0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0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0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0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0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0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0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0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0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770"/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770" fill="hold"/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7"/>
          <p:cNvSpPr/>
          <p:nvPr/>
        </p:nvSpPr>
        <p:spPr>
          <a:xfrm>
            <a:off x="900000" y="2602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происходит с молекулами вещества, когда вещество находится в разных агрегатных состояниях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1476360" y="1268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а скорость молекул вещества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е расстояние между молекулами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о взаимное расположение молекул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9"/>
          <p:cNvSpPr/>
          <p:nvPr/>
        </p:nvSpPr>
        <p:spPr>
          <a:xfrm>
            <a:off x="324000" y="285444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0"/>
          <p:cNvSpPr/>
          <p:nvPr/>
        </p:nvSpPr>
        <p:spPr>
          <a:xfrm>
            <a:off x="324000" y="4294080"/>
            <a:ext cx="194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1"/>
          <p:cNvSpPr/>
          <p:nvPr/>
        </p:nvSpPr>
        <p:spPr>
          <a:xfrm>
            <a:off x="324000" y="5662440"/>
            <a:ext cx="194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ердое тел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Picture 12" descr="газ"/>
          <p:cNvPicPr/>
          <p:nvPr/>
        </p:nvPicPr>
        <p:blipFill>
          <a:blip r:embed="rId1"/>
          <a:stretch/>
        </p:blipFill>
        <p:spPr>
          <a:xfrm>
            <a:off x="2340000" y="2781360"/>
            <a:ext cx="4248000" cy="31924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4" descr="жидкость"/>
          <p:cNvPicPr/>
          <p:nvPr/>
        </p:nvPicPr>
        <p:blipFill>
          <a:blip r:embed="rId2"/>
          <a:stretch/>
        </p:blipFill>
        <p:spPr>
          <a:xfrm>
            <a:off x="2411280" y="3141720"/>
            <a:ext cx="4176720" cy="278424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17" descr="твердое тело"/>
          <p:cNvPicPr/>
          <p:nvPr/>
        </p:nvPicPr>
        <p:blipFill>
          <a:blip r:embed="rId3"/>
          <a:stretch/>
        </p:blipFill>
        <p:spPr>
          <a:xfrm>
            <a:off x="2340000" y="2852640"/>
            <a:ext cx="52498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112680" y="16524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ердое тел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492360" y="1159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7525800" y="115920"/>
            <a:ext cx="8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а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981000"/>
            <a:ext cx="251928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3348000" y="981000"/>
            <a:ext cx="251928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624720" y="981000"/>
            <a:ext cx="2519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imes New Roman"/>
              </a:rPr>
              <a:t>U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0" y="2349360"/>
            <a:ext cx="92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9"/>
          <p:cNvSpPr/>
          <p:nvPr/>
        </p:nvSpPr>
        <p:spPr>
          <a:xfrm>
            <a:off x="252720" y="2637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МИРНО !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3637080" y="256536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ЛЬНО !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6458760" y="252108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РАЗОЙДИСЬ !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AutoShape 12"/>
          <p:cNvSpPr/>
          <p:nvPr/>
        </p:nvSpPr>
        <p:spPr>
          <a:xfrm>
            <a:off x="2556000" y="1268280"/>
            <a:ext cx="792000" cy="216000"/>
          </a:xfrm>
          <a:prstGeom prst="leftArrow">
            <a:avLst>
              <a:gd name="adj1" fmla="val 50000"/>
              <a:gd name="adj2" fmla="val 9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AutoShape 13"/>
          <p:cNvSpPr/>
          <p:nvPr/>
        </p:nvSpPr>
        <p:spPr>
          <a:xfrm>
            <a:off x="5796000" y="1197000"/>
            <a:ext cx="792000" cy="216000"/>
          </a:xfrm>
          <a:prstGeom prst="leftArrow">
            <a:avLst>
              <a:gd name="adj1" fmla="val 50000"/>
              <a:gd name="adj2" fmla="val 9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AutoShape 14"/>
          <p:cNvSpPr/>
          <p:nvPr/>
        </p:nvSpPr>
        <p:spPr>
          <a:xfrm>
            <a:off x="2627280" y="184464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15"/>
          <p:cNvSpPr/>
          <p:nvPr/>
        </p:nvSpPr>
        <p:spPr>
          <a:xfrm>
            <a:off x="5867280" y="177336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4284720" y="1125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U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Oval 17"/>
          <p:cNvSpPr/>
          <p:nvPr/>
        </p:nvSpPr>
        <p:spPr>
          <a:xfrm>
            <a:off x="250920" y="1052640"/>
            <a:ext cx="21564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Oval 18"/>
          <p:cNvSpPr/>
          <p:nvPr/>
        </p:nvSpPr>
        <p:spPr>
          <a:xfrm>
            <a:off x="755640" y="1052640"/>
            <a:ext cx="21600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19"/>
          <p:cNvSpPr/>
          <p:nvPr/>
        </p:nvSpPr>
        <p:spPr>
          <a:xfrm>
            <a:off x="1403280" y="1052640"/>
            <a:ext cx="21600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Oval 20"/>
          <p:cNvSpPr/>
          <p:nvPr/>
        </p:nvSpPr>
        <p:spPr>
          <a:xfrm>
            <a:off x="1908000" y="1052640"/>
            <a:ext cx="21600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250920" y="155736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1908000" y="148428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250920" y="206064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Oval 24"/>
          <p:cNvSpPr/>
          <p:nvPr/>
        </p:nvSpPr>
        <p:spPr>
          <a:xfrm>
            <a:off x="755640" y="1557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Oval 25"/>
          <p:cNvSpPr/>
          <p:nvPr/>
        </p:nvSpPr>
        <p:spPr>
          <a:xfrm>
            <a:off x="755640" y="206064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Oval 26"/>
          <p:cNvSpPr/>
          <p:nvPr/>
        </p:nvSpPr>
        <p:spPr>
          <a:xfrm>
            <a:off x="1403280" y="1557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27"/>
          <p:cNvSpPr/>
          <p:nvPr/>
        </p:nvSpPr>
        <p:spPr>
          <a:xfrm>
            <a:off x="1403280" y="206064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Oval 28"/>
          <p:cNvSpPr/>
          <p:nvPr/>
        </p:nvSpPr>
        <p:spPr>
          <a:xfrm>
            <a:off x="3564000" y="1125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Oval 29"/>
          <p:cNvSpPr/>
          <p:nvPr/>
        </p:nvSpPr>
        <p:spPr>
          <a:xfrm>
            <a:off x="3564000" y="148428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Oval 30"/>
          <p:cNvSpPr/>
          <p:nvPr/>
        </p:nvSpPr>
        <p:spPr>
          <a:xfrm>
            <a:off x="3635280" y="1989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Oval 31"/>
          <p:cNvSpPr/>
          <p:nvPr/>
        </p:nvSpPr>
        <p:spPr>
          <a:xfrm>
            <a:off x="1979640" y="1989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Oval 32"/>
          <p:cNvSpPr/>
          <p:nvPr/>
        </p:nvSpPr>
        <p:spPr>
          <a:xfrm>
            <a:off x="4140360" y="1052640"/>
            <a:ext cx="21564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Oval 33"/>
          <p:cNvSpPr/>
          <p:nvPr/>
        </p:nvSpPr>
        <p:spPr>
          <a:xfrm>
            <a:off x="4067280" y="155736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34"/>
          <p:cNvSpPr/>
          <p:nvPr/>
        </p:nvSpPr>
        <p:spPr>
          <a:xfrm>
            <a:off x="4140360" y="198900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Oval 35"/>
          <p:cNvSpPr/>
          <p:nvPr/>
        </p:nvSpPr>
        <p:spPr>
          <a:xfrm>
            <a:off x="4643280" y="1989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Oval 36"/>
          <p:cNvSpPr/>
          <p:nvPr/>
        </p:nvSpPr>
        <p:spPr>
          <a:xfrm>
            <a:off x="5364000" y="1989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Oval 37"/>
          <p:cNvSpPr/>
          <p:nvPr/>
        </p:nvSpPr>
        <p:spPr>
          <a:xfrm>
            <a:off x="6659640" y="1052640"/>
            <a:ext cx="21600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Oval 38"/>
          <p:cNvSpPr/>
          <p:nvPr/>
        </p:nvSpPr>
        <p:spPr>
          <a:xfrm>
            <a:off x="4788000" y="112536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Oval 39"/>
          <p:cNvSpPr/>
          <p:nvPr/>
        </p:nvSpPr>
        <p:spPr>
          <a:xfrm>
            <a:off x="4859280" y="1557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Oval 40"/>
          <p:cNvSpPr/>
          <p:nvPr/>
        </p:nvSpPr>
        <p:spPr>
          <a:xfrm>
            <a:off x="5292720" y="1557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Oval 41"/>
          <p:cNvSpPr/>
          <p:nvPr/>
        </p:nvSpPr>
        <p:spPr>
          <a:xfrm>
            <a:off x="5364000" y="1125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Oval 42"/>
          <p:cNvSpPr/>
          <p:nvPr/>
        </p:nvSpPr>
        <p:spPr>
          <a:xfrm>
            <a:off x="6948360" y="981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Oval 43"/>
          <p:cNvSpPr/>
          <p:nvPr/>
        </p:nvSpPr>
        <p:spPr>
          <a:xfrm>
            <a:off x="8820000" y="1052640"/>
            <a:ext cx="21600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Oval 44"/>
          <p:cNvSpPr/>
          <p:nvPr/>
        </p:nvSpPr>
        <p:spPr>
          <a:xfrm>
            <a:off x="7308720" y="981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Oval 45"/>
          <p:cNvSpPr/>
          <p:nvPr/>
        </p:nvSpPr>
        <p:spPr>
          <a:xfrm>
            <a:off x="8748720" y="1773360"/>
            <a:ext cx="21600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Oval 46"/>
          <p:cNvSpPr/>
          <p:nvPr/>
        </p:nvSpPr>
        <p:spPr>
          <a:xfrm>
            <a:off x="8928000" y="206064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47"/>
          <p:cNvSpPr/>
          <p:nvPr/>
        </p:nvSpPr>
        <p:spPr>
          <a:xfrm>
            <a:off x="8317080" y="1773360"/>
            <a:ext cx="21564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48"/>
          <p:cNvSpPr/>
          <p:nvPr/>
        </p:nvSpPr>
        <p:spPr>
          <a:xfrm>
            <a:off x="7956720" y="112536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Oval 49"/>
          <p:cNvSpPr/>
          <p:nvPr/>
        </p:nvSpPr>
        <p:spPr>
          <a:xfrm>
            <a:off x="7956720" y="2133720"/>
            <a:ext cx="21564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50"/>
          <p:cNvSpPr/>
          <p:nvPr/>
        </p:nvSpPr>
        <p:spPr>
          <a:xfrm>
            <a:off x="6732720" y="1989000"/>
            <a:ext cx="2156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51"/>
          <p:cNvSpPr/>
          <p:nvPr/>
        </p:nvSpPr>
        <p:spPr>
          <a:xfrm>
            <a:off x="7164360" y="155736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Oval 52"/>
          <p:cNvSpPr/>
          <p:nvPr/>
        </p:nvSpPr>
        <p:spPr>
          <a:xfrm>
            <a:off x="7308720" y="198900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WordArt 53"/>
          <p:cNvSpPr txBox="1"/>
          <p:nvPr/>
        </p:nvSpPr>
        <p:spPr>
          <a:xfrm>
            <a:off x="3276720" y="3213000"/>
            <a:ext cx="25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2" name="Text Box 54"/>
          <p:cNvSpPr/>
          <p:nvPr/>
        </p:nvSpPr>
        <p:spPr>
          <a:xfrm>
            <a:off x="250920" y="414972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1. В разных агрегатных состояниях расположение атомов и молекул различно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55"/>
          <p:cNvSpPr/>
          <p:nvPr/>
        </p:nvSpPr>
        <p:spPr>
          <a:xfrm>
            <a:off x="250920" y="522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2. Внутренняя энергия одинаковых масс твердого тела, жидкости и газа при одинаковых температурах различн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348000" y="189000"/>
            <a:ext cx="3168720" cy="115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6012000" y="3933720"/>
            <a:ext cx="2808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1042920" y="3933720"/>
            <a:ext cx="2951280" cy="122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399564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6"/>
          <p:cNvSpPr/>
          <p:nvPr/>
        </p:nvSpPr>
        <p:spPr>
          <a:xfrm>
            <a:off x="1403280" y="4292640"/>
            <a:ext cx="25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ердое тел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6372360" y="4292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А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 flipV="1">
            <a:off x="2195640" y="1341000"/>
            <a:ext cx="172872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Line 9"/>
          <p:cNvSpPr/>
          <p:nvPr/>
        </p:nvSpPr>
        <p:spPr>
          <a:xfrm flipH="1">
            <a:off x="2987280" y="1341360"/>
            <a:ext cx="158436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0"/>
          <p:cNvSpPr/>
          <p:nvPr/>
        </p:nvSpPr>
        <p:spPr>
          <a:xfrm>
            <a:off x="3995640" y="4221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Line 11"/>
          <p:cNvSpPr/>
          <p:nvPr/>
        </p:nvSpPr>
        <p:spPr>
          <a:xfrm flipH="1">
            <a:off x="3995280" y="472428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Line 12"/>
          <p:cNvSpPr/>
          <p:nvPr/>
        </p:nvSpPr>
        <p:spPr>
          <a:xfrm flipH="1" flipV="1">
            <a:off x="5866920" y="1341000"/>
            <a:ext cx="223380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Line 13"/>
          <p:cNvSpPr/>
          <p:nvPr/>
        </p:nvSpPr>
        <p:spPr>
          <a:xfrm>
            <a:off x="5148360" y="1341360"/>
            <a:ext cx="223200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4"/>
          <p:cNvSpPr/>
          <p:nvPr/>
        </p:nvSpPr>
        <p:spPr>
          <a:xfrm rot="17920800">
            <a:off x="2894760" y="2369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кристаллиз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15"/>
          <p:cNvSpPr/>
          <p:nvPr/>
        </p:nvSpPr>
        <p:spPr>
          <a:xfrm rot="18097800">
            <a:off x="1780200" y="23360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лавл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 rot="2961600">
            <a:off x="4376880" y="235080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ообразов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7"/>
          <p:cNvSpPr/>
          <p:nvPr/>
        </p:nvSpPr>
        <p:spPr>
          <a:xfrm rot="3029400">
            <a:off x="6113880" y="215352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нденс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4067280" y="3716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9"/>
          <p:cNvSpPr/>
          <p:nvPr/>
        </p:nvSpPr>
        <p:spPr>
          <a:xfrm>
            <a:off x="3995640" y="4869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ублим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20"/>
          <p:cNvSpPr/>
          <p:nvPr/>
        </p:nvSpPr>
        <p:spPr>
          <a:xfrm flipV="1" rot="10800000">
            <a:off x="179280" y="5443920"/>
            <a:ext cx="89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ествует шесть процессов, которые определяют варианты перехода вещества из одного агрегатного состояния в друго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826920" y="260280"/>
            <a:ext cx="806616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вещества из твердого состояния в жидкое называют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плавл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6"/>
          <p:cNvSpPr/>
          <p:nvPr/>
        </p:nvSpPr>
        <p:spPr>
          <a:xfrm>
            <a:off x="324000" y="1197000"/>
            <a:ext cx="37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у сообщают энерги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7"/>
          <p:cNvSpPr/>
          <p:nvPr/>
        </p:nvSpPr>
        <p:spPr>
          <a:xfrm>
            <a:off x="3564000" y="2708280"/>
            <a:ext cx="52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энергия молекул и их расположение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8"/>
          <p:cNvSpPr/>
          <p:nvPr/>
        </p:nvSpPr>
        <p:spPr>
          <a:xfrm>
            <a:off x="3564000" y="184464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внутренняя энергия вещества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3564000" y="429264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яются ли молекулы вещества при плавлен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3564000" y="522936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температура вещества при плавлен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14" descr="жидкость"/>
          <p:cNvPicPr/>
          <p:nvPr/>
        </p:nvPicPr>
        <p:blipFill>
          <a:blip r:embed="rId1"/>
          <a:stretch/>
        </p:blipFill>
        <p:spPr>
          <a:xfrm>
            <a:off x="684360" y="450864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7" descr="твердое тело1"/>
          <p:cNvPicPr/>
          <p:nvPr/>
        </p:nvPicPr>
        <p:blipFill>
          <a:blip r:embed="rId2"/>
          <a:stretch/>
        </p:blipFill>
        <p:spPr>
          <a:xfrm>
            <a:off x="324000" y="1844640"/>
            <a:ext cx="3311280" cy="207000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20"/>
          <p:cNvSpPr/>
          <p:nvPr/>
        </p:nvSpPr>
        <p:spPr>
          <a:xfrm>
            <a:off x="3564000" y="357336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тело начнет плавиться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AutoShape 21"/>
          <p:cNvSpPr/>
          <p:nvPr/>
        </p:nvSpPr>
        <p:spPr>
          <a:xfrm>
            <a:off x="1474920" y="3933720"/>
            <a:ext cx="10810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826920" y="260280"/>
            <a:ext cx="78487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вещества из жидкого состояния в твердое называю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кристаллиз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250920" y="1268280"/>
            <a:ext cx="37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дкость отдает  энерги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6"/>
          <p:cNvSpPr/>
          <p:nvPr/>
        </p:nvSpPr>
        <p:spPr>
          <a:xfrm>
            <a:off x="3564000" y="270828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яются ли молекулы вещества при кристаллиз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3708360" y="400536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изменяется температура вещества при кристаллизац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Picture 8" descr="жидкость"/>
          <p:cNvPicPr/>
          <p:nvPr/>
        </p:nvPicPr>
        <p:blipFill>
          <a:blip r:embed="rId1"/>
          <a:stretch/>
        </p:blipFill>
        <p:spPr>
          <a:xfrm>
            <a:off x="468360" y="191628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твердое тело1"/>
          <p:cNvPicPr/>
          <p:nvPr/>
        </p:nvPicPr>
        <p:blipFill>
          <a:blip r:embed="rId2"/>
          <a:stretch/>
        </p:blipFill>
        <p:spPr>
          <a:xfrm>
            <a:off x="324000" y="4292640"/>
            <a:ext cx="3311280" cy="2070000"/>
          </a:xfrm>
          <a:prstGeom prst="rect">
            <a:avLst/>
          </a:prstGeom>
          <a:ln w="0">
            <a:noFill/>
          </a:ln>
        </p:spPr>
      </p:pic>
      <p:sp>
        <p:nvSpPr>
          <p:cNvPr id="949" name="AutoShape 11"/>
          <p:cNvSpPr/>
          <p:nvPr/>
        </p:nvSpPr>
        <p:spPr>
          <a:xfrm>
            <a:off x="1474920" y="3789360"/>
            <a:ext cx="10810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2"/>
          <p:cNvSpPr/>
          <p:nvPr/>
        </p:nvSpPr>
        <p:spPr>
          <a:xfrm>
            <a:off x="395280" y="2924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оведение молекул в газах, жидкостях, твердых телах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Line 5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Line 6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Line 8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Line 10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Line 11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12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13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Line 14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9" name="Object 15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Object 18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Text Box 20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влени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22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ревани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2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рдевани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2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лаждени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7" name="Object 2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8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29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0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Object 30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2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Object 33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4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6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6" name="Object 3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Line 37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Line 38"/>
          <p:cNvSpPr/>
          <p:nvPr/>
        </p:nvSpPr>
        <p:spPr>
          <a:xfrm>
            <a:off x="684360" y="3718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Line 39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250920" y="260280"/>
            <a:ext cx="86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ая величина, показывающая какое количество теплоты необходимо для превращения 1 кг кристаллического вещества, взятого при температуре плавления, в жидкость той же температуры, называется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дельной теплотой плавлен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829440" y="15573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ется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4936320" y="155736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ца измерения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1540440" y="229716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Поглощение </a:t>
            </a: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5634720" y="229716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Выделение </a:t>
            </a: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46"/>
          <p:cNvSpPr/>
          <p:nvPr/>
        </p:nvSpPr>
        <p:spPr>
          <a:xfrm>
            <a:off x="2327040" y="522936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98200" y="1419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7" name="Object 50"/>
          <p:cNvGraphicFramePr/>
          <p:nvPr/>
        </p:nvGraphicFramePr>
        <p:xfrm>
          <a:off x="7451640" y="1341360"/>
          <a:ext cx="665280" cy="7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8" name="Object 5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51640" y="1341360"/>
                    <a:ext cx="6652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539640" y="260280"/>
            <a:ext cx="7777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вещества из жидкого состояния в газообразное называют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парообразова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ectangle 4"/>
          <p:cNvSpPr/>
          <p:nvPr/>
        </p:nvSpPr>
        <p:spPr>
          <a:xfrm>
            <a:off x="3780000" y="2637000"/>
            <a:ext cx="529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энергия молекул и их расположение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5"/>
          <p:cNvSpPr/>
          <p:nvPr/>
        </p:nvSpPr>
        <p:spPr>
          <a:xfrm>
            <a:off x="3780000" y="170172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внутренняя энергия вещества при парообразован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3851280" y="3573360"/>
            <a:ext cx="52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меняются ли молекулы вещества при парообразован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7"/>
          <p:cNvSpPr/>
          <p:nvPr/>
        </p:nvSpPr>
        <p:spPr>
          <a:xfrm>
            <a:off x="3851280" y="4581360"/>
            <a:ext cx="529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температура вещества при парообразовани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4" name="Picture 8" descr="жидкость"/>
          <p:cNvPicPr/>
          <p:nvPr/>
        </p:nvPicPr>
        <p:blipFill>
          <a:blip r:embed="rId1"/>
          <a:stretch/>
        </p:blipFill>
        <p:spPr>
          <a:xfrm>
            <a:off x="468360" y="1916280"/>
            <a:ext cx="2592360" cy="1728720"/>
          </a:xfrm>
          <a:prstGeom prst="rect">
            <a:avLst/>
          </a:prstGeom>
          <a:ln w="0">
            <a:noFill/>
          </a:ln>
        </p:spPr>
      </p:pic>
      <p:sp>
        <p:nvSpPr>
          <p:cNvPr id="995" name="AutoShape 11"/>
          <p:cNvSpPr/>
          <p:nvPr/>
        </p:nvSpPr>
        <p:spPr>
          <a:xfrm>
            <a:off x="1474920" y="3789360"/>
            <a:ext cx="10810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Picture 12" descr="газ"/>
          <p:cNvPicPr/>
          <p:nvPr/>
        </p:nvPicPr>
        <p:blipFill>
          <a:blip r:embed="rId2"/>
          <a:stretch/>
        </p:blipFill>
        <p:spPr>
          <a:xfrm>
            <a:off x="611280" y="436572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6:54:11Z</dcterms:created>
  <dc:creator>User</dc:creator>
  <dc:description/>
  <dc:language>en-US</dc:language>
  <cp:lastModifiedBy>Вика</cp:lastModifiedBy>
  <dcterms:modified xsi:type="dcterms:W3CDTF">2013-10-07T13:59:45Z</dcterms:modified>
  <cp:revision>33</cp:revision>
  <dc:subject/>
  <dc:title>Слайд 1</dc:title>
</cp:coreProperties>
</file>