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FD7-4D27-4337-9641-0B444B15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6AF-5F95-481E-A66E-AC933E83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007-A854-467C-871A-60EACA9D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F21-2706-442B-BB13-6C9D1C6B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47CF-7CF9-42C7-92BE-1052DB15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4A97-2303-45D4-BBA5-EBB21C84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91E0-A1C6-4E8F-A204-30894F70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71CF-6BE3-47A5-ACDB-F96B2A9D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44C8-B5B6-4C44-880F-51C204D7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BE87-D2E0-4500-BFAD-8F21809E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9441-08BD-41EC-B806-7EC8B63F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9E0-B202-4C47-97B2-71B6048C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1AE1-83E7-45DD-9BB4-767ABF6D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D8A8-BE4C-4F90-A33C-2074D7FC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F7E8-EA22-4554-9D61-FAA59F33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C4B2-952E-4CE4-9DDF-3FD042FD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DCCB-B776-4F6B-9397-CBB3C1AF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C70-A487-455B-BE1C-A2A01576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C94-7832-42F1-A19D-3E55B6B2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308-9419-49C6-B854-7A4DDB97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048-0F6E-4E75-B1D6-71578606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9B1-A72A-4B2F-8CB2-C7E31B68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83F-0D78-4E50-86E1-5448F9FC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4EC-5176-4211-9DB3-DED014E1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1373-9F17-45F9-B736-53A94E7AC8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573A-CF68-4810-93D5-42A51695FE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7;&#1077;&#1088;&#1072;" TargetMode="External"/><Relationship Id="rId2" Type="http://schemas.openxmlformats.org/officeDocument/2006/relationships/hyperlink" Target="http://ru.wikipedia.org/wiki/&#1041;&#1086;&#1088;&#1086;&#1076;&#1080;&#1085;,_&#1040;&#1083;&#1077;&#1082;&#1089;&#1072;&#1085;&#1076;&#1088;_&#1055;&#1086;&#1088;&#1092;&#1080;&#1088;&#1100;&#1077;&#1074;&#1080;&#1095;" TargetMode="External"/><Relationship Id="rId3" Type="http://schemas.openxmlformats.org/officeDocument/2006/relationships/hyperlink" Target="http://ru.wikipedia.org/wiki/&#1051;&#1080;&#1073;&#1088;&#1077;&#1090;&#1090;&#1086;" TargetMode="External"/><Relationship Id="rId4" Type="http://schemas.openxmlformats.org/officeDocument/2006/relationships/hyperlink" Target="http://ru.wikipedia.org/wiki/&#1057;&#1090;&#1072;&#1089;&#1086;&#1074;,_&#1042;&#1083;&#1072;&#1076;&#1080;&#1084;&#1080;&#1088;_&#1042;&#1072;&#1089;&#1080;&#1083;&#1100;&#1077;&#1074;&#1080;&#1095;" TargetMode="External"/><Relationship Id="rId5" Type="http://schemas.openxmlformats.org/officeDocument/2006/relationships/hyperlink" Target="http://ru.wikipedia.org/wiki/&#1057;&#1083;&#1086;&#1074;&#1086;_&#1086;_&#1087;&#1086;&#1083;&#1082;&#1091;_&#1048;&#1075;&#1086;&#1088;&#1077;&#1074;&#1077;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ff33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907920"/>
            <a:ext cx="4787640" cy="484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"/>
              </a:rPr>
              <a:t>Бородин Александр Порфирьевич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усский композитор и ученый-химик. В 1856 окончил Медико-хирургическую академию. С 1858 доктор медицины. В 1860-е гг. в Петербурге занимался научной, педагогической и общественной деятельностью. С 1862 адъюнкт-профессор, с 1864 ординарный профессор, с 1877 академик; с 1874 руководитель химической лаборатории Медико-хирургической академии. Был одним из организаторов и педагогов (1872—87) высшего учебного заведения для женщин — Женских врачебных кур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3240000" cy="4680000"/>
          </a:xfrm>
          <a:prstGeom prst="rect">
            <a:avLst/>
          </a:prstGeom>
          <a:ln w="507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101080" y="6103800"/>
            <a:ext cx="576360" cy="7542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54200"/>
              <a:gd name="textAreaBottom" fmla="*/ 717120 h 754200"/>
            </a:gdLst>
            <a:ahLst/>
            <a:rect l="textAreaLeft" t="textAreaTop" r="textAreaRight" b="textAreaBottom"/>
            <a:pathLst>
              <a:path w="21600" h="28261">
                <a:moveTo>
                  <a:pt x="0" y="0"/>
                </a:moveTo>
                <a:lnTo>
                  <a:pt x="21600" y="0"/>
                </a:lnTo>
                <a:lnTo>
                  <a:pt x="21600" y="28261"/>
                </a:lnTo>
                <a:lnTo>
                  <a:pt x="0" y="28261"/>
                </a:lnTo>
                <a:close/>
              </a:path>
              <a:path fill="lightenLess" w="21600" h="282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261">
                <a:moveTo>
                  <a:pt x="21600" y="0"/>
                </a:moveTo>
                <a:lnTo>
                  <a:pt x="21600" y="28261"/>
                </a:lnTo>
                <a:lnTo>
                  <a:pt x="20200" y="26861"/>
                </a:lnTo>
                <a:lnTo>
                  <a:pt x="20200" y="1400"/>
                </a:lnTo>
                <a:close/>
              </a:path>
              <a:path fill="darkenLess" w="21600" h="28261">
                <a:moveTo>
                  <a:pt x="21600" y="28261"/>
                </a:moveTo>
                <a:lnTo>
                  <a:pt x="0" y="28261"/>
                </a:lnTo>
                <a:lnTo>
                  <a:pt x="1400" y="26861"/>
                </a:lnTo>
                <a:lnTo>
                  <a:pt x="20200" y="26861"/>
                </a:lnTo>
                <a:close/>
              </a:path>
              <a:path fill="lighten" w="21600" h="28261">
                <a:moveTo>
                  <a:pt x="0" y="282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861"/>
                </a:lnTo>
                <a:close/>
              </a:path>
              <a:path fill="darken" w="21600" h="28261">
                <a:moveTo>
                  <a:pt x="3794" y="14130"/>
                </a:moveTo>
                <a:lnTo>
                  <a:pt x="17806" y="7124"/>
                </a:lnTo>
                <a:lnTo>
                  <a:pt x="17806" y="21137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50000">
              <a:srgbClr val="ff0000"/>
            </a:gs>
            <a:gs pos="100000">
              <a:srgbClr val="51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4960" y="333360"/>
            <a:ext cx="87883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«Могучая кучка» – содружество русских композиторов в 1850 – 60 г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1800000" cy="259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187812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443640" y="981000"/>
            <a:ext cx="1944720" cy="2376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059280" y="1413000"/>
            <a:ext cx="2952720" cy="381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372360" y="3933720"/>
            <a:ext cx="2063520" cy="2592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33960" y="3357720"/>
            <a:ext cx="31096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Н.А. Римский - Корса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62520" y="6491160"/>
            <a:ext cx="1683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А.П.Бород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7640" y="5373720"/>
            <a:ext cx="30106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Цезарь Антонович Кю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6840" y="6491160"/>
            <a:ext cx="2143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М.П.Мусорг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320" y="3284640"/>
            <a:ext cx="25855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Милий Алексееви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Балакир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00"/>
            </a:gs>
            <a:gs pos="50000">
              <a:srgbClr val="ff0000"/>
            </a:gs>
            <a:gs pos="100000">
              <a:srgbClr val="22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5520" y="344520"/>
            <a:ext cx="900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гатырская симфония Бородина идеально соответству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ему назв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нязь Игорь и Богатырская симфония посвящены – од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лагородству и величию русского богатыря, хозя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усской земли и ее защитника. Первая тема симфо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гла бы стать девизом и творчества Бородина и вс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усской музыки. Первая часть симфонии соответству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званию «Эпическа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8360" y="465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75280" y="6396120"/>
            <a:ext cx="32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аснецов «Три богатыр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793120" y="596412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.Глазунов «Два княз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0000"/>
            </a:gs>
            <a:gs pos="50000">
              <a:srgbClr val="ff0000"/>
            </a:gs>
            <a:gs pos="100000">
              <a:srgbClr val="4b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23600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8840" y="635040"/>
            <a:ext cx="761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иолан Гней Марций – по древнеримской легенде патри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мандовавший войсками при взятии города вольсков Кориол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93 г до нашей э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4123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ff33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1268280"/>
            <a:ext cx="7705440" cy="344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 50-е гг. 19 в. начал писать романсы, фортепианные пьесы, камерно-инструментальные ансамбли. В 1862 познакомился с М. А. Балакиревым, вошёл в Балакиревский кружок («Могучую кучку»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 творчестве Бородина, представителя передовой интеллигенции 1860-х гг., отчётливо проходит тема величия русского народа, любви к родине, свободолюбия. Музыка его отличается эпической широтой, мужественностью, в то же время глубоким лиризмом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33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5157720"/>
            <a:ext cx="7292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Наиболее значительное произведение Бородина — опера «Князь Игорь», являющаяся образцом национального героического эпоса в музык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6087960" cy="4392720"/>
          </a:xfrm>
          <a:prstGeom prst="rect">
            <a:avLst/>
          </a:prstGeom>
          <a:ln w="507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33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4292640"/>
            <a:ext cx="8353440" cy="228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Из-за большой загруженности научной и педагогической работой Бородин писал медленно. Опера создавалась в течение 18 лет, не была окончена (после смерти Бородина оперу дописали и дооркестровали по материалам автора Н. А. Римский-Корсаков и А. К. Глазунов; поставлена в 1890г., Мариинский театр, Петербург). Опера отличается монументальной цельностью образов, мощностью и размахом народных хоровых сцен, яркостью национального колорита. «Князь Игорь» развивает традиции эпической оперы Глинки «Руслан и Людмила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5329440" cy="4032000"/>
          </a:xfrm>
          <a:prstGeom prst="rect">
            <a:avLst/>
          </a:prstGeom>
          <a:ln w="507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33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4581360"/>
            <a:ext cx="7437600" cy="1886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«Князь Игорь» —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опера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 русского композитора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А. П. Бородина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 в четырёх действиях с прологом. Источником для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либретто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, написанного самим автором при участии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В. В. Стасова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, послужил замечательный памятник древнерусской литературы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«Слово о полку Игореве»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, рассказывающий о неудачном походе князя Игоря против полов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187280" y="404640"/>
            <a:ext cx="5616720" cy="3888000"/>
          </a:xfrm>
          <a:prstGeom prst="rect">
            <a:avLst/>
          </a:prstGeom>
          <a:ln w="507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913200" cy="561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00720" y="4797360"/>
            <a:ext cx="27558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Хан Кончак в опере А.П.Бород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«Князь Игор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22f0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04600" y="492120"/>
            <a:ext cx="6976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Эскизы декораций к опере А.П.Бородина «Князь Игор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2665440" cy="2344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2952720" cy="237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843280" y="4149720"/>
            <a:ext cx="3090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812000" y="6426360"/>
            <a:ext cx="574920" cy="431640"/>
          </a:xfrm>
          <a:custGeom>
            <a:avLst/>
            <a:gdLst>
              <a:gd name="textAreaLeft" fmla="*/ 27720 w 574920"/>
              <a:gd name="textAreaRight" fmla="*/ 547200 w 5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95672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1:03:37Z</dcterms:created>
  <dc:creator>User</dc:creator>
  <dc:description/>
  <dc:language>en-US</dc:language>
  <cp:lastModifiedBy>User</cp:lastModifiedBy>
  <dcterms:modified xsi:type="dcterms:W3CDTF">2009-02-09T08:13:53Z</dcterms:modified>
  <cp:revision>4</cp:revision>
  <dc:subject/>
  <dc:title>Слайд 1</dc:title>
</cp:coreProperties>
</file>