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2.gif" ContentType="image/gif"/>
  <Override PartName="/ppt/media/image2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E4B6-B185-41A2-A0A2-C3E2570B6A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DAD0-5A66-48A5-863A-63BA441BF64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B7CD-7C7B-4860-8939-87537813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6374-5F93-4117-8926-10BCD165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1E01-643C-4A6F-96FC-2F61D00F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A4E9-EF4B-4A84-BE3F-66D71FD8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90B0-60E8-483E-A48A-4031703A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B19A-10CE-4A98-96E9-352CA68D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405C-5536-497A-9B8C-256AFDC7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E95F-5F01-4AE3-A810-C52F008F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89C9-73D2-4714-A673-14367471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390B-B008-42B8-B642-F7AF23E2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CE37-D665-4644-99A8-5928B1BD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4A1-BEDE-49CD-909D-DD861CF9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30BA-89B0-417E-9E6A-03228BA2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F643-5CBA-4BED-B091-38715D1B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2ADA-38EB-496E-9C8B-368CCE8D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80C3-C40F-4515-B33C-252EAA89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54D3-C1E9-4674-ACDB-5D17DC36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710BF-E0A2-4823-A7B9-D9FA4018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1AADC-166E-4BB1-B379-6A490D0B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9FDD6-DF37-4534-9F23-89D5267C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43C89-3AA5-4E18-A4FD-B648F332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56AB2-FD8B-4B5D-859B-7E868376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DDF4-6AC0-475B-BC4D-57EDBFF1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B55BD-55A4-47D0-91E2-F01BB82D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679D7-087D-47E0-9B09-E05C988B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B3C2F-BDB5-47A0-8914-AD0071DA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46FA3-0571-4FAB-954F-4B288F02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A5502-69FC-47EB-AED5-B03E647C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F4090-2A72-4F61-977F-08557FB4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05A7A-B5E7-413E-A3E9-83201DDA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47071-623A-4972-A2EC-522D6174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9DBB9-9C34-4663-9753-A13236A2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34209-513E-4701-B16C-1EFEDAFA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0950-FC97-4B13-B081-ED9ACAE7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0DD78-9A22-46D7-A172-C91D0CD4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972BC-3E42-489E-8BE6-E4907016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3D36F-95EB-490E-BD96-8991851B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914D3-DA0A-4625-92EA-37E63B35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68B65-EB88-4869-8F2B-07DDE36B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16CAA-D469-469A-BF51-E94CCB84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72A6A-761F-4502-AB8E-67D9FAB1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D62FF-5DF8-4418-993D-EBCDEE41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D9135-5493-45AA-90F3-F1D86674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6AA44-EDCB-4955-9ED0-4953C1FD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CF6-668E-4D70-B16B-86D757C6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1B514-6750-4ADF-BD7D-C6D04171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89BE2-A0B3-4CF7-BC3D-4A74A0FA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B424B-61D8-4260-8B46-7A271BD5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8C74B-21C6-4AD1-9729-27833D15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31E60-E4E3-4791-AFC4-81B49D00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5A65B-307D-4628-AB7E-0C574A0D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ABB7E-E6E8-435E-BD2C-203FE056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E7A0F-D040-41BB-ACC5-9C0C26ED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5BF23-E768-452A-9E95-14C50402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4DC6E-74FF-496B-B7EE-7FF90827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1EA5-AD6B-4A48-9093-B9A68B50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F9D3B-23D2-456B-822C-A6691080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F6C24-3841-4434-AB59-42F8261D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7D779-A359-4D67-8CB8-5CFF5A4B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6E427-2762-4165-9FD6-7061F855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969A9-D34B-467A-97D2-0DE61B58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5A0AB-D713-48F0-AA43-C656136D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2D769-FE45-48A7-BE03-5D1D2D1C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ED506-76EC-4712-8A14-16E11115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A077A-B92D-4E74-A0A4-C0EDC773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96D01-5534-4A5E-9E28-079D7440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554F-0031-4A93-A1E1-932C8B35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C2391-FA83-4359-8741-A0951C6A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7C762-3D5D-443B-8FC3-39283CAB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FB1FB-B498-4895-9390-6906E7C1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BB28-3976-4B9D-8B6C-1CBCE0E4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2B57-030B-4793-9FCE-CD947C40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69EB-D0DE-4D11-890E-2CBCF81D425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CED7-2465-490E-95FA-20A99F1712E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1817-B0D6-48B4-9633-E9FB0151417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5BEF-E540-46B9-908D-A45DC270F39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187E-990A-46C5-BA4C-1B6A2C478CA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6481-A3D4-4F37-A0A6-A3D25EFBB7F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328680" y="2414520"/>
            <a:ext cx="7053120" cy="32306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omic Sans MS"/>
              </a:rPr>
              <a:t>Изобретения, которые потрясли м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MCj04413350000[1]"/>
          <p:cNvPicPr/>
          <p:nvPr/>
        </p:nvPicPr>
        <p:blipFill>
          <a:blip r:embed="rId2"/>
          <a:stretch/>
        </p:blipFill>
        <p:spPr>
          <a:xfrm>
            <a:off x="6084720" y="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MCj04338650000[1]"/>
          <p:cNvPicPr/>
          <p:nvPr/>
        </p:nvPicPr>
        <p:blipFill>
          <a:blip r:embed="rId3"/>
          <a:stretch/>
        </p:blipFill>
        <p:spPr>
          <a:xfrm>
            <a:off x="2843280" y="45813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MCj04360770000[1]"/>
          <p:cNvPicPr/>
          <p:nvPr/>
        </p:nvPicPr>
        <p:blipFill>
          <a:blip r:embed="rId4"/>
          <a:stretch/>
        </p:blipFill>
        <p:spPr>
          <a:xfrm rot="20070600">
            <a:off x="7302600" y="2852640"/>
            <a:ext cx="1841400" cy="1584360"/>
          </a:xfrm>
          <a:prstGeom prst="rect">
            <a:avLst/>
          </a:prstGeom>
          <a:ln w="0">
            <a:noFill/>
          </a:ln>
        </p:spPr>
      </p:pic>
      <p:sp>
        <p:nvSpPr>
          <p:cNvPr id="266" name="WordArt 10"/>
          <p:cNvSpPr txBox="1"/>
          <p:nvPr/>
        </p:nvSpPr>
        <p:spPr>
          <a:xfrm>
            <a:off x="1547640" y="404640"/>
            <a:ext cx="619308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67" name="Picture 13" descr="Микроволновая печь - СВЧ Daewoo KOR-4195 SА"/>
          <p:cNvPicPr/>
          <p:nvPr/>
        </p:nvPicPr>
        <p:blipFill>
          <a:blip r:embed="rId7"/>
          <a:stretch/>
        </p:blipFill>
        <p:spPr>
          <a:xfrm>
            <a:off x="3635280" y="404640"/>
            <a:ext cx="2016360" cy="15116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2087280" cy="2087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Стиральная машина Candy COS 105 F"/>
          <p:cNvPicPr/>
          <p:nvPr/>
        </p:nvPicPr>
        <p:blipFill>
          <a:blip r:embed="rId9"/>
          <a:stretch/>
        </p:blipFill>
        <p:spPr>
          <a:xfrm>
            <a:off x="468360" y="4149720"/>
            <a:ext cx="1582560" cy="2087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http://www.holodilnik.ru/i/misc/all_saratov.jpg"/>
          <p:cNvPicPr/>
          <p:nvPr/>
        </p:nvPicPr>
        <p:blipFill>
          <a:blip r:embed="rId10"/>
          <a:stretch/>
        </p:blipFill>
        <p:spPr>
          <a:xfrm>
            <a:off x="5003640" y="4581360"/>
            <a:ext cx="1440000" cy="2019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пылесосы Electrolux"/>
          <p:cNvPicPr/>
          <p:nvPr/>
        </p:nvPicPr>
        <p:blipFill>
          <a:blip r:embed="rId11"/>
          <a:stretch/>
        </p:blipFill>
        <p:spPr>
          <a:xfrm>
            <a:off x="6804000" y="4724280"/>
            <a:ext cx="1871640" cy="1729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00"/>
                </a:solidFill>
                <a:latin typeface="Franklin Gothic Book"/>
              </a:rPr>
              <a:t>Do you know these abbreviations?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         </a:t>
            </a:r>
            <a:r>
              <a:rPr b="0" i="1" lang="en-US" sz="3600" spc="-1" strike="noStrike">
                <a:solidFill>
                  <a:srgbClr val="ffff00"/>
                </a:solidFill>
                <a:latin typeface="Franklin Gothic Book"/>
              </a:rPr>
              <a:t>Match the equivalents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ea0b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412640"/>
            <a:ext cx="4043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d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-te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D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onal digital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istant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(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 somebody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ss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@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3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ic Player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SL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matic Device Server Lin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O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VD     (Digital Video Device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ea0b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066920" y="1413000"/>
            <a:ext cx="4825800" cy="40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цифровой электрон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прибо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ысокие технологи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ет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ерсональный карман. комп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тправить текстовое сообще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игрыватель музык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бор для соединения с интерн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иникомпьюте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Цифров. видео прибо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04000" cy="79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What kind of gadgets do you own                  and use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8" name="Рисунок 7" descr="Плазменный телевизор LG 42 PQ 200 R"/>
          <p:cNvPicPr/>
          <p:nvPr/>
        </p:nvPicPr>
        <p:blipFill>
          <a:blip r:embed="rId1"/>
          <a:stretch/>
        </p:blipFill>
        <p:spPr>
          <a:xfrm>
            <a:off x="6588000" y="1413000"/>
            <a:ext cx="2067120" cy="237636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4" descr="img4"/>
          <p:cNvPicPr/>
          <p:nvPr/>
        </p:nvPicPr>
        <p:blipFill>
          <a:blip r:embed="rId2"/>
          <a:stretch/>
        </p:blipFill>
        <p:spPr>
          <a:xfrm>
            <a:off x="324000" y="1125360"/>
            <a:ext cx="2519280" cy="13366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"/>
          <p:cNvPicPr/>
          <p:nvPr/>
        </p:nvPicPr>
        <p:blipFill>
          <a:blip r:embed="rId3"/>
          <a:stretch/>
        </p:blipFill>
        <p:spPr>
          <a:xfrm>
            <a:off x="250920" y="3429000"/>
            <a:ext cx="1584360" cy="2087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4"/>
          <a:stretch/>
        </p:blipFill>
        <p:spPr>
          <a:xfrm>
            <a:off x="6804000" y="4508640"/>
            <a:ext cx="1871640" cy="1512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5"/>
          <a:stretch/>
        </p:blipFill>
        <p:spPr>
          <a:xfrm>
            <a:off x="3924360" y="1341360"/>
            <a:ext cx="1942920" cy="1238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6"/>
          <a:stretch/>
        </p:blipFill>
        <p:spPr>
          <a:xfrm>
            <a:off x="1979640" y="3141720"/>
            <a:ext cx="1800360" cy="1439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"/>
          <p:cNvPicPr/>
          <p:nvPr/>
        </p:nvPicPr>
        <p:blipFill>
          <a:blip r:embed="rId7"/>
          <a:stretch/>
        </p:blipFill>
        <p:spPr>
          <a:xfrm>
            <a:off x="4932360" y="3213000"/>
            <a:ext cx="1584360" cy="165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"/>
          <p:cNvPicPr/>
          <p:nvPr/>
        </p:nvPicPr>
        <p:blipFill>
          <a:blip r:embed="rId8"/>
          <a:stretch/>
        </p:blipFill>
        <p:spPr>
          <a:xfrm>
            <a:off x="3059280" y="5284800"/>
            <a:ext cx="2376360" cy="1573200"/>
          </a:xfrm>
          <a:prstGeom prst="rect">
            <a:avLst/>
          </a:prstGeom>
          <a:ln w="0">
            <a:noFill/>
          </a:ln>
        </p:spPr>
      </p:pic>
      <p:sp>
        <p:nvSpPr>
          <p:cNvPr id="286" name="WordArt 8"/>
          <p:cNvSpPr txBox="1"/>
          <p:nvPr/>
        </p:nvSpPr>
        <p:spPr>
          <a:xfrm>
            <a:off x="3635280" y="2637000"/>
            <a:ext cx="2376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igital camera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7" name="WordArt 10"/>
          <p:cNvSpPr txBox="1"/>
          <p:nvPr/>
        </p:nvSpPr>
        <p:spPr>
          <a:xfrm>
            <a:off x="7020000" y="4005360"/>
            <a:ext cx="15127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V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8" name="WordArt 11"/>
          <p:cNvSpPr txBox="1"/>
          <p:nvPr/>
        </p:nvSpPr>
        <p:spPr>
          <a:xfrm rot="21303600">
            <a:off x="826920" y="1477440"/>
            <a:ext cx="25164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9" name="WordArt 12"/>
          <p:cNvSpPr txBox="1"/>
          <p:nvPr/>
        </p:nvSpPr>
        <p:spPr>
          <a:xfrm>
            <a:off x="6300720" y="6021360"/>
            <a:ext cx="2374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amcorder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0" name="WordArt 13"/>
          <p:cNvSpPr txBox="1"/>
          <p:nvPr/>
        </p:nvSpPr>
        <p:spPr>
          <a:xfrm>
            <a:off x="3492360" y="3645000"/>
            <a:ext cx="1366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9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POD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1" name="WordArt 14" descr=""/>
          <p:cNvPicPr/>
          <p:nvPr/>
        </p:nvPicPr>
        <p:blipFill>
          <a:blip r:embed="rId11"/>
          <a:stretch/>
        </p:blipFill>
        <p:spPr>
          <a:xfrm>
            <a:off x="1542960" y="4791240"/>
            <a:ext cx="1449360" cy="396720"/>
          </a:xfrm>
          <a:prstGeom prst="rect">
            <a:avLst/>
          </a:prstGeom>
          <a:ln w="0">
            <a:noFill/>
          </a:ln>
        </p:spPr>
      </p:pic>
      <p:sp>
        <p:nvSpPr>
          <p:cNvPr id="292" name="WordArt 15"/>
          <p:cNvSpPr txBox="1"/>
          <p:nvPr/>
        </p:nvSpPr>
        <p:spPr>
          <a:xfrm>
            <a:off x="250920" y="2492280"/>
            <a:ext cx="2017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ptop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3" name="WordArt 16"/>
          <p:cNvSpPr txBox="1"/>
          <p:nvPr/>
        </p:nvSpPr>
        <p:spPr>
          <a:xfrm>
            <a:off x="826920" y="5877000"/>
            <a:ext cx="230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puter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4" name="WordArt 17"/>
          <p:cNvSpPr txBox="1"/>
          <p:nvPr/>
        </p:nvSpPr>
        <p:spPr>
          <a:xfrm>
            <a:off x="4572000" y="4869000"/>
            <a:ext cx="2087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obile phone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i="1" lang="en-US" sz="3600" spc="-1" strike="noStrike">
                <a:solidFill>
                  <a:srgbClr val="ffff00"/>
                </a:solidFill>
                <a:latin typeface="Franklin Gothic Book"/>
              </a:rPr>
              <a:t>What do you use these items for? Match</a:t>
            </a: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Franklin Gothic Book"/>
              </a:rPr>
              <a:t>with the phrases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47280" y="5661000"/>
            <a:ext cx="5977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1-d; 2-c; 3-e; 4-f; 5-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6-a; 7-g; 8-g; 9-f; 10-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51740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3560" indent="-45720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lapt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TV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video came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 MP3 play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compu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digital came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P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Microwave o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Mobile phon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robo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563640" y="1341360"/>
            <a:ext cx="532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3560" indent="-45720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and show photos to my frie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  the news, a DV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 my day; keeping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m some par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en to mus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and receive some cal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up my friends’ add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k and reheat the f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some internet research;cha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j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can cook, do homework for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2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2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G:\празд вал\47_01.gif"/>
          <p:cNvPicPr/>
          <p:nvPr/>
        </p:nvPicPr>
        <p:blipFill>
          <a:blip r:embed="rId1"/>
          <a:stretch/>
        </p:blipFill>
        <p:spPr>
          <a:xfrm>
            <a:off x="2556000" y="1628640"/>
            <a:ext cx="46083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2:27:49Z</dcterms:created>
  <dc:creator>Династия</dc:creator>
  <dc:description/>
  <dc:language>en-US</dc:language>
  <cp:lastModifiedBy>Владимир</cp:lastModifiedBy>
  <dcterms:modified xsi:type="dcterms:W3CDTF">2013-09-10T14:15:29Z</dcterms:modified>
  <cp:revision>133</cp:revision>
  <dc:subject/>
  <dc:title>                                                               Gadgets or high-tech technologies</dc:title>
</cp:coreProperties>
</file>