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9801-BED8-4AB2-980E-6B601CEF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EAE8-EA22-4235-A018-EFCF4534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0E56-1BC3-41E0-9274-37314A73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0AC8-A35B-44CE-9790-99D8D466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771B-7152-4154-810B-B430CA9C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33FF-79CD-4C50-8F39-D899D755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4E18-0082-418F-999E-D0BDBB9E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3A8F-5A53-460E-A9E6-ED5A2627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069D-4C01-4212-A67C-89C30003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A726-D484-4791-AA01-1EFF0292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5C80-83E4-4991-810A-E6E3FF63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59DF-CE82-45FE-B74F-02908F47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FF00-1417-4AC0-829A-7F3DB5C96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Роль налогообложения в формировании доходов государств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27280" y="4653000"/>
            <a:ext cx="4103640" cy="1584360"/>
          </a:xfrm>
          <a:prstGeom prst="upArrowCallout">
            <a:avLst>
              <a:gd name="adj1" fmla="val 64758"/>
              <a:gd name="adj2" fmla="val 64752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  урок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инстон  Черчил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384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Хороших налогов не быва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073760" cy="2832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4724280"/>
            <a:ext cx="4896000" cy="1729080"/>
          </a:xfrm>
          <a:prstGeom prst="upArrowCallout">
            <a:avLst>
              <a:gd name="adj1" fmla="val 70796"/>
              <a:gd name="adj2" fmla="val 70789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ВАШЕ  МНЕНИЕ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Налогоплательщики — жертвы войны против бедности» (неизвестный американец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Налоги — это цена, которую мы платим за возможность жить в цивилизованном обществе» (Оливер Уэнделл Холмс-старш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ефицит  государственного бюдж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Бюдж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о сводный план сбора доходов и использования полученных средст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916360" y="4149720"/>
            <a:ext cx="317484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Основные методы выхода из ситуации государственного дефици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Сокращение бюджетных рас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Выпуск (эмиссия) новых де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3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 Изыскание источников дополнительных доходов – повышение нало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Формирование государственного долга 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– это сумма ссуд, взятых государственными органами и еще не возвращенных кредитор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Формирование государственного дол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внутренний – перед гражданами, банками, фирмами, купившими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государственные  ценные  бумаг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это обязательства государства вернуть одолженную сумму плюс процент за использование этих денег (пример – облига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блигац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эт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лговая ценная бумага, владелец которой имеет право получить от в оговоренный срок её номинальную стоимость деньгами или в виде иного имущественного эквивал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игация может также предусматривать право владельца на получение фиксированного процента (купона) от её номинальной стоимости либо иные имущественные пр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Формирование государственного дол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внешний – перед внешними кредитор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остранными правительст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ыми банками </a:t>
            </a: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(Междунаро́дный банк реконстру́кции и разви́ти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ыми организациями </a:t>
            </a: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(Международный  валютный фонд – МВФ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инстон  Черчил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384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Хороших налогов не быва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073760" cy="2832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5280" y="4724280"/>
            <a:ext cx="4896000" cy="1729080"/>
          </a:xfrm>
          <a:prstGeom prst="upArrowCallout">
            <a:avLst>
              <a:gd name="adj1" fmla="val 70796"/>
              <a:gd name="adj2" fmla="val 70789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ВАШЕ  МНЕНИЕ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280" y="1628640"/>
            <a:ext cx="8353440" cy="3600720"/>
          </a:xfrm>
          <a:custGeom>
            <a:avLst/>
            <a:gdLst>
              <a:gd name="textAreaLeft" fmla="*/ 2088360 w 8353440"/>
              <a:gd name="textAreaRight" fmla="*/ 6265080 w 8353440"/>
              <a:gd name="textAreaTop" fmla="*/ 450000 h 3600720"/>
              <a:gd name="textAreaBottom" fmla="*/ 3601080 h 360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Долг  платеж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сен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40384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НСП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лог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обязательные платежи, взимаемые государством с физических и юридических л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2920" y="836640"/>
            <a:ext cx="403884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логооб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16360" y="2852640"/>
            <a:ext cx="410364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нал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1.По субъектам налогообло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(а) юридические лиц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б) физические л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2.По способу вз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а) прямые – взимаются непосредственно с дохода или имуществ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подоходный налог, налог на землю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б) косвенные – включаются в цену и тарифы на товары и услуг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акциз  на алкоголь, табак и д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3.По характеру налоговых ставок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а) пропорциональная налоговая система – налог с единой процентной ставкой налога независимо от доход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подоходный налог – 13%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б) прогрессивная налоговая система – налог с процентной ставкой, увеличивающейся с увеличением дохо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) регрессивная налоговая система – налог с процентной ставкой, уменьшающейся с увеличением доход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НДС – налог на добавленную стоимос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чем нужны налог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И  НАЛОГ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Фиска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формирование денежных доходов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Распределите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ерераспределение доходов государства на важнейшие гос. нужды (социальное развитие, с/х, образование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Регулирующ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мощь в создании условий для развития определенных отраслей экономики (с помощью налоговых льго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Кривая 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Лафф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42920" y="1700280"/>
            <a:ext cx="7056360" cy="4967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04000" y="3141720"/>
            <a:ext cx="2160720" cy="1008000"/>
          </a:xfrm>
          <a:prstGeom prst="wedgeRoundRectCallout">
            <a:avLst>
              <a:gd name="adj1" fmla="val -141625"/>
              <a:gd name="adj2" fmla="val 19094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-5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Уровни налогообложения в РФ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.Федеральные налог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НДС, таможенная пошлина, подоходный нало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2.Налоги субъекта федер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налог на имущество предприятий, за пользование природными ресурса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.Местные налог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налог на имущество граждан, земельный налог, сбор за регистрацию предпринимателей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Бюдж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о сводный план сбора доходов и использования полученных средст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16360" y="4149720"/>
            <a:ext cx="317484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ровни бюджета Р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.Федеральный бюдж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принимается Государственной  Ду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2. Бюджет субъекта федер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принимается представительным органом (Дума Белгородской облас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. Местный бюдж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представительный орган города, поселка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58920" y="5373720"/>
            <a:ext cx="6408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Основные статьи доходы 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7:08:02Z</dcterms:created>
  <dc:creator>dwfman</dc:creator>
  <dc:description/>
  <dc:language>en-US</dc:language>
  <cp:lastModifiedBy>dwfman</cp:lastModifiedBy>
  <dcterms:modified xsi:type="dcterms:W3CDTF">2013-10-07T17:33:04Z</dcterms:modified>
  <cp:revision>34</cp:revision>
  <dc:subject/>
  <dc:title>Роль налогообложения в формировании доходов государства </dc:title>
</cp:coreProperties>
</file>