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C39E-B554-44B0-B4A4-D22469E5F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0E7A-E791-4B21-93AC-ECE538299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0AFC-7DEE-409E-AA93-456521BE0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D618-7867-4A8A-B2CF-D900B8ABD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BE80D-1429-4CF5-A0DE-38AC1D853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7CC4B-9035-4D57-80A7-98B49F149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8DD69-5A57-4906-922C-EEA116A38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6B0CB-C4CD-4DA4-8C30-676B0EE19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7F3D0-41BB-47F7-B595-988B40F9F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38A8C-BE3E-41D1-B5AB-F71B8C997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1BDBA-D0DC-4BD1-892D-1F8D23B4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3149-F44E-4DB5-BF8C-5ACF14117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5F390-72D5-4946-A9CA-B09BD5488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71317-E62F-4729-ADFC-355CF470F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9AF5D-6BF3-4AE6-B9DA-5865136D0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3BC36-E346-4DAF-BF4E-AD12C589C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94881-245B-4355-BB65-1EF9DA66D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F82C-488D-46F4-9D87-8CEB0BF64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BA0F-E433-48C9-B985-D497E3950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C345-A588-44D0-A834-81B3D20E5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347A-A1A3-4D0D-B95E-BD82F2603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352A-CF89-486F-8C87-910F8F26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1682-13AD-437F-A1BD-E72B7AAFE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4828-0394-4803-9B99-EEF6EDDF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BE93C-1D3B-4735-ABD2-567BAB2813F1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16C4E-487A-4419-B6E1-E7A7F9E26C3B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21160" y="464040"/>
            <a:ext cx="7805880" cy="81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КОУ «Коммунарская СОШ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24360" y="1483920"/>
            <a:ext cx="47512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«Шагаю по родному краю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Краеведение как одно из направлений работы в школе.</a:t>
            </a: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Прохорова Наталья Павл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Учитель биоло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3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P1040813"/>
          <p:cNvPicPr/>
          <p:nvPr/>
        </p:nvPicPr>
        <p:blipFill>
          <a:blip r:embed="rId1"/>
          <a:stretch/>
        </p:blipFill>
        <p:spPr>
          <a:xfrm>
            <a:off x="971640" y="2349360"/>
            <a:ext cx="2519280" cy="374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001160" y="834120"/>
            <a:ext cx="80704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Цель: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785880" y="2000160"/>
            <a:ext cx="8215200" cy="18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3000"/>
          </a:bodyPr>
          <a:p>
            <a:pPr marL="181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витие у учащихся чувства любви к Родине через осознание основных ценностей – семья, родное село, край, стра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формирование физического и духовного здоров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8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здать максимально благоприятные условия для формирования  у учащихся интереса и привязанности к родному краю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зучить историю, особенности быта, занятия, культуру народа, посредством непосредственного наблюдения, ознакомления в поездках, походах, экскурсия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спитать у школьников нравственные и патриотические чувства, бережное отношение к природному и культурному наследию родного кра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8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818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Формы работы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086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ассные час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се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курс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формление стенгазе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скурс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хо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утешест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DSCN0539"/>
          <p:cNvPicPr/>
          <p:nvPr/>
        </p:nvPicPr>
        <p:blipFill>
          <a:blip r:embed="rId1"/>
          <a:stretch/>
        </p:blipFill>
        <p:spPr>
          <a:xfrm>
            <a:off x="3857760" y="2857680"/>
            <a:ext cx="4868640" cy="28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5"/>
          <p:cNvSpPr txBox="1"/>
          <p:nvPr/>
        </p:nvSpPr>
        <p:spPr>
          <a:xfrm>
            <a:off x="1187280" y="333360"/>
            <a:ext cx="3119760" cy="83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с. Топольно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05" name="WordArt 6"/>
          <p:cNvSpPr txBox="1"/>
          <p:nvPr/>
        </p:nvSpPr>
        <p:spPr>
          <a:xfrm>
            <a:off x="5076720" y="260280"/>
            <a:ext cx="3313080" cy="102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Август 2006 г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1268280"/>
            <a:ext cx="7693200" cy="20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ая наша поездка состоялась в августе 2006 года. с. Топольное расположено по обоим берегам р. Ануй. Это село основано в 1829 г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0" descr="img083"/>
          <p:cNvPicPr/>
          <p:nvPr/>
        </p:nvPicPr>
        <p:blipFill>
          <a:blip r:embed="rId1"/>
          <a:stretch/>
        </p:blipFill>
        <p:spPr>
          <a:xfrm>
            <a:off x="7920" y="2500200"/>
            <a:ext cx="9136080" cy="4357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img068"/>
          <p:cNvPicPr/>
          <p:nvPr/>
        </p:nvPicPr>
        <p:blipFill>
          <a:blip r:embed="rId2"/>
          <a:stretch/>
        </p:blipFill>
        <p:spPr>
          <a:xfrm>
            <a:off x="5715000" y="4433760"/>
            <a:ext cx="3429000" cy="24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img070"/>
          <p:cNvPicPr/>
          <p:nvPr/>
        </p:nvPicPr>
        <p:blipFill>
          <a:blip r:embed="rId1"/>
          <a:stretch/>
        </p:blipFill>
        <p:spPr>
          <a:xfrm>
            <a:off x="324000" y="836640"/>
            <a:ext cx="4032000" cy="5688000"/>
          </a:xfrm>
          <a:prstGeom prst="rect">
            <a:avLst/>
          </a:prstGeom>
          <a:ln w="0">
            <a:noFill/>
          </a:ln>
        </p:spPr>
      </p:pic>
      <p:sp>
        <p:nvSpPr>
          <p:cNvPr id="111" name="WordArt 4"/>
          <p:cNvSpPr txBox="1"/>
          <p:nvPr/>
        </p:nvSpPr>
        <p:spPr>
          <a:xfrm>
            <a:off x="1692360" y="0"/>
            <a:ext cx="56880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Водопад "Жираф" - 78 м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928760" y="3357720"/>
            <a:ext cx="371484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допад «Скат»- 16 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допад «Радужный!-28 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img065"/>
          <p:cNvPicPr/>
          <p:nvPr/>
        </p:nvPicPr>
        <p:blipFill>
          <a:blip r:embed="rId2"/>
          <a:stretch/>
        </p:blipFill>
        <p:spPr>
          <a:xfrm>
            <a:off x="5286240" y="1071720"/>
            <a:ext cx="3391200" cy="21762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img069"/>
          <p:cNvPicPr/>
          <p:nvPr/>
        </p:nvPicPr>
        <p:blipFill>
          <a:blip r:embed="rId3"/>
          <a:stretch/>
        </p:blipFill>
        <p:spPr>
          <a:xfrm>
            <a:off x="5357880" y="4297320"/>
            <a:ext cx="319860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071680" y="404280"/>
            <a:ext cx="3786120" cy="568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Ученица нашей школы Прохорова Юлия участвовала в археологических раскопках « Денисова пещер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Юлия была награждена грамотой от дирекции института археологии и этнографии Сибирского отделения Российской Академии наук за активное участие в экспедиционных работах международного научного центра исследований «Денисова пещер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2" descr="P1040713"/>
          <p:cNvPicPr/>
          <p:nvPr/>
        </p:nvPicPr>
        <p:blipFill>
          <a:blip r:embed="rId1"/>
          <a:stretch/>
        </p:blipFill>
        <p:spPr>
          <a:xfrm>
            <a:off x="611280" y="404640"/>
            <a:ext cx="3816360" cy="5761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3" descr="img129"/>
          <p:cNvPicPr/>
          <p:nvPr/>
        </p:nvPicPr>
        <p:blipFill>
          <a:blip r:embed="rId2"/>
          <a:stretch/>
        </p:blipFill>
        <p:spPr>
          <a:xfrm>
            <a:off x="3143160" y="142920"/>
            <a:ext cx="1871640" cy="2879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3" descr="img050"/>
          <p:cNvPicPr/>
          <p:nvPr/>
        </p:nvPicPr>
        <p:blipFill>
          <a:blip r:embed="rId3"/>
          <a:stretch/>
        </p:blipFill>
        <p:spPr>
          <a:xfrm>
            <a:off x="4929120" y="142920"/>
            <a:ext cx="3873600" cy="2214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P1020752"/>
          <p:cNvPicPr/>
          <p:nvPr/>
        </p:nvPicPr>
        <p:blipFill>
          <a:blip r:embed="rId4"/>
          <a:stretch/>
        </p:blipFill>
        <p:spPr>
          <a:xfrm>
            <a:off x="2071800" y="4500720"/>
            <a:ext cx="3227400" cy="207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9" descr="Изображение 1785"/>
          <p:cNvPicPr/>
          <p:nvPr/>
        </p:nvPicPr>
        <p:blipFill>
          <a:blip r:embed="rId1"/>
          <a:stretch/>
        </p:blipFill>
        <p:spPr>
          <a:xfrm>
            <a:off x="4500720" y="4143240"/>
            <a:ext cx="4105080" cy="2374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2" descr="Изображение 1773"/>
          <p:cNvPicPr/>
          <p:nvPr/>
        </p:nvPicPr>
        <p:blipFill>
          <a:blip r:embed="rId2"/>
          <a:stretch/>
        </p:blipFill>
        <p:spPr>
          <a:xfrm>
            <a:off x="714240" y="2500200"/>
            <a:ext cx="3313080" cy="2376720"/>
          </a:xfrm>
          <a:prstGeom prst="rect">
            <a:avLst/>
          </a:prstGeom>
          <a:ln w="0">
            <a:noFill/>
          </a:ln>
        </p:spPr>
      </p:pic>
      <p:sp>
        <p:nvSpPr>
          <p:cNvPr id="124" name="WordArt 16"/>
          <p:cNvSpPr txBox="1"/>
          <p:nvPr/>
        </p:nvSpPr>
        <p:spPr>
          <a:xfrm>
            <a:off x="611280" y="549360"/>
            <a:ext cx="2736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г.  Пик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051640" y="834120"/>
            <a:ext cx="65624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760640" y="1773360"/>
            <a:ext cx="377028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5-26 июля 2009 г. в Сростках проходили Шукшинские чтения - 80 лет со дня рождения В.М. Шукшина. Небольшая группа из 10 человек- учащиеся  и учителя- побывали в Сростках, посетили памятные мес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WordArt 28"/>
          <p:cNvSpPr txBox="1"/>
          <p:nvPr/>
        </p:nvSpPr>
        <p:spPr>
          <a:xfrm>
            <a:off x="4859280" y="189000"/>
            <a:ext cx="3168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555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Срост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Изображение 1725"/>
          <p:cNvPicPr/>
          <p:nvPr/>
        </p:nvPicPr>
        <p:blipFill>
          <a:blip r:embed="rId1"/>
          <a:stretch/>
        </p:blipFill>
        <p:spPr>
          <a:xfrm>
            <a:off x="4284720" y="3068640"/>
            <a:ext cx="4608360" cy="30956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4500720" y="285840"/>
            <a:ext cx="36716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с. Полковников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131" name="Picture 6" descr=""/>
          <p:cNvPicPr/>
          <p:nvPr/>
        </p:nvPicPr>
        <p:blipFill>
          <a:blip r:embed="rId2"/>
          <a:stretch/>
        </p:blipFill>
        <p:spPr>
          <a:xfrm>
            <a:off x="539640" y="1700280"/>
            <a:ext cx="3311640" cy="45370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8"/>
          <p:cNvSpPr/>
          <p:nvPr/>
        </p:nvSpPr>
        <p:spPr>
          <a:xfrm>
            <a:off x="4427640" y="6149520"/>
            <a:ext cx="44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дноместный самолет, на котором тренировался Герман Ти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395280" y="636192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кет корабля «Восток-2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10"/>
          <p:cNvSpPr txBox="1"/>
          <p:nvPr/>
        </p:nvSpPr>
        <p:spPr>
          <a:xfrm>
            <a:off x="1835280" y="0"/>
            <a:ext cx="5257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Июль - 2010г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135" name="Picture 14" descr="P1020844"/>
          <p:cNvPicPr/>
          <p:nvPr/>
        </p:nvPicPr>
        <p:blipFill>
          <a:blip r:embed="rId1"/>
          <a:stretch/>
        </p:blipFill>
        <p:spPr>
          <a:xfrm>
            <a:off x="179280" y="3716280"/>
            <a:ext cx="4176720" cy="28083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772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7720" y="430020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760640" y="2276280"/>
            <a:ext cx="398772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шлым летом коллектив наших учителей отправился в интересное захватывающее, полное экстрима, путешествие на 4 дня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8" descr="P1020623"/>
          <p:cNvPicPr/>
          <p:nvPr/>
        </p:nvPicPr>
        <p:blipFill>
          <a:blip r:embed="rId2"/>
          <a:stretch/>
        </p:blipFill>
        <p:spPr>
          <a:xfrm>
            <a:off x="324000" y="907920"/>
            <a:ext cx="4032000" cy="2665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9T04:36:37Z</dcterms:created>
  <dc:creator>Sed</dc:creator>
  <dc:description/>
  <dc:language>en-US</dc:language>
  <cp:lastModifiedBy>Юля</cp:lastModifiedBy>
  <dcterms:modified xsi:type="dcterms:W3CDTF">2013-10-07T12:52:35Z</dcterms:modified>
  <cp:revision>73</cp:revision>
  <dc:subject/>
  <dc:title>Литературное краеведение изучает:</dc:title>
</cp:coreProperties>
</file>