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png" ContentType="image/png"/>
  <Override PartName="/ppt/media/image26.jpeg" ContentType="image/jpeg"/>
  <Override PartName="/ppt/media/image12.gif" ContentType="image/gif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16.png" ContentType="image/png"/>
  <Override PartName="/ppt/media/image13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4.gif" ContentType="image/gif"/>
  <Override PartName="/ppt/media/image22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3.jpeg" ContentType="image/jpeg"/>
  <Override PartName="/ppt/media/image17.png" ContentType="image/png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A9D-5BC1-4525-9B7F-963BF53A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5A9-78A8-4FE4-A1E6-8255BB1B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784-B95D-44F3-8907-9DCCE34A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3C9-949A-42FF-AE67-771A0E90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3B7-A149-429A-B0E0-1662F5BF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7BB-61E4-48F3-A592-4890CF1D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132-3F1A-4FCC-93D8-D011884F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E5B-C938-46DF-8D84-BA9EC9D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DBD-EB5D-46F2-9267-72E15B1B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5BF-B925-4D05-B556-170A47F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126-71D1-413E-A206-DCFB52E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61C-96D4-470B-891F-DD3ADC3A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73EB-2E97-40CD-9295-AE2A95D0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Кизильская СОШ № 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Коннов Саш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2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81360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Красная книга Челябинской обла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Кизильск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881080" cy="206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сего в опубликованной Красной книге Челябинской области содержатся сведения о 376 видах животных и растений. Среди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лекопитающих - 17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тиц - 5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есмыкающихся - 5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емноводных - 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ыб - 5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секомых –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B_Fly26"/>
          <p:cNvPicPr/>
          <p:nvPr/>
        </p:nvPicPr>
        <p:blipFill>
          <a:blip r:embed="rId1"/>
          <a:stretch/>
        </p:blipFill>
        <p:spPr>
          <a:xfrm>
            <a:off x="1042920" y="5661000"/>
            <a:ext cx="84780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B_Fly06"/>
          <p:cNvPicPr/>
          <p:nvPr/>
        </p:nvPicPr>
        <p:blipFill>
          <a:blip r:embed="rId2"/>
          <a:stretch/>
        </p:blipFill>
        <p:spPr>
          <a:xfrm rot="19239600">
            <a:off x="7380000" y="2204640"/>
            <a:ext cx="1117440" cy="7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f23"/>
          <p:cNvPicPr/>
          <p:nvPr/>
        </p:nvPicPr>
        <p:blipFill>
          <a:blip r:embed="rId3"/>
          <a:stretch/>
        </p:blipFill>
        <p:spPr>
          <a:xfrm>
            <a:off x="4859280" y="4221000"/>
            <a:ext cx="971640" cy="6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u10"/>
          <p:cNvPicPr/>
          <p:nvPr/>
        </p:nvPicPr>
        <p:blipFill>
          <a:blip r:embed="rId4"/>
          <a:stretch/>
        </p:blipFill>
        <p:spPr>
          <a:xfrm>
            <a:off x="6443640" y="5135400"/>
            <a:ext cx="2093760" cy="1381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971640" y="1413000"/>
            <a:ext cx="7416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ения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ной  книг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Picture 6" descr="b10"/>
          <p:cNvPicPr/>
          <p:nvPr/>
        </p:nvPicPr>
        <p:blipFill>
          <a:blip r:embed="rId1"/>
          <a:stretch/>
        </p:blipFill>
        <p:spPr>
          <a:xfrm>
            <a:off x="611280" y="4437000"/>
            <a:ext cx="1238040" cy="1839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9"/>
          <p:cNvPicPr/>
          <p:nvPr/>
        </p:nvPicPr>
        <p:blipFill>
          <a:blip r:embed="rId2"/>
          <a:stretch/>
        </p:blipFill>
        <p:spPr>
          <a:xfrm>
            <a:off x="7236000" y="404640"/>
            <a:ext cx="1331640" cy="116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b13"/>
          <p:cNvPicPr/>
          <p:nvPr/>
        </p:nvPicPr>
        <p:blipFill>
          <a:blip r:embed="rId3"/>
          <a:stretch/>
        </p:blipFill>
        <p:spPr>
          <a:xfrm>
            <a:off x="7139160" y="4653000"/>
            <a:ext cx="1625400" cy="1739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ырейник Ура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коног Ледебура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ябчик Рус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085760" y="4292640"/>
            <a:ext cx="205416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547640" y="1341360"/>
            <a:ext cx="17272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1628280"/>
            <a:ext cx="8712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иный Лук Ненецки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К ПОНИКАЮЩ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46120" y="2421000"/>
            <a:ext cx="2946240" cy="30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859280" y="3560760"/>
            <a:ext cx="3313080" cy="2747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7343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йдия Поздняя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ыль Залесского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274140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5364000" y="2349360"/>
            <a:ext cx="288144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Лесная сар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T-01-23-web"/>
          <p:cNvPicPr/>
          <p:nvPr/>
        </p:nvPicPr>
        <p:blipFill>
          <a:blip r:embed="rId1"/>
          <a:stretch/>
        </p:blipFill>
        <p:spPr>
          <a:xfrm>
            <a:off x="5148360" y="1052640"/>
            <a:ext cx="3678120" cy="5040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79280" y="1413000"/>
            <a:ext cx="504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этого растения красивые цветы на высоких стеблях. Саранка раньше часто встречалась в наших хвойных лесах. Но красота цветка заслужила ему плохую службу — каждому хотелось нарвать букет саранок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ранка — цветок многолетний, ей нужно расти 4-5 лет, прежде чем она начнет цвести. В природе саранки могут жить до 22 лет (если, конечно не рва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Наперстянка крупноцветк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napers"/>
          <p:cNvPicPr/>
          <p:nvPr/>
        </p:nvPicPr>
        <p:blipFill>
          <a:blip r:embed="rId1"/>
          <a:stretch/>
        </p:blipFill>
        <p:spPr>
          <a:xfrm>
            <a:off x="539640" y="1557360"/>
            <a:ext cx="3679920" cy="4896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т в хвой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венных л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ение ядови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S6004121"/>
          <p:cNvPicPr/>
          <p:nvPr/>
        </p:nvPicPr>
        <p:blipFill>
          <a:blip r:embed="rId1"/>
          <a:stretch/>
        </p:blipFill>
        <p:spPr>
          <a:xfrm>
            <a:off x="2987640" y="220500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-2430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Кувшинка бе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17557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израстает по всей территории Челябинской обла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в последне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люд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енности, 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же пол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чезнов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а из мног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дое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611920" y="6003720"/>
            <a:ext cx="74520" cy="1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nim047"/>
          <p:cNvPicPr/>
          <p:nvPr/>
        </p:nvPicPr>
        <p:blipFill>
          <a:blip r:embed="rId2"/>
          <a:stretch/>
        </p:blipFill>
        <p:spPr>
          <a:xfrm rot="10800000">
            <a:off x="3276360" y="4723920"/>
            <a:ext cx="2089080" cy="168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Венерин башма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486900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елябинской области отмечен в окрестностях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ыштым, Нязепетровск, Златоуст, Сатка, Миас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барку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061"/>
          <p:cNvPicPr/>
          <p:nvPr/>
        </p:nvPicPr>
        <p:blipFill>
          <a:blip r:embed="rId1"/>
          <a:stretch/>
        </p:blipFill>
        <p:spPr>
          <a:xfrm>
            <a:off x="1763640" y="1052640"/>
            <a:ext cx="5570640" cy="4187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Неоттианта  клобучк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535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Челябин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речается в горно-л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оне – в окрестно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одов Сим, Катав-Иванов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тка, Златоуст, Миас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баркуль, Кышт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абаш, Касл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Неоттианте клобучковая 1"/>
          <p:cNvPicPr/>
          <p:nvPr/>
        </p:nvPicPr>
        <p:blipFill>
          <a:blip r:embed="rId1"/>
          <a:stretch/>
        </p:blipFill>
        <p:spPr>
          <a:xfrm>
            <a:off x="5219640" y="1341360"/>
            <a:ext cx="35146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611280" y="1125360"/>
            <a:ext cx="640872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АСНАЯ   КНИГ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044720" y="2279520"/>
            <a:ext cx="7272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ябинской  области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7" descr="CHEL"/>
          <p:cNvPicPr/>
          <p:nvPr/>
        </p:nvPicPr>
        <p:blipFill>
          <a:blip r:embed="rId1"/>
          <a:stretch/>
        </p:blipFill>
        <p:spPr>
          <a:xfrm>
            <a:off x="7524720" y="533520"/>
            <a:ext cx="124632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РАСНАЯ КНИГА"/>
          <p:cNvPicPr/>
          <p:nvPr/>
        </p:nvPicPr>
        <p:blipFill>
          <a:blip r:embed="rId2"/>
          <a:stretch/>
        </p:blipFill>
        <p:spPr>
          <a:xfrm>
            <a:off x="395280" y="3355920"/>
            <a:ext cx="269100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7775640" y="3816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С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3"/>
          <p:cNvSpPr txBox="1"/>
          <p:nvPr/>
        </p:nvSpPr>
        <p:spPr>
          <a:xfrm>
            <a:off x="5867280" y="4869000"/>
            <a:ext cx="3041640" cy="17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ыполнил: ученик 2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оннов Са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Кубышка ма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Челябинской области изредка встречается в окрестностях городов Катав-Ивановск, Кыштым, Карабаш, в озерах Иртяш, Большая Нанога, Зюратк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ds_photo_017_small"/>
          <p:cNvPicPr/>
          <p:nvPr/>
        </p:nvPicPr>
        <p:blipFill>
          <a:blip r:embed="rId1"/>
          <a:stretch/>
        </p:blipFill>
        <p:spPr>
          <a:xfrm>
            <a:off x="2050920" y="3213000"/>
            <a:ext cx="5112000" cy="3405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Лапчатка гуси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114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 Челябинской обла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тречается на горе Егоз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лиз г. Кыштыма, 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ишневых горах, Ильменс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хреб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о растение мож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третить не только в лесу, 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в город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nt_0240"/>
          <p:cNvPicPr/>
          <p:nvPr/>
        </p:nvPicPr>
        <p:blipFill>
          <a:blip r:embed="rId1"/>
          <a:stretch/>
        </p:blipFill>
        <p:spPr>
          <a:xfrm>
            <a:off x="4932360" y="1413000"/>
            <a:ext cx="3602160" cy="480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>
            <a:lum bright="-10000"/>
          </a:blip>
          <a:srcRect l="0" t="6791" r="-1019" b="33344"/>
          <a:stretch/>
        </p:blipFill>
        <p:spPr>
          <a:xfrm>
            <a:off x="-252360" y="0"/>
            <a:ext cx="9650520" cy="7039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324000" y="189000"/>
            <a:ext cx="56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лябинская област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удалось достигнуть поставленной цели. Я узнал, что занесенных в Красную книгу Челябинской области растений, с каждым годом исчезающих видов становится всё 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друзей прир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Не ломай ветки деревьев и кустар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Не повреждай кору дерев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Не рви в лесу и на лугу цветы. Пусть красивые растения останутся в природ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е лови бабочек, шмелей, стрекоз и других насеком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Береги лягушек, жаб, головаст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Не лови диких животных и не уноси их до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Не подходи близко к гнёздам птиц и не разоряй их, зимой подкармливай п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Не оставляй в лесу, на лугу, у реки, у моря мусор. Не бросай его в водоёмы, а убирай в специальные ур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Не шуми в ле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Кроме ягод и грибов уносите из леса только приятные воспоминания и восхищение его крас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не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-468360" y="1125360"/>
            <a:ext cx="908676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Не рвите цветы, не рвите –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усть будет красива Земля.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 вместо букетов дарите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асильковые,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        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незабудковые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                     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и ромашковые поля!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547640" y="1773360"/>
            <a:ext cx="63374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 за  внимание!</a:t>
            </a:r>
            <a:endParaRPr b="1" lang="en-US" sz="1800" spc="1" strike="noStrike">
              <a:ln w="158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Актуальность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та тема актуальна, так как с каждым годом исчезающих видов растений становится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Цел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знакомиться с растениями Южного Урала, занесенными в Красную книгу Челябинской области  и показать  их  разнообразие  и  знач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Узнать, что такое Красная книга и почему в ней страницы разноцве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знать, какие растения нашей местности занесены в Кра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Дополнить правила друзей природы и разработать экологические 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Красной книгой» называется книга о животных и растениях, которым грозит исчезновение. Почему красная? «Красная книга», как красный сигнал светофора предупреждает: «Остановись! Не трогай! Не уничтожай!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Красная книга» — это не просто список редких и находящихся под угрозой исчезновения животных и растений. Эта книга — сигнал бедствия, который подают нам обитатели живого мира, нуждающиеся в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24000" y="476280"/>
            <a:ext cx="835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такое "Красная книга"?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Picture 5" descr="4"/>
          <p:cNvPicPr/>
          <p:nvPr/>
        </p:nvPicPr>
        <p:blipFill>
          <a:blip r:embed="rId1"/>
          <a:stretch/>
        </p:blipFill>
        <p:spPr>
          <a:xfrm>
            <a:off x="8317080" y="5877000"/>
            <a:ext cx="657000" cy="830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нашей стране есть не только Красная книга России, но и Красные книги краев и регионов. И на Южном Урале есть своя Красная книга, она называется «Красная книга Челябинской обла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Красную книгу Челябинской области попадают растения и животные, которые стали редкими на Южном Урале, или совсем исчезли с территории наш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расная книга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Челябин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681800" cy="4713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13:29Z</dcterms:created>
  <dc:creator>User</dc:creator>
  <dc:description/>
  <dc:language>en-US</dc:language>
  <cp:lastModifiedBy>User</cp:lastModifiedBy>
  <dcterms:modified xsi:type="dcterms:W3CDTF">2013-05-13T14:50:14Z</dcterms:modified>
  <cp:revision>47</cp:revision>
  <dc:subject/>
  <dc:title>Слайд 1</dc:title>
</cp:coreProperties>
</file>