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1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EBE3-A264-4FBA-896C-6CA481A1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5CA6-A845-4765-B253-B4097A91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5B6B-5F54-4B8E-998A-916BFF2D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A71E-D5E3-4AED-A842-23A22B46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B4F7-2778-4304-A59C-2A42D5EE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47CD-E222-4EDB-BBDB-7CA48DFA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7E75-32C6-48CE-83FB-B8C68A0A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9D4F-DF39-4282-BEBE-5C37AC98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42AC-5311-46B6-9E0F-5A568D2A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786A-778A-4718-A63D-E972056E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EBD0-395F-4372-A446-D446BC20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4EEF-8A93-4F39-B7EE-E84D8352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72AE-8772-48C0-8C9C-C26F6E74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31C3-3812-41C3-A144-D077F7F4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BB33-820E-409E-BF53-48496B3A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51F2-4E3C-4D46-B057-545AEF71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73EC-1308-4982-8EEE-91D9FD3D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BC530-009D-4209-9AE6-543E931B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06B4-24DE-4771-82E2-350A1664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6CF5-CEAA-4F6A-B5E2-FA93D034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A23D-3F6F-4367-BC1E-1251A1A8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1C9D-A599-4AB0-8A65-179D314F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8F25-6FAD-48FE-B4D2-A988E4F0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EBDF-6F1B-400E-BEB0-ABA413B8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6D0B-2F0B-49F1-9875-51DC6E6403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C3B0-A548-49C3-AA17-48945469EB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447000">
            <a:off x="976320" y="906120"/>
            <a:ext cx="7400880" cy="45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Обыкновенные дроби </a:t>
            </a:r>
            <a:endParaRPr b="1" lang="en-US" sz="2400" spc="1" strike="noStrike">
              <a:ln w="255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(обобщение темы)</a:t>
            </a:r>
            <a:endParaRPr b="1" lang="en-US" sz="2400" spc="1" strike="noStrike">
              <a:ln w="255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1844640"/>
            <a:ext cx="3535560" cy="395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56000" y="1628640"/>
            <a:ext cx="338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396 0.25694 L 0.7757 0.5932 E">
                                      <p:cBhvr>
                                        <p:cTn id="26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6600" y="2103840"/>
            <a:ext cx="669600" cy="20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209400">
            <a:off x="250920" y="259920"/>
            <a:ext cx="856908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Схема длительности нот</a:t>
            </a:r>
            <a:endParaRPr b="1" lang="en-US" sz="2400" spc="1" strike="noStrike">
              <a:ln w="255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979640" y="2060640"/>
            <a:ext cx="5975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Monotype Corsiva"/>
              </a:rPr>
              <a:t>- целая нота </a:t>
            </a:r>
            <a:endParaRPr b="1" lang="en-US" sz="2400" spc="1" strike="noStrike">
              <a:ln w="190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5280" y="2565000"/>
            <a:ext cx="934560" cy="863640"/>
            <a:chOff x="395280" y="2565000"/>
            <a:chExt cx="934560" cy="863640"/>
          </a:xfrm>
        </p:grpSpPr>
        <p:sp>
          <p:nvSpPr>
            <p:cNvPr id="165" name=""/>
            <p:cNvSpPr/>
            <p:nvPr/>
          </p:nvSpPr>
          <p:spPr>
            <a:xfrm>
              <a:off x="395280" y="3122280"/>
              <a:ext cx="93168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326960" y="2565000"/>
              <a:ext cx="288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1835280" y="3068640"/>
            <a:ext cx="511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Monotype Corsiva"/>
              </a:rPr>
              <a:t>- половинная </a:t>
            </a:r>
            <a:endParaRPr b="1" lang="en-US" sz="2400" spc="1" strike="noStrike">
              <a:ln w="190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95280" y="3715920"/>
            <a:ext cx="936360" cy="792360"/>
            <a:chOff x="395280" y="3715920"/>
            <a:chExt cx="936360" cy="792360"/>
          </a:xfrm>
        </p:grpSpPr>
        <p:sp>
          <p:nvSpPr>
            <p:cNvPr id="169" name=""/>
            <p:cNvSpPr/>
            <p:nvPr/>
          </p:nvSpPr>
          <p:spPr>
            <a:xfrm>
              <a:off x="395280" y="4227120"/>
              <a:ext cx="933480" cy="28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328760" y="3715920"/>
              <a:ext cx="288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1763640" y="4149720"/>
            <a:ext cx="46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Monotype Corsiva"/>
              </a:rPr>
              <a:t>- четвертая</a:t>
            </a:r>
            <a:endParaRPr b="1" lang="en-US" sz="2400" spc="1" strike="noStrike">
              <a:ln w="190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4000" y="4797360"/>
            <a:ext cx="1296000" cy="936000"/>
            <a:chOff x="324000" y="4797360"/>
            <a:chExt cx="1296000" cy="936000"/>
          </a:xfrm>
        </p:grpSpPr>
        <p:grpSp>
          <p:nvGrpSpPr>
            <p:cNvPr id="173" name=""/>
            <p:cNvGrpSpPr/>
            <p:nvPr/>
          </p:nvGrpSpPr>
          <p:grpSpPr>
            <a:xfrm>
              <a:off x="324000" y="4797360"/>
              <a:ext cx="865440" cy="936000"/>
              <a:chOff x="324000" y="4797360"/>
              <a:chExt cx="865440" cy="936000"/>
            </a:xfrm>
          </p:grpSpPr>
          <p:sp>
            <p:nvSpPr>
              <p:cNvPr id="174" name=""/>
              <p:cNvSpPr/>
              <p:nvPr/>
            </p:nvSpPr>
            <p:spPr>
              <a:xfrm>
                <a:off x="324000" y="5401080"/>
                <a:ext cx="862920" cy="33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1186920" y="4797360"/>
                <a:ext cx="2520" cy="70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60320" y="4797360"/>
              <a:ext cx="859680" cy="66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89795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89795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1619280" y="5300640"/>
            <a:ext cx="4103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Monotype Corsiva"/>
              </a:rPr>
              <a:t>- восьмая</a:t>
            </a:r>
            <a:endParaRPr b="1" lang="en-US" sz="2400" spc="1" strike="noStrike">
              <a:ln w="190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845480" y="5084640"/>
            <a:ext cx="1298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57200" y="1981080"/>
          <a:ext cx="8229600" cy="3930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971640" y="3284640"/>
            <a:ext cx="6620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619280" y="314136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3213000"/>
            <a:ext cx="6620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00360" y="314136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284640"/>
            <a:ext cx="6620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26920" y="4076640"/>
            <a:ext cx="504720" cy="537840"/>
            <a:chOff x="826920" y="4076640"/>
            <a:chExt cx="504720" cy="537840"/>
          </a:xfrm>
        </p:grpSpPr>
        <p:sp>
          <p:nvSpPr>
            <p:cNvPr id="186" name=""/>
            <p:cNvSpPr/>
            <p:nvPr/>
          </p:nvSpPr>
          <p:spPr>
            <a:xfrm>
              <a:off x="826920" y="4423680"/>
              <a:ext cx="503280" cy="19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330200" y="4076640"/>
              <a:ext cx="144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124000" y="4076640"/>
            <a:ext cx="504720" cy="537840"/>
            <a:chOff x="2124000" y="4076640"/>
            <a:chExt cx="504720" cy="537840"/>
          </a:xfrm>
        </p:grpSpPr>
        <p:sp>
          <p:nvSpPr>
            <p:cNvPr id="189" name=""/>
            <p:cNvSpPr/>
            <p:nvPr/>
          </p:nvSpPr>
          <p:spPr>
            <a:xfrm>
              <a:off x="2124000" y="4423680"/>
              <a:ext cx="503280" cy="19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627280" y="4076640"/>
              <a:ext cx="144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948360" y="5013360"/>
            <a:ext cx="577440" cy="537840"/>
            <a:chOff x="6948360" y="5013360"/>
            <a:chExt cx="577440" cy="537840"/>
          </a:xfrm>
        </p:grpSpPr>
        <p:sp>
          <p:nvSpPr>
            <p:cNvPr id="192" name=""/>
            <p:cNvSpPr/>
            <p:nvPr/>
          </p:nvSpPr>
          <p:spPr>
            <a:xfrm>
              <a:off x="6948360" y="5360400"/>
              <a:ext cx="575640" cy="19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524000" y="5013360"/>
              <a:ext cx="180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84360" y="5084280"/>
            <a:ext cx="791280" cy="576360"/>
            <a:chOff x="684360" y="5084280"/>
            <a:chExt cx="791280" cy="576360"/>
          </a:xfrm>
        </p:grpSpPr>
        <p:grpSp>
          <p:nvGrpSpPr>
            <p:cNvPr id="195" name=""/>
            <p:cNvGrpSpPr/>
            <p:nvPr/>
          </p:nvGrpSpPr>
          <p:grpSpPr>
            <a:xfrm>
              <a:off x="684360" y="5084280"/>
              <a:ext cx="528480" cy="576360"/>
              <a:chOff x="684360" y="5084280"/>
              <a:chExt cx="528480" cy="576360"/>
            </a:xfrm>
          </p:grpSpPr>
          <p:sp>
            <p:nvSpPr>
              <p:cNvPr id="196" name=""/>
              <p:cNvSpPr/>
              <p:nvPr/>
            </p:nvSpPr>
            <p:spPr>
              <a:xfrm>
                <a:off x="684360" y="5456160"/>
                <a:ext cx="527040" cy="20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1211400" y="5084280"/>
                <a:ext cx="1440" cy="43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950760" y="5084640"/>
              <a:ext cx="524880" cy="40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89795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89795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79640" y="5084640"/>
            <a:ext cx="774360" cy="537840"/>
            <a:chOff x="1979640" y="5084640"/>
            <a:chExt cx="774360" cy="537840"/>
          </a:xfrm>
        </p:grpSpPr>
        <p:grpSp>
          <p:nvGrpSpPr>
            <p:cNvPr id="200" name=""/>
            <p:cNvGrpSpPr/>
            <p:nvPr/>
          </p:nvGrpSpPr>
          <p:grpSpPr>
            <a:xfrm>
              <a:off x="1979640" y="5084640"/>
              <a:ext cx="516960" cy="537840"/>
              <a:chOff x="1979640" y="5084640"/>
              <a:chExt cx="516960" cy="537840"/>
            </a:xfrm>
          </p:grpSpPr>
          <p:sp>
            <p:nvSpPr>
              <p:cNvPr id="201" name=""/>
              <p:cNvSpPr/>
              <p:nvPr/>
            </p:nvSpPr>
            <p:spPr>
              <a:xfrm>
                <a:off x="1979640" y="5431680"/>
                <a:ext cx="515520" cy="19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2495160" y="5084640"/>
                <a:ext cx="1440" cy="40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2240280" y="5084640"/>
              <a:ext cx="513720" cy="38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89795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89795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877080" y="4221000"/>
            <a:ext cx="66204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00360" y="314136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524720" y="407628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067280" y="3068640"/>
                <a:ext cx="6523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24360" y="4005360"/>
                <a:ext cx="5540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500720" y="4005360"/>
                <a:ext cx="280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95640" y="5013360"/>
                <a:ext cx="463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500720" y="5013360"/>
                <a:ext cx="264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равнить!              Вставить!                                       1 уровень              2 уровен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95280" y="4508640"/>
                <a:ext cx="7048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72360" y="4869000"/>
                <a:ext cx="618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050920" y="4437000"/>
                <a:ext cx="758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133720"/>
                <a:ext cx="5000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411280" y="2205000"/>
                <a:ext cx="50184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5280" y="2997360"/>
                <a:ext cx="6714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340000" y="3141720"/>
                <a:ext cx="4716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148360" y="1989000"/>
                <a:ext cx="5857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516720" y="2060640"/>
                <a:ext cx="633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219640" y="3213000"/>
                <a:ext cx="6937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516720" y="3284640"/>
                <a:ext cx="7779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219640" y="4653000"/>
                <a:ext cx="593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476360" y="2205000"/>
                <a:ext cx="4572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867280" y="2060640"/>
                <a:ext cx="432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3357720"/>
                <a:ext cx="4320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476360" y="3141720"/>
                <a:ext cx="4348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940360" y="4869000"/>
                <a:ext cx="4348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403280" y="4508640"/>
                <a:ext cx="432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732720" y="2060640"/>
                <a:ext cx="3902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948360" y="3284640"/>
                <a:ext cx="1079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л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 txBox="1"/>
          <p:nvPr/>
        </p:nvSpPr>
        <p:spPr>
          <a:xfrm>
            <a:off x="6804000" y="2060640"/>
            <a:ext cx="2890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9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028000" y="3284640"/>
            <a:ext cx="2890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8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77080" y="3284640"/>
            <a:ext cx="288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9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372360" y="479736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0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101080" y="4869000"/>
            <a:ext cx="57636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1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419640" y="4941720"/>
            <a:ext cx="1298520" cy="177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7164360" y="5013360"/>
                <a:ext cx="7192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л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395280" y="1268280"/>
            <a:ext cx="3312720" cy="2377440"/>
            <a:chOff x="395280" y="1268280"/>
            <a:chExt cx="3312720" cy="2377440"/>
          </a:xfrm>
        </p:grpSpPr>
        <p:sp>
          <p:nvSpPr>
            <p:cNvPr id="245" name=""/>
            <p:cNvSpPr/>
            <p:nvPr/>
          </p:nvSpPr>
          <p:spPr>
            <a:xfrm>
              <a:off x="395280" y="1268280"/>
              <a:ext cx="3312720" cy="2377440"/>
            </a:xfrm>
            <a:prstGeom prst="rect">
              <a:avLst/>
            </a:prstGeom>
            <a:solidFill>
              <a:srgbClr val="9dc2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24360" y="1268280"/>
              <a:ext cx="0" cy="237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508720" y="1125360"/>
            <a:ext cx="3384000" cy="3024000"/>
            <a:chOff x="5508720" y="1125360"/>
            <a:chExt cx="3384000" cy="3024000"/>
          </a:xfrm>
        </p:grpSpPr>
        <p:sp>
          <p:nvSpPr>
            <p:cNvPr id="248" name=""/>
            <p:cNvSpPr/>
            <p:nvPr/>
          </p:nvSpPr>
          <p:spPr>
            <a:xfrm>
              <a:off x="5508720" y="1125360"/>
              <a:ext cx="3384000" cy="3024000"/>
            </a:xfrm>
            <a:prstGeom prst="ellipse">
              <a:avLst/>
            </a:prstGeom>
            <a:solidFill>
              <a:srgbClr val="9dc2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98920" y="112536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08720" y="2637000"/>
              <a:ext cx="338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195640" y="2133720"/>
            <a:ext cx="4895280" cy="4461840"/>
            <a:chOff x="2195640" y="2133720"/>
            <a:chExt cx="4895280" cy="4461840"/>
          </a:xfrm>
        </p:grpSpPr>
        <p:sp>
          <p:nvSpPr>
            <p:cNvPr id="252" name=""/>
            <p:cNvSpPr/>
            <p:nvPr/>
          </p:nvSpPr>
          <p:spPr>
            <a:xfrm>
              <a:off x="2195640" y="2133720"/>
              <a:ext cx="4895280" cy="4461840"/>
            </a:xfrm>
            <a:custGeom>
              <a:avLst/>
              <a:gdLst>
                <a:gd name="textAreaLeft" fmla="*/ 2017080 w 4895280"/>
                <a:gd name="textAreaRight" fmla="*/ 2878200 w 4895280"/>
                <a:gd name="textAreaTop" fmla="*/ 1838520 h 4461840"/>
                <a:gd name="textAreaBottom" fmla="*/ 2623320 h 446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dc2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2920" y="2133720"/>
              <a:ext cx="0" cy="446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95640" y="4365000"/>
              <a:ext cx="48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50520" y="3977280"/>
              <a:ext cx="783360" cy="7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52960" y="3976920"/>
              <a:ext cx="977760" cy="7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5329080" cy="4708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rcRect l="0" t="0" r="47822" b="0"/>
          <a:stretch/>
        </p:blipFill>
        <p:spPr>
          <a:xfrm>
            <a:off x="395280" y="1268280"/>
            <a:ext cx="1728720" cy="2376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5508720" y="1125360"/>
            <a:ext cx="3384360" cy="3095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7845480" y="5084640"/>
            <a:ext cx="1298520" cy="1773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3628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сать дроби, соответствующие закрашенной части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995640" y="3429000"/>
                <a:ext cx="16606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059280" y="3429000"/>
                <a:ext cx="9871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227640" y="1844640"/>
                <a:ext cx="221148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332000" y="5516640"/>
                <a:ext cx="11682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5516640"/>
                <a:ext cx="755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99640" y="1484280"/>
            <a:ext cx="40388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718400" y="5229360"/>
            <a:ext cx="1266840" cy="141264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395280" y="620640"/>
            <a:ext cx="2849400" cy="1728720"/>
            <a:chOff x="395280" y="620640"/>
            <a:chExt cx="2849400" cy="1728720"/>
          </a:xfrm>
        </p:grpSpPr>
        <p:sp>
          <p:nvSpPr>
            <p:cNvPr id="271" name=""/>
            <p:cNvSpPr/>
            <p:nvPr/>
          </p:nvSpPr>
          <p:spPr>
            <a:xfrm>
              <a:off x="395280" y="620640"/>
              <a:ext cx="1655640" cy="17287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68360" y="1268280"/>
              <a:ext cx="976320" cy="48600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6000"/>
                <a:gd name="textAreaBottom" fmla="*/ 36468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720" y="2637000"/>
            <a:ext cx="7991640" cy="1728720"/>
            <a:chOff x="396720" y="2637000"/>
            <a:chExt cx="7991640" cy="1728720"/>
          </a:xfrm>
        </p:grpSpPr>
        <p:sp>
          <p:nvSpPr>
            <p:cNvPr id="274" name=""/>
            <p:cNvSpPr/>
            <p:nvPr/>
          </p:nvSpPr>
          <p:spPr>
            <a:xfrm>
              <a:off x="396720" y="2637000"/>
              <a:ext cx="1727280" cy="1728720"/>
            </a:xfrm>
            <a:prstGeom prst="octagon">
              <a:avLst>
                <a:gd name="adj" fmla="val 29287"/>
              </a:avLst>
            </a:prstGeom>
            <a:solidFill>
              <a:srgbClr val="00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3419640" y="2708280"/>
              <a:ext cx="496872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660066"/>
                    </a:solidFill>
                    <a:miter/>
                  </a:ln>
                  <a:solidFill>
                    <a:srgbClr val="00cc00"/>
                  </a:solidFill>
                  <a:latin typeface="Monotype Corsiva"/>
                </a:rPr>
                <a:t>на уроке было интересно,</a:t>
              </a:r>
              <a:endParaRPr b="1" lang="en-US" sz="24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00cc00"/>
                </a:solidFill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660066"/>
                    </a:solidFill>
                    <a:miter/>
                  </a:ln>
                  <a:solidFill>
                    <a:srgbClr val="00cc00"/>
                  </a:solidFill>
                  <a:latin typeface="Monotype Corsiva"/>
                </a:rPr>
                <a:t>но трудно</a:t>
              </a:r>
              <a:endParaRPr b="1" lang="en-US" sz="24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00cc00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40000" y="33577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96720" y="4797360"/>
            <a:ext cx="7488360" cy="1728720"/>
            <a:chOff x="396720" y="4797360"/>
            <a:chExt cx="7488360" cy="1728720"/>
          </a:xfrm>
        </p:grpSpPr>
        <p:sp>
          <p:nvSpPr>
            <p:cNvPr id="278" name=""/>
            <p:cNvSpPr/>
            <p:nvPr/>
          </p:nvSpPr>
          <p:spPr>
            <a:xfrm>
              <a:off x="396720" y="4797360"/>
              <a:ext cx="1582920" cy="1728720"/>
            </a:xfrm>
            <a:prstGeom prst="octagon">
              <a:avLst>
                <a:gd name="adj" fmla="val 29287"/>
              </a:avLst>
            </a:prstGeom>
            <a:solidFill>
              <a:srgbClr val="0000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059280" y="4797360"/>
              <a:ext cx="482580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660066"/>
                    </a:solidFill>
                    <a:miter/>
                  </a:ln>
                  <a:solidFill>
                    <a:srgbClr val="3366ff"/>
                  </a:solidFill>
                  <a:latin typeface="Monotype Corsiva"/>
                </a:rPr>
                <a:t>на уроке было не интересно,</a:t>
              </a:r>
              <a:endParaRPr b="1" lang="en-US" sz="24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3366ff"/>
                </a:solidFill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660066"/>
                    </a:solidFill>
                    <a:miter/>
                  </a:ln>
                  <a:solidFill>
                    <a:srgbClr val="3366ff"/>
                  </a:solidFill>
                  <a:latin typeface="Monotype Corsiva"/>
                </a:rPr>
                <a:t>я не узнал ничего нового</a:t>
              </a:r>
              <a:endParaRPr b="1" lang="en-US" sz="24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3366ff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95640" y="5445000"/>
              <a:ext cx="976320" cy="48600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6000"/>
                <a:gd name="textAreaBottom" fmla="*/ 36468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179280" y="4481640"/>
            <a:ext cx="2114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4104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103640" cy="468144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588080" y="5084640"/>
            <a:ext cx="1397160" cy="1557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50920" y="5300640"/>
            <a:ext cx="424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Monotype Corsiva"/>
              </a:rPr>
              <a:t>Лев Николаевич </a:t>
            </a:r>
            <a:endParaRPr b="1" lang="en-US" sz="2400" spc="1" strike="noStrike">
              <a:ln w="190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Monotype Corsiva"/>
              </a:rPr>
              <a:t>Толстой</a:t>
            </a:r>
            <a:endParaRPr b="1" lang="en-US" sz="2400" spc="1" strike="noStrike">
              <a:ln w="190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404640"/>
            <a:ext cx="4032360" cy="511200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125360"/>
            <a:ext cx="356400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Человек подобен дроби, числитель есть то, что он есть, а знаменатель - то, что он о себе думает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Чем больше числитель, тем больше дроб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                  </a:t>
            </a: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Л.Н.Толст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2,-99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2,-99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2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2,-99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2,-99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6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2,-99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2,-99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епление навыков сложения и вычитания обыкновенных дробей, их с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ние в себе бережного и рационального использования времени труда и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положительных  мотивов 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87280" y="476280"/>
                <a:ext cx="6769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 порядке возраст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авильные дроб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робь, равная единиц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932360" y="2565360"/>
                <a:ext cx="3816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64000" y="3938760"/>
                <a:ext cx="28800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516720" y="5084640"/>
                <a:ext cx="60012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845480" y="5084640"/>
            <a:ext cx="1298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11280" y="476280"/>
            <a:ext cx="8038800" cy="1584360"/>
            <a:chOff x="611280" y="476280"/>
            <a:chExt cx="8038800" cy="1584360"/>
          </a:xfrm>
        </p:grpSpPr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611280" y="761040"/>
                  <a:ext cx="173736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695320" y="763920"/>
                  <a:ext cx="1877040" cy="101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4851360" y="476280"/>
                  <a:ext cx="1737720" cy="15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6753240" y="476280"/>
                  <a:ext cx="18968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1116000" y="3860640"/>
            <a:ext cx="5872320" cy="2016360"/>
            <a:chOff x="1116000" y="3860640"/>
            <a:chExt cx="5872320" cy="20163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983560" y="3860640"/>
                  <a:ext cx="1004760" cy="194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668680" y="3860640"/>
                  <a:ext cx="1440000" cy="194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116000" y="3860640"/>
                  <a:ext cx="1560600" cy="201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4334040" y="3860640"/>
                  <a:ext cx="1177920" cy="201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" name=""/>
          <p:cNvSpPr/>
          <p:nvPr/>
        </p:nvSpPr>
        <p:spPr>
          <a:xfrm flipV="1">
            <a:off x="1763640" y="1989000"/>
            <a:ext cx="1871640" cy="16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835280" y="1988640"/>
            <a:ext cx="1800000" cy="1584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364000" y="2276640"/>
            <a:ext cx="1944720" cy="1296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867280" y="2276280"/>
            <a:ext cx="64944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845480" y="5084640"/>
            <a:ext cx="1298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539640" y="620640"/>
          <a:ext cx="6337440" cy="5977080"/>
        </p:xfrm>
        <a:graphic>
          <a:graphicData uri="http://schemas.openxmlformats.org/drawingml/2006/table">
            <a:tbl>
              <a:tblPr/>
              <a:tblGrid>
                <a:gridCol w="2112120"/>
                <a:gridCol w="2112480"/>
                <a:gridCol w="2112840"/>
              </a:tblGrid>
              <a:tr h="14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+в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-в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2916360" y="620640"/>
            <a:ext cx="3384360" cy="5904000"/>
            <a:chOff x="2916360" y="620640"/>
            <a:chExt cx="3384360" cy="590400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3032280" y="655560"/>
                  <a:ext cx="1038240" cy="13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2916360" y="2200320"/>
                  <a:ext cx="952200" cy="12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5353200" y="620640"/>
                  <a:ext cx="947520" cy="13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5508720" y="5157720"/>
                  <a:ext cx="647640" cy="13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52880" y="3645000"/>
                <a:ext cx="9604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121200" y="5084640"/>
                <a:ext cx="8776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292720" y="2276640"/>
                <a:ext cx="99396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788000" y="3589200"/>
                <a:ext cx="20160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45480" y="5084640"/>
            <a:ext cx="1298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8351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ятикласснику на сон необходимо       суток. Сколько времени в сутки он должен тратить на домашнее задание , если оно не должно превышать    времени с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 сутках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ча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404200" y="692280"/>
                <a:ext cx="739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276720" y="3213000"/>
                <a:ext cx="576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845480" y="5084640"/>
            <a:ext cx="1298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8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ие в школ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ее задан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уг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визор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ча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 rot="209400">
            <a:off x="252360" y="189000"/>
            <a:ext cx="856944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Распорядок пятиклассника</a:t>
            </a:r>
            <a:endParaRPr b="1" lang="en-US" sz="2400" spc="1" strike="noStrike">
              <a:ln w="255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84360" y="620640"/>
            <a:ext cx="4174920" cy="3456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6:53:02Z</dcterms:created>
  <dc:creator>1</dc:creator>
  <dc:description/>
  <cp:keywords/>
  <dc:language>en-US</dc:language>
  <cp:lastModifiedBy>Windows User</cp:lastModifiedBy>
  <dcterms:modified xsi:type="dcterms:W3CDTF">2010-04-12T19:24:59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