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5BF-20C3-4162-8286-E7534567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52E-7779-4E1A-A1CE-D2046CD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D30-A5F6-47BC-94FB-BD28CDDF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BBD-DAB2-4988-948D-912CAAB6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3352-9E31-4532-B0A3-3EA17B25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51F7-6F87-4F28-9F4D-801A7B0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4B83-C12C-4FAB-BDAE-C9CC480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4779-80B4-4B42-9318-0FA8210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417-2878-4DA9-B622-B9600ECA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B88-F210-4014-A31A-EE462E2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86FD-8D58-4EE4-B04C-076DBCB1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8F6-9FF4-47FF-B81E-BDF0E098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555-48A8-47A4-9E40-E1332D5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77F8-50A8-421D-AFCF-03487EB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90BC-240A-48FB-B912-11C8651C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0A29-95D7-46EF-9DEA-03DFA9DA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0988-1882-432E-B9BC-1BA6325F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F0A-5991-4370-BECC-271DED61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9A1-6463-4C64-A3F3-B6D1B93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9D3-31C0-4660-BF1A-DC988A6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241-F493-44CE-B29C-59A177BA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0DB-7D8E-4E7B-A818-F315DD4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6D7-7F1E-4106-807F-AFAF76E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DFA-97DB-4507-B8DD-0DB65E3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21DD-7C8E-4673-BDBE-7307454B34B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E404-5E42-4C0C-814D-F3BF3FAFB50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school3/school0301jpg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369800"/>
            <a:ext cx="6813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тер-класс на тему: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Развитие критического мышления»</a:t>
            </a:r>
            <a:br>
              <a:rPr sz="4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Учитель начальных классов МОУ Кизильская СОШ №1                     Полякова Л.В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6834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Мышление развивается в проблемной ситуации, когда ребёнок сам «собирает» понятия о предмет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.Выготск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рок «Мир вокруг нас»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ма: Великая война и великая побед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иём «Инсерт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6933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ение с пометками на полях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зна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+  ново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?  не понял (хочу узнать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ца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ЗУХ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(знаю, узнал, хочу узнать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09480" y="5410080"/>
          <a:ext cx="6553440" cy="106668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  <a:gridCol w="218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З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ю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зна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чу узн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азмышляйте над этим….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олько критическ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432160"/>
            <a:ext cx="37339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2952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звить в детях самостоятельность и ответственность, умение адаптироваться в сложившейся ситу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мочь каждому ребёнку осознать собственную уникальную сущность и создать условия для саморазвит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будить познавательный интерес к изучаемому материал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мочь ученику самостоятельно обобщить изученный материал, осмыслить новую информацию и соотнести её с уже имеющимися знани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мочь самостоятельно определить направление в дальнейшем изучении материа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мастер-класс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казать на примере различных уроков использование приёмов для развития критического мышл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рок русского язы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ема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речие. Закрепление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286000" y="3152880"/>
            <a:ext cx="2666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ём «Кластер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1447920"/>
            <a:ext cx="213372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743200"/>
            <a:ext cx="1600200" cy="762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3200400"/>
            <a:ext cx="1828800" cy="8380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590920"/>
            <a:ext cx="198108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572000"/>
            <a:ext cx="1371600" cy="6858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5257800"/>
            <a:ext cx="1219320" cy="6858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5105520"/>
            <a:ext cx="1447920" cy="7617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4191120"/>
            <a:ext cx="1143000" cy="6094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4572000"/>
            <a:ext cx="1218960" cy="6858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599840" y="2286000"/>
            <a:ext cx="1600200" cy="5335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428640" y="2362320"/>
            <a:ext cx="304920" cy="838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209680"/>
            <a:ext cx="1219320" cy="3812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90360" y="3505320"/>
            <a:ext cx="152280" cy="10666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4240" y="4038480"/>
            <a:ext cx="762120" cy="12193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4038480"/>
            <a:ext cx="762120" cy="10670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86400" y="3505320"/>
            <a:ext cx="457200" cy="6858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505320"/>
            <a:ext cx="533160" cy="10666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авила работы в группах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ботай дружно, по план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мей выслушать друг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важай мнение други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согласен с мнением других – доказывай свою точку зр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рок чтения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ём «Ромашка вопросов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Вопросы строй та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Объясни, почему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Согласен ли ты с тем, что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Предположи, что будет, если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Как бы ты поступил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Как ты относишься к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Верно ли, что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28958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ём «Синквейн»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ихотворение из пяти стр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7650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)Тема (одно слово-существительно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)Описание темы (2 прилагательных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)Описание действия (3 глагол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)Фраза, показывающая отношение к тем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)Синоним, который повторяет суть тем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иём «Чтение с остановкам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узыкан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6814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22T06:11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