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ED1-0F01-4711-ADB5-F6700B26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EE0-2E3E-40FB-97C0-EC791E1A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587-BD55-46EF-9342-3F0DF9D4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600-BFE0-4484-9BD3-4708BCE2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949-5DB7-4002-B6C0-A705C915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D07-033C-418E-8563-7628C83A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EFB-AA95-4A5A-8276-F84B1197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A9F-E92A-4988-A38D-ACDCC226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8AC-84BF-46EA-84A5-D345DB4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65A-6CA8-4E3E-A2CC-9FC6941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68D-1871-44A3-921A-DC208B8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8E7-DEE2-4F9B-9D87-27F74F5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8878-6386-417F-AE90-78EA6E23F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p1.blogger.com/_vYPIDwOMhm4/RxMuHVXTlRI/AAAAAAAADCw/n_pm1oxay7Y/s1600-h/Benua032.jpg" TargetMode="External"/><Relationship Id="rId2" Type="http://schemas.openxmlformats.org/officeDocument/2006/relationships/hyperlink" Target="http://bp1.blogger.com/_vYPIDwOMhm4/RxMuHVXTlRI/AAAAAAAADCw/n_pm1oxay7Y/s1600-h/Benua032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9144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НЫЙ ВСА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Памятник Петру I"/>
          <p:cNvPicPr/>
          <p:nvPr/>
        </p:nvPicPr>
        <p:blipFill>
          <a:blip r:embed="rId1"/>
          <a:stretch/>
        </p:blipFill>
        <p:spPr>
          <a:xfrm>
            <a:off x="2820960" y="214200"/>
            <a:ext cx="3537000" cy="4714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4680" y="0"/>
            <a:ext cx="330048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сбыла, и мост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лась, и Евгений 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шит, душою замир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дежде, страхе и то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едва смирившейся р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, торж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еды пол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кип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лобно вол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бы под 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лел ого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их п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ыва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яже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а дыша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 бит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ежавший к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гений смотри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ит лодк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к ней беж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на находк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перевозчика зове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Benua026"/>
          <p:cNvPicPr/>
          <p:nvPr/>
        </p:nvPicPr>
        <p:blipFill>
          <a:blip r:embed="rId1"/>
          <a:stretch/>
        </p:blipFill>
        <p:spPr>
          <a:xfrm>
            <a:off x="2195640" y="1557360"/>
            <a:ext cx="66578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Benua033"/>
          <p:cNvPicPr/>
          <p:nvPr/>
        </p:nvPicPr>
        <p:blipFill>
          <a:blip r:embed="rId1"/>
          <a:stretch/>
        </p:blipFill>
        <p:spPr>
          <a:xfrm>
            <a:off x="324000" y="260280"/>
            <a:ext cx="6048360" cy="4143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847960" y="4437000"/>
            <a:ext cx="41842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олго с бурными волн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олся опытный гребе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крыться вглубь меж их ря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часно с дерзкими пловц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ов был челн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8ff891a26a"/>
          <p:cNvPicPr/>
          <p:nvPr/>
        </p:nvPicPr>
        <p:blipFill>
          <a:blip r:embed="rId1"/>
          <a:stretch/>
        </p:blipFill>
        <p:spPr>
          <a:xfrm>
            <a:off x="1523880" y="1438200"/>
            <a:ext cx="60962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Benua034"/>
          <p:cNvPicPr/>
          <p:nvPr/>
        </p:nvPicPr>
        <p:blipFill>
          <a:blip r:embed="rId1"/>
          <a:stretch/>
        </p:blipFill>
        <p:spPr>
          <a:xfrm>
            <a:off x="2484360" y="692280"/>
            <a:ext cx="6477120" cy="4468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398160" y="260280"/>
            <a:ext cx="244224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ж это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останови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шел наз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ороти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яди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гляд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мес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их дом стои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зде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ы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есло их, ви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же до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пол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рачной з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ход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ит он кругом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enua025"/>
          <p:cNvPicPr/>
          <p:nvPr/>
        </p:nvPicPr>
        <p:blipFill>
          <a:blip r:embed="rId1"/>
          <a:stretch/>
        </p:blipFill>
        <p:spPr>
          <a:xfrm>
            <a:off x="1042920" y="189000"/>
            <a:ext cx="6048360" cy="4597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58920" y="4687920"/>
            <a:ext cx="7416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бедный, бедный мой Евгений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ы, его смятенный у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 ужасных потряс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устоял. Мятежный шу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ы и ветров раздава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го ушах. Ужасных ду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молвно полон, он скит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90440" y="-34560"/>
            <a:ext cx="54007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Он скоро 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чужд. Весь день бродил пеш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пал на пристани; пита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ошке поданным кус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ежда ветхая на 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валась и тлела. Злые д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али камни вслед 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Benua020"/>
          <p:cNvPicPr/>
          <p:nvPr/>
        </p:nvPicPr>
        <p:blipFill>
          <a:blip r:embed="rId1"/>
          <a:stretch/>
        </p:blipFill>
        <p:spPr>
          <a:xfrm>
            <a:off x="3419640" y="2622600"/>
            <a:ext cx="53226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Benua029"/>
          <p:cNvPicPr/>
          <p:nvPr/>
        </p:nvPicPr>
        <p:blipFill>
          <a:blip r:embed="rId1"/>
          <a:stretch/>
        </p:blipFill>
        <p:spPr>
          <a:xfrm>
            <a:off x="0" y="404640"/>
            <a:ext cx="5076720" cy="4214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5148720" y="260280"/>
            <a:ext cx="378180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чутился под стол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го дома. На крыль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дъятой лапой, как жив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яли львы сторожев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ямо в темной выш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огражденною скал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мир с простертою рук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л на бронзовом к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гений вздрогнул. Проясни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м страшно мысли. Он уз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сто, где потоп игр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волны хищные толпил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нтуя злобно вкруг н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ьвов, и площадь, и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неподвижно возвыша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раке медною гла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о, чьей волей рок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орем город основалс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Медный всадник"/>
          <p:cNvPicPr/>
          <p:nvPr/>
        </p:nvPicPr>
        <p:blipFill>
          <a:blip r:embed="rId1"/>
          <a:stretch/>
        </p:blipFill>
        <p:spPr>
          <a:xfrm>
            <a:off x="0" y="0"/>
            <a:ext cx="6588000" cy="4492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Text Box 6"/>
          <p:cNvSpPr/>
          <p:nvPr/>
        </p:nvSpPr>
        <p:spPr>
          <a:xfrm>
            <a:off x="6156360" y="1052640"/>
            <a:ext cx="2987640" cy="5306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асен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й мгл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ая дума на чел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ая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м сокры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 сем к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ой огон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ты скач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рдый ко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где опусти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копы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мощ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ластелин судьбы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так ли 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д самой без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высо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дой желез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сс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нял на дыбы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95280" y="-136800"/>
            <a:ext cx="35989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гом подножия ку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умец бедный обош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зоры дикие нав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лик державца полу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снилась грудь ег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enua0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916280"/>
            <a:ext cx="8394840" cy="4491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287960" y="189000"/>
            <a:ext cx="4077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н мрачен ст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ед горделивым истука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, зубы стиснув, пальцы сж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ак обуянный силой чер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"Добро, строитель чудотворны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-- Шепнул он, злобно задрожа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-- Ужо тебе!..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236639523"/>
          <p:cNvPicPr/>
          <p:nvPr/>
        </p:nvPicPr>
        <p:blipFill>
          <a:blip r:embed="rId1"/>
          <a:stretch/>
        </p:blipFill>
        <p:spPr>
          <a:xfrm>
            <a:off x="250920" y="1989000"/>
            <a:ext cx="8250120" cy="4240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7" name="Text Box 6"/>
          <p:cNvSpPr/>
          <p:nvPr/>
        </p:nvSpPr>
        <p:spPr>
          <a:xfrm>
            <a:off x="2774160" y="189000"/>
            <a:ext cx="3681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друг стремгл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жать пустился. Показало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у, что грозного ца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гновенно гневом возгор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 тихонько обращало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Benua0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846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3277080" y="5157720"/>
            <a:ext cx="38552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берегу пустынных вол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ял он, дум великих полн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даль глядел. Пред ним широк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неслася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54520" y="189000"/>
            <a:ext cx="335988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н по площади пусто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жит и слышит за собой 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м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ье 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жело-зво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ань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тово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озарен луною бледной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 в вышине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н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ник Мед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вонко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чущем коне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Benua030"/>
          <p:cNvPicPr/>
          <p:nvPr/>
        </p:nvPicPr>
        <p:blipFill>
          <a:blip r:embed="rId1"/>
          <a:stretch/>
        </p:blipFill>
        <p:spPr>
          <a:xfrm>
            <a:off x="3635280" y="260280"/>
            <a:ext cx="56833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323280" y="1628640"/>
            <a:ext cx="3836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 всю ночь безумец бед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да стопы ни обращ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ним повсюду Всадник Мед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яжелым топотом скак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1540-6.jpg"/>
          <p:cNvPicPr/>
          <p:nvPr/>
        </p:nvPicPr>
        <p:blipFill>
          <a:blip r:embed="rId1"/>
          <a:stretch/>
        </p:blipFill>
        <p:spPr>
          <a:xfrm>
            <a:off x="4067280" y="333360"/>
            <a:ext cx="46400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enua021"/>
          <p:cNvPicPr/>
          <p:nvPr/>
        </p:nvPicPr>
        <p:blipFill>
          <a:blip r:embed="rId1"/>
          <a:stretch/>
        </p:blipFill>
        <p:spPr>
          <a:xfrm>
            <a:off x="0" y="260280"/>
            <a:ext cx="6226200" cy="4622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3" name="Text Box 7"/>
          <p:cNvSpPr/>
          <p:nvPr/>
        </p:nvSpPr>
        <p:spPr>
          <a:xfrm>
            <a:off x="6446160" y="260280"/>
            <a:ext cx="2474280" cy="4208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 той по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гда случалось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й площадью ему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его ли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ображалос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ят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сердцу своем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прижим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пешно рук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487240" y="4869000"/>
            <a:ext cx="33566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бы его смиряя муку 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уз изношенный сыма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ущенных гл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дыма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шел сторон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-162000" y="705960"/>
            <a:ext cx="4709880" cy="52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тров ма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взморье вид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н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чалит с неводом т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ыбак на ловле запозда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бедный ужин свой вар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ли чиновник посет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уляя в лодке в воскрес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устынный ос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взрос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м ни был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воднен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уда, играя, занес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омишко ветх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733640" y="403200"/>
            <a:ext cx="4896000" cy="375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д вод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тался он как черный ку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го прошедшею весн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везли на бар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 он пуст И весь разруш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 пор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шли безумца мо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тут же хладный труп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хоронили ради б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1222"/>
          <p:cNvPicPr/>
          <p:nvPr/>
        </p:nvPicPr>
        <p:blipFill>
          <a:blip r:embed="rId1"/>
          <a:stretch/>
        </p:blipFill>
        <p:spPr>
          <a:xfrm>
            <a:off x="468360" y="549360"/>
            <a:ext cx="84214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[Benua024.jpg]"/>
          <p:cNvPicPr/>
          <p:nvPr/>
        </p:nvPicPr>
        <p:blipFill>
          <a:blip r:embed="rId1"/>
          <a:stretch/>
        </p:blipFill>
        <p:spPr>
          <a:xfrm>
            <a:off x="0" y="981000"/>
            <a:ext cx="5508720" cy="43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Text Box 6"/>
          <p:cNvSpPr/>
          <p:nvPr/>
        </p:nvSpPr>
        <p:spPr>
          <a:xfrm>
            <a:off x="5508720" y="0"/>
            <a:ext cx="363528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ло сто лет, и юный град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щных стран краса и ди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тьмы лесов, из топи бла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есся пышно, гордели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прежде финский рыболов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льный пасынок приро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у низких бере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ал в неведомые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 ветхий невод, ныне 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живленным берег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мады стройные теснятся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цов и башен; кораб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пой со всех концов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огатым пристаням стремят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нит оделася Не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ты повисли над водами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нозелеными са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окрылись остров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enua035"/>
          <p:cNvPicPr/>
          <p:nvPr/>
        </p:nvPicPr>
        <p:blipFill>
          <a:blip r:embed="rId1"/>
          <a:stretch/>
        </p:blipFill>
        <p:spPr>
          <a:xfrm>
            <a:off x="2987640" y="549360"/>
            <a:ext cx="6156360" cy="4103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52360" y="189000"/>
            <a:ext cx="300168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лю теб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ра творе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лю твой строг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йный ви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ы держа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че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говой ее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их 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ор чугу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их задумчи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зрачный сумр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еск безлу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я в комнате мо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шу, чита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лампа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ясны спящие гром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ынных ули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ве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миралтейская иг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492360" y="5032440"/>
            <a:ext cx="4894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не пуская тьму ночну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олотые неб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 заря сменить друг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шит, дав ночи пол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Benua022"/>
          <p:cNvPicPr/>
          <p:nvPr/>
        </p:nvPicPr>
        <p:blipFill>
          <a:blip r:embed="rId1"/>
          <a:stretch/>
        </p:blipFill>
        <p:spPr>
          <a:xfrm>
            <a:off x="324000" y="476280"/>
            <a:ext cx="4514760" cy="5073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5368680" y="1484280"/>
            <a:ext cx="36342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асный де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а всю н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валася к морю против бур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одолев их буйной дури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порить стало ей невмочь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утру над ее брегам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нился кучами народ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уясь брызгами, горам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еной разъяренных во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Benua037"/>
          <p:cNvPicPr/>
          <p:nvPr/>
        </p:nvPicPr>
        <p:blipFill>
          <a:blip r:embed="rId1"/>
          <a:stretch/>
        </p:blipFill>
        <p:spPr>
          <a:xfrm>
            <a:off x="4067280" y="333360"/>
            <a:ext cx="5243400" cy="5975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800" y="1052640"/>
            <a:ext cx="40320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сплыл Петрополь как Трит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ояс в воду погруж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да! Приступ! Злые вол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воры, лезут в окна. Чел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азбега стекла бьют кор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тки под мокрой пеле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омки хижин, бревна, кров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вар запасливой торгов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итки бледной нищ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озой снесенные мо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оба с размытого кладбищ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вут по улица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benois_ill_the_bronze_horseman_d"/>
          <p:cNvPicPr/>
          <p:nvPr/>
        </p:nvPicPr>
        <p:blipFill>
          <a:blip r:embed="rId1"/>
          <a:stretch/>
        </p:blipFill>
        <p:spPr>
          <a:xfrm>
            <a:off x="539640" y="398520"/>
            <a:ext cx="835344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enua036"/>
          <p:cNvPicPr/>
          <p:nvPr/>
        </p:nvPicPr>
        <p:blipFill>
          <a:blip r:embed="rId1"/>
          <a:stretch/>
        </p:blipFill>
        <p:spPr>
          <a:xfrm>
            <a:off x="179280" y="2060640"/>
            <a:ext cx="6191280" cy="3916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703600" y="404640"/>
            <a:ext cx="448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вере мраморном верх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шляпы, руки сжав кре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ел недвижный, страшно бл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гений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6:30:57Z</dcterms:created>
  <dc:creator>user</dc:creator>
  <dc:description/>
  <dc:language>en-US</dc:language>
  <cp:lastModifiedBy>ДООШ</cp:lastModifiedBy>
  <dcterms:modified xsi:type="dcterms:W3CDTF">2013-10-07T05:49:22Z</dcterms:modified>
  <cp:revision>5</cp:revision>
  <dc:subject/>
  <dc:title>Слайд 1</dc:title>
</cp:coreProperties>
</file>