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FE6-0D70-4E33-A77B-D8B50B31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C39-47CC-4061-8557-FBC5881C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124-49C7-4B46-A67B-84B59D01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1B4-00F5-4348-8B59-1017243E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8D4-D684-4616-BED3-A3BB473C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A79-3C94-423E-A8E4-FE35C196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FB5-3070-4B2A-ACC4-CCA64831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16D-6A29-414E-860F-61EC15F9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249-7DD8-4CF0-8C0B-17B99410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B19-CBC5-414A-A618-70B96D3D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987-20BA-40A4-8A27-DD816B4B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21B-2617-40EA-835E-DC8DCE40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785C-8962-4ED2-8A42-192AC4059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лодое поколение в драме  Островского «Гроз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лавные герои: Катерина, Варвара, Тихон, Борис и Кудряш- молодое поколение в драме «Гроза». У автора к ним отношение разное. Одних он любит, других не очень. Я тоже отношусь к каждому герою по-свое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ер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44564354_28556746_Uoterhaus_Borey_1904_ss.jpg"/>
          <p:cNvPicPr/>
          <p:nvPr/>
        </p:nvPicPr>
        <p:blipFill>
          <a:blip r:embed="rId1"/>
          <a:stretch/>
        </p:blipFill>
        <p:spPr>
          <a:xfrm>
            <a:off x="6791400" y="3730680"/>
            <a:ext cx="2230200" cy="306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вёрдо могу сказать, что Катерина- чистый, сильный и решительный человек. В религии Катерина находила высшую правду и красоту. Её стремление к прекрасному, доброму выражалось в молитвах, воссылаемых к Богу.  Лгать и обманывать- не только кого-то, но и саму себя Катерина не умела: «Обманывать-то я не умею, скрыть-то ничего не могу». Выйдя замуж за Тихона, Катерина попадает в семью купчихи Кабановой. Кабаниха сразу невзлюбила невестку, унижала, обижала бедную девушку. Но Катерина не побоялась ни властной и жестокой Кабановой, ни смерти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ва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вара- полная противоположность Катерины. Она выделяется из всех героев потому, что часто противоречит матери, тайком ходит на свидания, нарушая все моральные принципы. Варвара хочет поскорее убежать от матер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007.jpg"/>
          <p:cNvPicPr/>
          <p:nvPr/>
        </p:nvPicPr>
        <p:blipFill>
          <a:blip r:embed="rId2"/>
          <a:stretch/>
        </p:blipFill>
        <p:spPr>
          <a:xfrm>
            <a:off x="6802560" y="3681360"/>
            <a:ext cx="2116080" cy="3176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сли говорить о мужчинах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и Тихон, ни Борис не располагают к себе. Однако, Тихон искренне любит Катерину. Вся беда в том, что он продукт своей матери. Он зависит от неё. Трагизм положения Катерины ещё в том, что выйдя замуж за Тихона, которого не любила, она не находит в нём  поддержки и защиты, хотя всеми силами старается быть Тихону верной жено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 Борису нет уважения. Он знает, что Катерина влюбилась в него по-настоящему. Она идет ради него на грех, изменив своему мужу. Девушка просит его взять с собой в Сибирь, а он.. Он просто трус.. Не смог ослушаться своего дядю, который мог лишить его наследства. В такую трудную минуту оставляет Катерину одну, получается, что он тоже её предал.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сожалению, Катерина не нашла опоры ни в муже, ни в подруге, ни в любовнике. Она осталась одна. Конечно, старшее поколение не могло её понять- это ясно, но если бы молодые проявили к ней чуточку внимания и заботы, всё могло закончится по-другому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7:26Z</dcterms:created>
  <dc:creator>Лиза</dc:creator>
  <dc:description/>
  <dc:language>en-US</dc:language>
  <cp:lastModifiedBy>Zet</cp:lastModifiedBy>
  <dcterms:modified xsi:type="dcterms:W3CDTF">2013-10-07T14:17:40Z</dcterms:modified>
  <cp:revision>24</cp:revision>
  <dc:subject/>
  <dc:title>Слайд 1</dc:title>
</cp:coreProperties>
</file>