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69EA-2CEA-4CBE-BAE8-2C6FC1085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1137-4C68-4340-B6FD-5164CD0B8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BAE7-E44B-434E-9DAE-C7AC3739A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28C8-FECC-48B5-B446-002E4C59B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AA41A-BA89-4F9E-A34E-85ABC4CAE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CDA2C-1F7D-42A7-8A16-E44B278F5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06E6A-D891-491A-9A20-C46738E7C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696BB-98F4-495E-81C1-6305F51F6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79510-9DE8-490C-8B73-8EA829F13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F165F-AE63-4D9C-BAD3-2AA4D452A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94131-CB7F-4A0E-B381-A544788C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E2C4-5DD3-453A-916E-92167B660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51827-3301-4DEF-9634-150C220D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DD311-BA41-49F4-919A-1C145136A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5B927-C6B0-4DF5-8A22-74119B2FD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A0F0D-81A3-4BA1-A913-D83316B6C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A5148-4835-4C04-B7E2-99946A9FA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0C34-F8E6-41AF-A5C6-E301EB250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E77A-1E4B-4A2B-9ABA-D7308D7E6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CEE1-D676-4B43-AE90-77C3E1841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2457-FA69-45C6-9CF5-6ACD0D2BC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97A5-8F8D-49D0-B6EF-467BB5C3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7DD8-3D5F-44BD-AEF7-230B3435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E6A1-6B9C-4AEF-AF8F-71604760A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bb96"/>
            </a:gs>
            <a:gs pos="100000">
              <a:srgbClr val="3457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>
                  <a:gd name="textAreaLeft" fmla="*/ 0 w 654120"/>
                  <a:gd name="textAreaRight" fmla="*/ 654120 w 65412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>
                  <a:gd name="textAreaLeft" fmla="*/ 0 w 1306440"/>
                  <a:gd name="textAreaRight" fmla="*/ 1306440 w 13064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>
                  <a:gd name="textAreaLeft" fmla="*/ 0 w 653760"/>
                  <a:gd name="textAreaRight" fmla="*/ 653760 w 65376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51D04-316C-4D35-B57F-DA55C585C9D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bb96"/>
            </a:gs>
            <a:gs pos="100000">
              <a:srgbClr val="3457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>
                <a:gd name="textAreaLeft" fmla="*/ 0 w 1617480"/>
                <a:gd name="textAreaRight" fmla="*/ 1617840 w 161748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>
                <a:gd name="textAreaLeft" fmla="*/ 0 w 1617840"/>
                <a:gd name="textAreaRight" fmla="*/ 1618200 w 161784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5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>
                  <a:gd name="textAreaLeft" fmla="*/ 0 w 2089080"/>
                  <a:gd name="textAreaRight" fmla="*/ 2089440 w 20890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>
                  <a:gd name="textAreaLeft" fmla="*/ 0 w 4178160"/>
                  <a:gd name="textAreaRight" fmla="*/ 4178160 w 417816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>
                  <a:gd name="textAreaLeft" fmla="*/ 0 w 2090880"/>
                  <a:gd name="textAreaRight" fmla="*/ 2091240 w 20908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0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A769B-3269-4E8A-AD0F-B497AA437403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55;&#1077;&#1085;&#1090;&#1077;&#1083;&#1080;&#1081;&#1089;&#1082;&#1080;&#1081;_&#1084;&#1088;&#1072;&#1084;&#1086;&#1088;&amp;action=edit&amp;redlink=1" TargetMode="External"/><Relationship Id="rId2" Type="http://schemas.openxmlformats.org/officeDocument/2006/relationships/hyperlink" Target="http://ru.wikipedia.org/wiki/&#1043;&#1086;&#1088;&#1075;&#1086;&#1085;&#1072;_&#1052;&#1077;&#1076;&#1091;&#1079;&#1072;" TargetMode="External"/><Relationship Id="rId3" Type="http://schemas.openxmlformats.org/officeDocument/2006/relationships/hyperlink" Target="http://ru.wikipedia.org/wiki/&#1053;&#1080;&#1082;&#1072;_(&#1084;&#1080;&#1092;&#1086;&#1083;&#1086;&#1075;&#1080;&#1103;)" TargetMode="External"/><Relationship Id="rId4" Type="http://schemas.openxmlformats.org/officeDocument/2006/relationships/hyperlink" Target="http://ru.wikipedia.org/wiki/&#1069;&#1088;&#1080;&#1093;&#1090;&#1086;&#1085;&#1080;&#1081;" TargetMode="External"/><Relationship Id="rId5" Type="http://schemas.openxmlformats.org/officeDocument/2006/relationships/hyperlink" Target="http://ru.wikipedia.org/wiki/&#1040;&#1084;&#1072;&#1079;&#1086;&#1085;&#1082;&#1080;" TargetMode="External"/><Relationship Id="rId6" Type="http://schemas.openxmlformats.org/officeDocument/2006/relationships/hyperlink" Target="http://ru.wikipedia.org/wiki/&#1043;&#1080;&#1075;&#1072;&#1085;&#1090;&#1086;&#1084;&#1072;&#1093;&#1080;&#1103;" TargetMode="External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4;&#1088;&#1077;&#1074;&#1085;&#1080;&#1081;_&#1084;&#1080;&#1088;" TargetMode="External"/><Relationship Id="rId2" Type="http://schemas.openxmlformats.org/officeDocument/2006/relationships/hyperlink" Target="http://ru.wikipedia.org/wiki/&#1062;&#1080;&#1074;&#1080;&#1083;&#1080;&#1079;&#1072;&#1094;&#1080;&#1103;" TargetMode="External"/><Relationship Id="rId3" Type="http://schemas.openxmlformats.org/officeDocument/2006/relationships/hyperlink" Target="http://ru.wikipedia.org/wiki/&#1053;&#1080;&#1083;" TargetMode="External"/><Relationship Id="rId4" Type="http://schemas.openxmlformats.org/officeDocument/2006/relationships/hyperlink" Target="http://ru.wikipedia.org/wiki/&#1045;&#1075;&#1080;&#1087;&#1077;&#1090;" TargetMode="External"/><Relationship Id="rId5" Type="http://schemas.openxmlformats.org/officeDocument/2006/relationships/hyperlink" Target="http://ru.wikipedia.org/wiki/4_&#1090;&#1099;&#1089;&#1103;&#1095;&#1077;&#1083;&#1077;&#1090;&#1080;&#1077;_&#1076;&#1086;_&#1085;._&#1101;." TargetMode="External"/><Relationship Id="rId6" Type="http://schemas.openxmlformats.org/officeDocument/2006/relationships/hyperlink" Target="http://ru.wikipedia.org/wiki/&#1060;&#1072;&#1088;&#1072;&#1086;&#1085;" TargetMode="External"/><Relationship Id="rId7" Type="http://schemas.openxmlformats.org/officeDocument/2006/relationships/hyperlink" Target="http://ru.wikipedia.org/wiki/&#1053;&#1086;&#1074;&#1086;&#1077;_&#1094;&#1072;&#1088;&#1089;&#1090;&#1074;&#1086;" TargetMode="External"/><Relationship Id="rId8" Type="http://schemas.openxmlformats.org/officeDocument/2006/relationships/hyperlink" Target="http://ru.wikipedia.org/wiki/&#1056;&#1080;&#1084;&#1089;&#1082;&#1072;&#1103;_&#1080;&#1084;&#1087;&#1077;&#1088;&#1080;&#1103;" TargetMode="External"/><Relationship Id="rId9" Type="http://schemas.openxmlformats.org/officeDocument/2006/relationships/hyperlink" Target="http://ru.wikipedia.org/wiki/&#1056;&#1080;&#1084;&#1089;&#1082;&#1080;&#1081;_&#1045;&#1075;&#1080;&#1087;&#1077;&#1090;" TargetMode="External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ancoloto.com/vesuvio/vesuvio.html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09320" y="1219320"/>
            <a:ext cx="66294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3300"/>
                </a:solidFill>
                <a:latin typeface="Arial"/>
              </a:rPr>
              <a:t>История Древнего мира.</a:t>
            </a:r>
            <a:br>
              <a:rPr sz="4400"/>
            </a:br>
            <a:r>
              <a:rPr b="0" lang="ru-RU" sz="4400" spc="-1" strike="noStrike">
                <a:solidFill>
                  <a:srgbClr val="993300"/>
                </a:solidFill>
                <a:latin typeface="Arial"/>
              </a:rPr>
              <a:t>Средние века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5867280" y="5715000"/>
            <a:ext cx="32767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Georgia"/>
              </a:rPr>
              <a:t>Учитель начальных классов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Georgia"/>
              </a:rPr>
              <a:t>Гаврилова Елена Юрьевна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помпеи1"/>
          <p:cNvPicPr/>
          <p:nvPr/>
        </p:nvPicPr>
        <p:blipFill>
          <a:blip r:embed="rId1"/>
          <a:stretch/>
        </p:blipFill>
        <p:spPr>
          <a:xfrm>
            <a:off x="-380880" y="0"/>
            <a:ext cx="998208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помпеи8"/>
          <p:cNvPicPr/>
          <p:nvPr/>
        </p:nvPicPr>
        <p:blipFill>
          <a:blip r:embed="rId2"/>
          <a:stretch/>
        </p:blipFill>
        <p:spPr>
          <a:xfrm>
            <a:off x="-457200" y="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помпеи"/>
          <p:cNvPicPr/>
          <p:nvPr/>
        </p:nvPicPr>
        <p:blipFill>
          <a:blip r:embed="rId3"/>
          <a:stretch/>
        </p:blipFill>
        <p:spPr>
          <a:xfrm>
            <a:off x="-457200" y="-28440"/>
            <a:ext cx="9906120" cy="68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Arial Black"/>
              </a:rPr>
              <a:t>Древняя Греция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51920" y="2057400"/>
            <a:ext cx="8991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Храм построен целиком из </a:t>
            </a:r>
            <a:r>
              <a:rPr b="0" lang="ru-RU" sz="1800" spc="-1" strike="noStrike" u="sng">
                <a:solidFill>
                  <a:srgbClr val="cc3300"/>
                </a:solidFill>
                <a:uFillTx/>
                <a:latin typeface="Times New Roman"/>
                <a:hlinkClick r:id="rId1"/>
              </a:rPr>
              <a:t>пентелийского мрамора</a:t>
            </a: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, добывавшегося неподалёку. Во время добычи он имеет белый цвет, но под воздействием лучей солнца желтеет. Северная сторона здания подвергается меньшему облучению — и потому там камень получил серовато-пепельный оттенок, тогда как южные блоки отдают в золотисто-желтоватый окрас. Черепица и стилобат также выполнены из этого мрамора. Колонны сложены из барабанов, скреплённых между собой деревянными пробками и шкворнями. «Сама Афина сделана из слоновой кости и золота… Статуя изображает ее во весь рост в хитоне до самых ступней ног, у нее на груди голова </a:t>
            </a:r>
            <a:r>
              <a:rPr b="0" lang="ru-RU" sz="1800" spc="-1" strike="noStrike" u="sng">
                <a:solidFill>
                  <a:srgbClr val="cc3300"/>
                </a:solidFill>
                <a:uFillTx/>
                <a:latin typeface="Times New Roman"/>
                <a:hlinkClick r:id="rId2"/>
              </a:rPr>
              <a:t>Медузы</a:t>
            </a: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 из слоновой кости, в руке она держит изображение </a:t>
            </a:r>
            <a:r>
              <a:rPr b="0" lang="ru-RU" sz="1800" spc="-1" strike="noStrike" u="sng">
                <a:solidFill>
                  <a:srgbClr val="cc3300"/>
                </a:solidFill>
                <a:uFillTx/>
                <a:latin typeface="Times New Roman"/>
                <a:hlinkClick r:id="rId3"/>
              </a:rPr>
              <a:t>Ники</a:t>
            </a: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, приблизительно в четыре локтя, а в другой руке — копье. В ногах у нее лежит щит, а около копья змея; эта змея, вероятно — </a:t>
            </a:r>
            <a:r>
              <a:rPr b="0" lang="ru-RU" sz="1800" spc="-1" strike="noStrike" u="sng">
                <a:solidFill>
                  <a:srgbClr val="cc3300"/>
                </a:solidFill>
                <a:uFillTx/>
                <a:latin typeface="Times New Roman"/>
                <a:hlinkClick r:id="rId4"/>
              </a:rPr>
              <a:t>Эрихтоний</a:t>
            </a: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». Шлем богини имел три гребня,  на внешней стороне щита была вычеканена битва с </a:t>
            </a:r>
            <a:r>
              <a:rPr b="0" lang="ru-RU" sz="1800" spc="-1" strike="noStrike" u="sng">
                <a:solidFill>
                  <a:srgbClr val="cc3300"/>
                </a:solidFill>
                <a:uFillTx/>
                <a:latin typeface="Times New Roman"/>
                <a:hlinkClick r:id="rId5"/>
              </a:rPr>
              <a:t>амазонками</a:t>
            </a: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, на внутренней — </a:t>
            </a:r>
            <a:r>
              <a:rPr b="0" lang="ru-RU" sz="1800" spc="-1" strike="noStrike" u="sng">
                <a:solidFill>
                  <a:srgbClr val="cc3300"/>
                </a:solidFill>
                <a:uFillTx/>
                <a:latin typeface="Times New Roman"/>
                <a:hlinkClick r:id="rId6"/>
              </a:rPr>
              <a:t>борьба богов с гигантами</a:t>
            </a: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, а на сандалиях Афины имелось изображение кентавромахии.  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На мраморных копиях руку богини с Никой поддерживает столб, существовал ли он в оригинале — предмет многочисленных дискуссий. Ника кажется крошечной, в действительности ее высота составляла 2 метра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Парфенон расположен в самой высокой точке афинского Акрополя. Храм строился почти десять лет — с 447 по 438 до н. э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476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3300"/>
                </a:solidFill>
                <a:latin typeface="Times New Roman"/>
              </a:rPr>
              <a:t>Древний мир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6168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267080" y="762120"/>
            <a:ext cx="464832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Times New Roman"/>
              </a:rPr>
              <a:t>История Древнего мира — самый увлекательный раздел истории человечества. Эта эпоха, скрытая во тьме тысячелетий, полна тайн и загадок, удивительных, а подчас и невероятных фактов, по сей день не имеющих однозначного толкования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Times New Roman"/>
              </a:rPr>
              <a:t>Археологи, лингвисты, религиоведы, географы, геологи, астрономы, путешественники представляют различные версии явлений и процессов, имевших место в цивилизациях Древнего Востока и Античности, в Африке, на американском континенте, а также на территории теперешней России и стран СНГ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7" name="Picture 4" descr="первобытн 1"/>
          <p:cNvPicPr/>
          <p:nvPr/>
        </p:nvPicPr>
        <p:blipFill>
          <a:blip r:embed="rId1"/>
          <a:stretch/>
        </p:blipFill>
        <p:spPr>
          <a:xfrm>
            <a:off x="0" y="1600200"/>
            <a:ext cx="457200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9" name="Picture 7" descr="человек умелый"/>
          <p:cNvPicPr/>
          <p:nvPr/>
        </p:nvPicPr>
        <p:blipFill>
          <a:blip r:embed="rId1"/>
          <a:stretch/>
        </p:blipFill>
        <p:spPr>
          <a:xfrm>
            <a:off x="152280" y="1752480"/>
            <a:ext cx="4319640" cy="4648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первобытн чел"/>
          <p:cNvPicPr/>
          <p:nvPr/>
        </p:nvPicPr>
        <p:blipFill>
          <a:blip r:embed="rId2"/>
          <a:stretch/>
        </p:blipFill>
        <p:spPr>
          <a:xfrm>
            <a:off x="4624560" y="1752480"/>
            <a:ext cx="43671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Величайшие открытия первобытности совершены людьми, чьих имен мы никогда не узнаем. В те времена не было летописей и хроник, но свершения древнейших людей, нигде не зафиксированные и не описанные, не стали от этого менее значимыми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В первобытную эпоху появляются лук и стрелы, приручаются дикие животные, осваиваются ремесла. Но человек немыслим без творчества. Люди, живущие в мире, полном реальных и мнимых опасностей, хищных зверей и болезней, были заняты не только поисками пищи или борьбой с врагами. В те суровые времена они уже чувствовали красоту и стремились воспроизвести ее всеми доступными способами. Так появились первые произведения искусства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2" name="Picture 14" descr="наскальная живопись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Arial Black"/>
              </a:rPr>
              <a:t>Древний Египет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Древний Египет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древнейшее самоназвание: </a:t>
            </a: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Кемет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, — одна из </a:t>
            </a:r>
            <a:r>
              <a:rPr b="0" lang="ru-RU" sz="2400" spc="-1" strike="noStrike" u="sng">
                <a:solidFill>
                  <a:srgbClr val="cc3300"/>
                </a:solidFill>
                <a:uFillTx/>
                <a:latin typeface="Arial"/>
                <a:hlinkClick r:id="rId1"/>
              </a:rPr>
              <a:t>древнейших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cc3300"/>
                </a:solidFill>
                <a:uFillTx/>
                <a:latin typeface="Arial"/>
                <a:hlinkClick r:id="rId2"/>
              </a:rPr>
              <a:t>цивилизаций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, возникшая на северо-востоке африканского континента. Вдоль нижнего течения </a:t>
            </a:r>
            <a:r>
              <a:rPr b="0" lang="ru-RU" sz="2400" spc="-1" strike="noStrike" u="sng">
                <a:solidFill>
                  <a:srgbClr val="cc3300"/>
                </a:solidFill>
                <a:uFillTx/>
                <a:latin typeface="Arial"/>
                <a:hlinkClick r:id="rId3"/>
              </a:rPr>
              <a:t>Нила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, сегодня располагается современное государство </a:t>
            </a:r>
            <a:r>
              <a:rPr b="0" lang="ru-RU" sz="2400" spc="-1" strike="noStrike" u="sng">
                <a:solidFill>
                  <a:srgbClr val="cc3300"/>
                </a:solidFill>
                <a:uFillTx/>
                <a:latin typeface="Arial"/>
                <a:hlinkClick r:id="rId4"/>
              </a:rPr>
              <a:t>Египет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оздание цивилизации относится к концу </a:t>
            </a:r>
            <a:r>
              <a:rPr b="0" lang="ru-RU" sz="2400" spc="-1" strike="noStrike" u="sng">
                <a:solidFill>
                  <a:srgbClr val="cc3300"/>
                </a:solidFill>
                <a:uFillTx/>
                <a:latin typeface="Arial"/>
                <a:hlinkClick r:id="rId5"/>
              </a:rPr>
              <a:t>4-го тысячелетия до н. э.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 —   под властью первых </a:t>
            </a:r>
            <a:r>
              <a:rPr b="0" lang="ru-RU" sz="2400" spc="-1" strike="noStrike" u="sng">
                <a:solidFill>
                  <a:srgbClr val="cc3300"/>
                </a:solidFill>
                <a:uFillTx/>
                <a:latin typeface="Arial"/>
                <a:hlinkClick r:id="rId6"/>
              </a:rPr>
              <a:t>фараонов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. Её развитие продолжалось в течение следующих трёх тысячелетий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воего высшего расцвета Древний Египет достиг во времена </a:t>
            </a:r>
            <a:r>
              <a:rPr b="0" lang="ru-RU" sz="2400" spc="-1" strike="noStrike" u="sng">
                <a:solidFill>
                  <a:srgbClr val="cc3300"/>
                </a:solidFill>
                <a:uFillTx/>
                <a:latin typeface="Arial"/>
                <a:hlinkClick r:id="rId7"/>
              </a:rPr>
              <a:t>Нового царства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, после которого начался постепенный закат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 итоге правление фараонов официально закончилось в 30 г. до н. э., когда ранняя </a:t>
            </a:r>
            <a:r>
              <a:rPr b="0" lang="ru-RU" sz="2400" spc="-1" strike="noStrike" u="sng">
                <a:solidFill>
                  <a:srgbClr val="cc3300"/>
                </a:solidFill>
                <a:uFillTx/>
                <a:latin typeface="Arial"/>
                <a:hlinkClick r:id="rId8"/>
              </a:rPr>
              <a:t>Римская империя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захватила  Египет, сделав его своей </a:t>
            </a:r>
            <a:r>
              <a:rPr b="0" lang="ru-RU" sz="2400" spc="-1" strike="noStrike" u="sng">
                <a:solidFill>
                  <a:srgbClr val="cc3300"/>
                </a:solidFill>
                <a:uFillTx/>
                <a:latin typeface="Arial"/>
                <a:hlinkClick r:id="rId9"/>
              </a:rPr>
              <a:t>провинцией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7" name="Picture 4" descr="карна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карнак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Arial Black"/>
              </a:rPr>
              <a:t>Древний Рим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-228600" y="1905120"/>
            <a:ext cx="9524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Times New Roman"/>
              </a:rPr>
              <a:t>ФОРУМ РИМСКИЙ  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 центр общественной жизни Древнего Рима. 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Первоначально это был центр ремесел и торговли, но затем, включив в себя прилегающий к нему комиций (место народных собраний) и курию (здание сената), форум объединил в себе также административные и политические функции. Здесь происходили события, затрагивавшие повседневную жизнь рядового римлянина и здесь же разыгрывались многие драматические эпизоды римской истории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eaeaea"/>
                </a:solidFill>
                <a:latin typeface="Times New Roman"/>
              </a:rPr>
              <a:t>Колизей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 — самый большой из древнеримских амфитеатров, — один из знаменитых древних памятников древнего Рима и одно из самых примечательных сооружений в мире. Находится в Риме, на том месте, где был пруд, относившийся к Золотому Дому Нерона. Колизей первоначально назывался Амфитеатром Флавиев, потому что он был коллективным сооружением императоров династии Флавиев. Строительство велось на протяжении 8 лет, в 72-80 гг. н. э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Долгое время Колизей был для жителей Рима и приезжих главным местом увеселительных зрелищ, таких, как бои гладиаторов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колизей4"/>
          <p:cNvPicPr/>
          <p:nvPr/>
        </p:nvPicPr>
        <p:blipFill>
          <a:blip r:embed="rId1"/>
          <a:stretch/>
        </p:blipFill>
        <p:spPr>
          <a:xfrm>
            <a:off x="-533520" y="1143000"/>
            <a:ext cx="9906120" cy="5486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колизей"/>
          <p:cNvPicPr/>
          <p:nvPr/>
        </p:nvPicPr>
        <p:blipFill>
          <a:blip r:embed="rId2"/>
          <a:stretch/>
        </p:blipFill>
        <p:spPr>
          <a:xfrm>
            <a:off x="-152280" y="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колизей2"/>
          <p:cNvPicPr/>
          <p:nvPr/>
        </p:nvPicPr>
        <p:blipFill>
          <a:blip r:embed="rId3"/>
          <a:stretch/>
        </p:blipFill>
        <p:spPr>
          <a:xfrm>
            <a:off x="-457200" y="0"/>
            <a:ext cx="102106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Arial Black"/>
              </a:rPr>
              <a:t>Помпеи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-360" y="19051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Помпеи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– огромный город-музей под открытым небом, который в 1997 г. был включен ЮНЕСКО в перечень культурного наследия мира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Богатая природа, плодороднейшие почвы, удобренные продуктами постоянных извержений вулкана, позволяющие снимать по три урожая в год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В отличие от большинства городов юга Италии </a:t>
            </a: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Помпеи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основали не греки, первыми обитателями этих мест были Оски - горные племена. Предполагают, что в VII в. до н.э. они построили город на застывшей лаве, не догадываясь ни о происхождении этого "фундамента", ни о причине плодородия почвы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В то время </a:t>
            </a:r>
            <a:r>
              <a:rPr b="0" lang="ru-RU" sz="2400" spc="-1" strike="noStrike" u="sng">
                <a:solidFill>
                  <a:srgbClr val="cc3300"/>
                </a:solidFill>
                <a:uFillTx/>
                <a:latin typeface="Times New Roman"/>
                <a:hlinkClick r:id="rId1"/>
              </a:rPr>
              <a:t>Везувий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спал и казался безобидной горой. </a:t>
            </a:r>
            <a:br>
              <a:rPr sz="2400"/>
            </a:b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В IV в до н.э. </a:t>
            </a: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Помпеи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вошли в состав Римского государства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лена</cp:lastModifiedBy>
  <dcterms:modified xsi:type="dcterms:W3CDTF">2013-10-07T15:00:02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